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F263-44C2-41A0-A9BF-7E2DDB20CFA5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4045-EB68-4D95-8B08-9792AA32B48C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19CB-CDE0-48B5-8AF1-E5EF80C2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DE0-EE1C-4DC9-B363-7B4AD811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20E2-65DD-4704-8AB4-656005E0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B3FB-EBA4-4309-A97C-BB5B994B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48CF-4827-4C85-BD99-34E3EC29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C521-1445-4F17-AC7B-454D476D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2688-08FF-427C-A4CF-8F171EF4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4578-69C5-4129-B052-CB7D9DBB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40B2-662A-4508-914E-AC2EF5D6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A3A6-F9E5-4AF0-82A3-8ED1C56F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393D-C544-4E51-917B-9C0A7C20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2DEC-C050-437C-8A83-96906DE8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3C93-78A4-4B02-8E02-563F9DE6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9847-F4D9-414C-AFE1-397D1FBE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287E-84D9-4801-8BD6-4F3E3DDC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44F3-43B8-45D9-ABDE-AB688C30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B34D-4D43-4FB6-8EE8-6A05625A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8A97B-921E-44B6-B0AD-706396C3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24BA2-CF26-412F-98B7-BE8D8053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337C9-E16A-41E5-AB6D-555CEA0C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9AC8A-FFD2-44CC-B968-716CFCAB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DD6A2-EED3-47D6-901F-D30FD78B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512F-E9CD-466D-A750-1C069CC8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71E41-BBE7-4883-9D12-659AAB2C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2332E-582C-4792-91D7-F527600D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734FE-060A-4F9F-85D0-1E555E88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43BAA-2B9B-4F69-8687-AD718CE5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FB8A3-2217-452F-8259-9ED096E5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24A6A-181F-4940-A6FD-EA912531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F3D1C-077C-41D2-A32D-2453F507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4777C-CA36-4942-93AE-1ACBB271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D39C0-E12A-403D-9400-E24D2D83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2DFC8-945A-48C9-BB60-BDA2E441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C4D-D1A8-48F3-9E74-30880B03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757D2-DB3B-4004-ACA7-D6CBC315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62E3D-BA7F-4304-9431-B5609C4E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3377D-28B8-4BED-A215-4D67B1D6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FB338-E88A-4CF2-8D63-04A69B0F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EA13D-81D2-4A45-ABA8-47F5E38A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0BB4A-5C7B-4C93-82FB-2B3247DC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F1F27-0565-44CA-AF1D-E188763D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A05C0-2C19-4B81-8CB0-6F50FFAA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B1565-E955-4B88-9541-D7BAE5B6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09DC30-AD06-41E6-BE49-AB11E91A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EE44-897A-43FB-A134-2D573D3F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544B1D-F205-43D6-8278-B8EFF484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283CBB-623B-4572-B4CE-04D3FDCA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1483AB-C245-4F0A-941A-22A4DF0A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FC9C70-073D-4561-A6B4-F991EF13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A997E9-26A1-4BEB-A55E-416644B2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F2780B-6D16-4410-83D7-4444592C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4E95E2-ACF6-459A-B367-275F9432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70D7DD-DEF4-4E3D-AB37-B6453A5A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86014-C0C9-4198-86C9-F3F46741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D587A4-ED21-4A2A-AB7D-FEC13928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3B1B-2C69-4BDA-BBC8-5E903EBB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6A8706-5294-46CB-B9F5-B55A6B9E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0B5547-25AA-4776-8304-6BE1E1C8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F04BFA-636E-40D6-9A77-D52A4C1A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9D5EFB-4546-43BE-9798-28EAF7E7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DC8884-AA25-4A47-96F3-865EC7B6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B95281-8DFA-4216-AB9C-BFDDC648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C38F7E-22A2-40C0-A8CC-173C6878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BC995F-8B47-480D-BDE7-E0173310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73DE77-7782-4F70-B730-189476BD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3CA6D9-863C-44A3-B53E-0C850CAD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AE78-BC77-4F41-A48E-FC9ED990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5E83C6-94DE-4386-9C8C-78DD1DAF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751799-581D-4F48-B392-CC88F3AA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F758B0-1CAC-4F64-92FD-54E5ED06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926E31-94F1-480E-BB11-8E20E46D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B18AF9-E269-4413-BF69-E14413FC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64BC0D-2A3B-4DA0-A512-B98CD13D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77EE83-609B-4C6E-8ABD-0E504E40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DB5604-F84D-428C-B96D-E59F8A4F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FB67D1-B269-4BD1-9876-20C70C6B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36EBDC-3CF6-41EE-BFEF-00AD5169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093-8248-4C07-A5FD-6C8AA1ED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34A44E-5A17-4505-9A51-00264BF9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6D3D8A-C1F0-4FCD-8144-00D07BD7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E35197-D595-4CE3-B708-762F4A71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EA4D3E-92E5-4679-9217-69860B92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757ACB-4423-4CAF-BC0C-42EA958F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713F-74E0-482C-AD91-DE35C24E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575f6d"/>
                </a:solidFill>
                <a:latin typeface="Times New Roman"/>
                <a:cs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54D9-72B0-44B9-8E88-4332E9584727}" type="datetime">
              <a:rPr b="0" lang="fa-IR" sz="1200" spc="-1" strike="noStrike">
                <a:solidFill>
                  <a:srgbClr val="575f6d"/>
                </a:solidFill>
                <a:latin typeface="Times New Roman"/>
                <a:cs typeface="Times New Roman"/>
              </a:rPr>
              <a:t>۲۰۲۶/۰۷/۲۹</a:t>
            </a:fld>
            <a:r>
              <a:rPr b="0" lang="fa-IR" sz="1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fld id="{3F72CB33-5584-4E80-9457-EB84E1CFFA11}" type="datetime10">
              <a:rPr b="0" lang="fa-IR" sz="1200" spc="-1" strike="noStrike">
                <a:solidFill>
                  <a:srgbClr val="575f6d"/>
                </a:solidFill>
                <a:latin typeface="Times New Roman"/>
                <a:cs typeface="Times New Roman"/>
              </a:rPr>
              <a:t>۱۳:۵۶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1BB9-DBE7-488D-9DD7-09C250B276E7}" type="slidenum">
              <a:rPr b="1" lang="fa-I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575f6d"/>
                </a:solidFill>
                <a:latin typeface="Times New Roman"/>
                <a:cs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CB73-39DF-4DB4-B2DD-2842749928D9}" type="datetime">
              <a:rPr b="0" lang="fa-IR" sz="1200" spc="-1" strike="noStrike">
                <a:solidFill>
                  <a:srgbClr val="575f6d"/>
                </a:solidFill>
                <a:latin typeface="Times New Roman"/>
                <a:cs typeface="Times New Roman"/>
              </a:rPr>
              <a:t>۲۰۲۶/۰۷/۲۹</a:t>
            </a:fld>
            <a:r>
              <a:rPr b="0" lang="fa-IR" sz="1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fld id="{699E0AA8-F0C6-4F86-A1E3-B79205B378AD}" type="datetime10">
              <a:rPr b="0" lang="fa-IR" sz="1200" spc="-1" strike="noStrike">
                <a:solidFill>
                  <a:srgbClr val="575f6d"/>
                </a:solidFill>
                <a:latin typeface="Times New Roman"/>
                <a:cs typeface="Times New Roman"/>
              </a:rPr>
              <a:t>۱۳:۵۶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85E1-4040-4361-B6D5-5E5FB1A0F696}" type="slidenum">
              <a:rPr b="1" lang="fa-I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575f6d"/>
                </a:solidFill>
                <a:latin typeface="Times New Roman"/>
                <a:cs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93D4-D118-40AC-B6EE-F3C851988408}" type="datetime">
              <a:rPr b="0" lang="fa-IR" sz="1200" spc="-1" strike="noStrike">
                <a:solidFill>
                  <a:srgbClr val="575f6d"/>
                </a:solidFill>
                <a:latin typeface="Times New Roman"/>
                <a:cs typeface="Times New Roman"/>
              </a:rPr>
              <a:t>۲۰۲۶/۰۷/۲۹</a:t>
            </a:fld>
            <a:r>
              <a:rPr b="0" lang="fa-IR" sz="1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fld id="{832B10FB-CC78-42F3-B271-BEE873B02FB0}" type="datetime10">
              <a:rPr b="0" lang="fa-IR" sz="1200" spc="-1" strike="noStrike">
                <a:solidFill>
                  <a:srgbClr val="575f6d"/>
                </a:solidFill>
                <a:latin typeface="Times New Roman"/>
                <a:cs typeface="Times New Roman"/>
              </a:rPr>
              <a:t>۱۳:۵۶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3A16-6E9F-4772-9AC9-222206E0EC20}" type="slidenum">
              <a:rPr b="1" lang="fa-I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fff39d"/>
                </a:solidFill>
                <a:latin typeface="Times New Roman"/>
                <a:cs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E97A-4194-4178-B726-6AD5F3C33E29}" type="datetime">
              <a:rPr b="0" lang="fa-IR" sz="1200" spc="-1" strike="noStrike">
                <a:solidFill>
                  <a:srgbClr val="fff39d"/>
                </a:solidFill>
                <a:latin typeface="Times New Roman"/>
                <a:cs typeface="Times New Roman"/>
              </a:rPr>
              <a:t>۲۰۲۶/۰۷/۲۹</a:t>
            </a:fld>
            <a:r>
              <a:rPr b="0" lang="fa-IR" sz="1200" spc="-1" strike="noStrike">
                <a:solidFill>
                  <a:srgbClr val="fff39d"/>
                </a:solidFill>
                <a:latin typeface="Times New Roman"/>
                <a:ea typeface="Times New Roman"/>
              </a:rPr>
              <a:t> </a:t>
            </a:r>
            <a:fld id="{624F97FE-1DE7-4FF9-B45D-8F3881154924}" type="datetime10">
              <a:rPr b="0" lang="fa-IR" sz="1200" spc="-1" strike="noStrike">
                <a:solidFill>
                  <a:srgbClr val="fff39d"/>
                </a:solidFill>
                <a:latin typeface="Times New Roman"/>
                <a:cs typeface="Times New Roman"/>
              </a:rPr>
              <a:t>۱۳:۵۶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12D2-2B37-4417-8FC6-595D95CCEADE}" type="slidenum">
              <a:rPr b="1" lang="fa-I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575f6d"/>
                </a:solidFill>
                <a:latin typeface="Times New Roman"/>
                <a:cs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421A-6DB9-4934-A093-6BA64C6CDC13}" type="datetime">
              <a:rPr b="0" lang="fa-IR" sz="1200" spc="-1" strike="noStrike">
                <a:solidFill>
                  <a:srgbClr val="575f6d"/>
                </a:solidFill>
                <a:latin typeface="Times New Roman"/>
                <a:cs typeface="Times New Roman"/>
              </a:rPr>
              <a:t>۲۰۲۶/۰۷/۲۹</a:t>
            </a:fld>
            <a:r>
              <a:rPr b="0" lang="fa-IR" sz="1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fld id="{709F9351-9D39-46C8-B725-CE101A6B2D7D}" type="datetime10">
              <a:rPr b="0" lang="fa-IR" sz="1200" spc="-1" strike="noStrike">
                <a:solidFill>
                  <a:srgbClr val="575f6d"/>
                </a:solidFill>
                <a:latin typeface="Times New Roman"/>
                <a:cs typeface="Times New Roman"/>
              </a:rPr>
              <a:t>۱۳:۵۶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8263-15D8-4D3F-81A6-828F6B7DE490}" type="slidenum">
              <a:rPr b="1" lang="fa-I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575f6d"/>
                </a:solidFill>
                <a:latin typeface="Times New Roman"/>
                <a:cs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A89B-091E-46E1-B9AC-2E952226917F}" type="datetime">
              <a:rPr b="0" lang="fa-IR" sz="1200" spc="-1" strike="noStrike">
                <a:solidFill>
                  <a:srgbClr val="575f6d"/>
                </a:solidFill>
                <a:latin typeface="Times New Roman"/>
                <a:cs typeface="Times New Roman"/>
              </a:rPr>
              <a:t>۲۰۲۶/۰۷/۲۹</a:t>
            </a:fld>
            <a:r>
              <a:rPr b="0" lang="fa-IR" sz="1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fld id="{B7440B4D-317A-43F6-90CE-3F574837A202}" type="datetime10">
              <a:rPr b="0" lang="fa-IR" sz="1200" spc="-1" strike="noStrike">
                <a:solidFill>
                  <a:srgbClr val="575f6d"/>
                </a:solidFill>
                <a:latin typeface="Times New Roman"/>
                <a:cs typeface="Times New Roman"/>
              </a:rPr>
              <a:t>۱۳:۵۶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4A0B-8C21-4966-8CEE-E7BC6961D8EB}" type="slidenum">
              <a:rPr b="1" lang="fa-I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575f6d"/>
                </a:solidFill>
                <a:latin typeface="Times New Roman"/>
                <a:cs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2D88-D5E9-4768-B27B-00658A52369D}" type="datetime">
              <a:rPr b="0" lang="fa-IR" sz="1200" spc="-1" strike="noStrike">
                <a:solidFill>
                  <a:srgbClr val="575f6d"/>
                </a:solidFill>
                <a:latin typeface="Times New Roman"/>
                <a:cs typeface="Times New Roman"/>
              </a:rPr>
              <a:t>۲۰۲۶/۰۷/۲۹</a:t>
            </a:fld>
            <a:r>
              <a:rPr b="0" lang="fa-IR" sz="1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fld id="{9D15E76E-3355-4818-9FD0-1CED6BC0B3DD}" type="datetime10">
              <a:rPr b="0" lang="fa-IR" sz="1200" spc="-1" strike="noStrike">
                <a:solidFill>
                  <a:srgbClr val="575f6d"/>
                </a:solidFill>
                <a:latin typeface="Times New Roman"/>
                <a:cs typeface="Times New Roman"/>
              </a:rPr>
              <a:t>۱۳:۵۶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6DA0-325D-4136-9076-073E6F352529}" type="slidenum">
              <a:rPr b="1" lang="fa-I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-541440" y="-100080"/>
            <a:ext cx="9968040" cy="6958080"/>
          </a:xfrm>
          <a:prstGeom prst="rect">
            <a:avLst/>
          </a:prstGeom>
          <a:ln w="0">
            <a:noFill/>
          </a:ln>
        </p:spPr>
      </p:pic>
      <p:pic>
        <p:nvPicPr>
          <p:cNvPr id="359" name="Content Placeholder 5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8675640" cy="564516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83E8-7E72-4BF5-890A-28AE6173C17F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5a160b"/>
                </a:solidFill>
                <a:latin typeface="Century Schoolbook"/>
              </a:rPr>
              <a:t>پیکر بندی ارزش سازمان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برای درک ارزشی که فناوری اطلاعات برای سازمان ها فراهم می کند هبتدا باید روش انجام کسب و کار توسط یک سازمان خاص و نحوه تاثیر گذاری سیستم های اطلاعاتی بر کارایی فعالیت های جزئی ومتعدد موجود در سازمان را درک کنی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پیکربندی ارزش نحوه ایجاد ارزش در شرکت برای مشتریان خود را توضیح می دهد. پیکربندی ارزش نشان می دهد که چگونه مهمترین فرایندهای کسب و کار اجرا می شوند تا برای مشتریان ارزش آفرینی کنند. پیکربندی ارزش روشی است که سازمان خاصی کسب و کار را انجام می ده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20C2-B0D5-41F7-9D7B-43497984DD6E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ircl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5a160b"/>
                </a:solidFill>
                <a:latin typeface="Century Schoolbook"/>
              </a:rPr>
              <a:t>سازمان بعنوان زنجیره ارزش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r" rtl="1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Schoolbook"/>
              </a:rPr>
              <a:t>در زنجیره ارزش 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r" rtl="1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</a:rPr>
              <a:t>- ارزش از طریق تولید کارای محصولات و خدمات بر اساس منابع مختلف ایجاد می شود 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r" rtl="1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</a:rPr>
              <a:t>- شرکت بصورت مجموعه ای از فعالیتها در نظر گرفته می شود 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r" rtl="1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</a:rPr>
              <a:t>- فعالیتهای اولیه در زنجیره ارزش شامل پشتیبانی ورودی ، تولید ، پشتیبانی خروجی ، بازاریابی و فروش و خدمات است 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r" rtl="1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</a:rPr>
              <a:t>- فعالیتهای پشتیبانی شامل زیرساخت ، منابع انسانی ، توسعه فناوری و تدارکات می باشد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r" rtl="1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</a:rPr>
              <a:t>- کانون توجه در اینجا بر انجام این فعالیتها در زنجیره به روش های کارا و اثربخش است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1D91-357C-4930-98B7-7BD3242ABF74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ll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5a160b"/>
                </a:solidFill>
                <a:latin typeface="Century Schoolbook"/>
              </a:rPr>
              <a:t>ارزش را می توان در دو پیکربندی ارزش جایگزین ایجاد نمود 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کارگاه ارزش   و  شبکه ارز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- در کارگاه ارزش فعالیتها زمان بندی شده و منابع به شکلی اعمال می شوند که دارای بعد و مناسب با نیاز های مسئله کارگزار است ، در حالی که زنجیره ارزش مجموعه ثابتی از فعالیتهاست که به آن امکان میدهد تا محصول استاندارد را به تعداد زیادی تولید کند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- کارگاه ارزش شرکتی است که با حل مسائل منحصربفرد برای مشتریان و کارگزاران ارزش آفرینی میکند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- دانش مهمترین منبع بوده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- برای موفقیت سازمان حیاتی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02FD-7487-4E5D-90F9-766B6E3EDFE1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91760" y="5516640"/>
            <a:ext cx="7467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entury Schoolbook"/>
              </a:rPr>
              <a:t>مثالهایی از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IS/IT</a:t>
            </a:r>
            <a:r>
              <a:rPr b="1" lang="fa-IR" sz="3000" spc="-1" strike="noStrike">
                <a:solidFill>
                  <a:srgbClr val="000000"/>
                </a:solidFill>
                <a:latin typeface="Century Schoolbook"/>
              </a:rPr>
              <a:t> در کارگاه ارزش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22080" y="1125360"/>
            <a:ext cx="7467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92" name="Group 16"/>
          <p:cNvGrpSpPr/>
          <p:nvPr/>
        </p:nvGrpSpPr>
        <p:grpSpPr>
          <a:xfrm>
            <a:off x="1835280" y="830160"/>
            <a:ext cx="5133960" cy="2433600"/>
            <a:chOff x="1835280" y="830160"/>
            <a:chExt cx="5133960" cy="2433600"/>
          </a:xfrm>
        </p:grpSpPr>
        <p:sp>
          <p:nvSpPr>
            <p:cNvPr id="393" name="Rectangle 3"/>
            <p:cNvSpPr/>
            <p:nvPr/>
          </p:nvSpPr>
          <p:spPr>
            <a:xfrm>
              <a:off x="1835280" y="830160"/>
              <a:ext cx="1514520" cy="855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77c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200" spc="-1" strike="noStrike">
                  <a:solidFill>
                    <a:srgbClr val="000000"/>
                  </a:solidFill>
                  <a:latin typeface="Century Schoolbook"/>
                  <a:cs typeface="Times New Roman"/>
                </a:rPr>
                <a:t>پیدا کردن و اکتساب مسئله: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200" spc="-1" strike="noStrike">
                  <a:solidFill>
                    <a:srgbClr val="000000"/>
                  </a:solidFill>
                  <a:latin typeface="Century Schoolbook"/>
                  <a:cs typeface="Times New Roman"/>
                </a:rPr>
                <a:t>پایگاه داده کارزار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4" name="Rectangle 6"/>
            <p:cNvSpPr/>
            <p:nvPr/>
          </p:nvSpPr>
          <p:spPr>
            <a:xfrm>
              <a:off x="4006800" y="830160"/>
              <a:ext cx="1646280" cy="92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77c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200" spc="-1" strike="noStrike">
                  <a:solidFill>
                    <a:srgbClr val="000000"/>
                  </a:solidFill>
                  <a:latin typeface="Century Schoolbook"/>
                  <a:cs typeface="Times New Roman"/>
                </a:rPr>
                <a:t>حل مسئله :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200" spc="-1" strike="noStrike">
                  <a:solidFill>
                    <a:srgbClr val="000000"/>
                  </a:solidFill>
                  <a:latin typeface="Century Schoolbook"/>
                  <a:cs typeface="Times New Roman"/>
                </a:rPr>
                <a:t>پایگاه داده بهترین شیوه ها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5" name="Rectangle 7"/>
            <p:cNvSpPr/>
            <p:nvPr/>
          </p:nvSpPr>
          <p:spPr>
            <a:xfrm>
              <a:off x="5322960" y="1455480"/>
              <a:ext cx="1646280" cy="985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77c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200" spc="-1" strike="noStrike">
                  <a:solidFill>
                    <a:srgbClr val="000000"/>
                  </a:solidFill>
                  <a:latin typeface="Century Schoolbook"/>
                  <a:cs typeface="Times New Roman"/>
                </a:rPr>
                <a:t>انتخاب راه حل برای مسئله : 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200" spc="-1" strike="noStrike">
                  <a:solidFill>
                    <a:srgbClr val="000000"/>
                  </a:solidFill>
                  <a:latin typeface="Century Schoolbook"/>
                  <a:cs typeface="Times New Roman"/>
                </a:rPr>
                <a:t>سیستم شبیه سازی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6" name="Rectangle 8"/>
            <p:cNvSpPr/>
            <p:nvPr/>
          </p:nvSpPr>
          <p:spPr>
            <a:xfrm>
              <a:off x="1835280" y="2278080"/>
              <a:ext cx="1514520" cy="985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77c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200" spc="-1" strike="noStrike">
                  <a:solidFill>
                    <a:srgbClr val="000000"/>
                  </a:solidFill>
                  <a:latin typeface="Century Schoolbook"/>
                  <a:cs typeface="Times New Roman"/>
                </a:rPr>
                <a:t>کنترل و ارزیابی :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200" spc="-1" strike="noStrike">
                  <a:solidFill>
                    <a:srgbClr val="000000"/>
                  </a:solidFill>
                  <a:latin typeface="Century Schoolbook"/>
                  <a:cs typeface="Times New Roman"/>
                </a:rPr>
                <a:t>سیستم حسابداری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7" name="Rectangle 9"/>
            <p:cNvSpPr/>
            <p:nvPr/>
          </p:nvSpPr>
          <p:spPr>
            <a:xfrm>
              <a:off x="4073760" y="2278080"/>
              <a:ext cx="1579320" cy="985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77c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200" spc="-1" strike="noStrike">
                  <a:solidFill>
                    <a:srgbClr val="000000"/>
                  </a:solidFill>
                  <a:latin typeface="Century Schoolbook"/>
                  <a:cs typeface="Times New Roman"/>
                </a:rPr>
                <a:t>اجرای راه حل :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200" spc="-1" strike="noStrike">
                  <a:solidFill>
                    <a:srgbClr val="000000"/>
                  </a:solidFill>
                  <a:latin typeface="Century Schoolbook"/>
                  <a:cs typeface="Times New Roman"/>
                </a:rPr>
                <a:t>سیستم مستند سازی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8" name="Right Arrow 10"/>
            <p:cNvSpPr/>
            <p:nvPr/>
          </p:nvSpPr>
          <p:spPr>
            <a:xfrm>
              <a:off x="3360960" y="1158480"/>
              <a:ext cx="591840" cy="296640"/>
            </a:xfrm>
            <a:prstGeom prst="rightArrow">
              <a:avLst>
                <a:gd name="adj1" fmla="val 50000"/>
                <a:gd name="adj2" fmla="val 50045"/>
              </a:avLst>
            </a:prstGeom>
            <a:solidFill>
              <a:srgbClr val="fe8637"/>
            </a:solidFill>
            <a:ln w="25560">
              <a:solidFill>
                <a:srgbClr val="bb61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9" name="Left Arrow 11"/>
            <p:cNvSpPr/>
            <p:nvPr/>
          </p:nvSpPr>
          <p:spPr>
            <a:xfrm>
              <a:off x="3414600" y="2606760"/>
              <a:ext cx="595080" cy="328320"/>
            </a:xfrm>
            <a:prstGeom prst="leftArrow">
              <a:avLst>
                <a:gd name="adj1" fmla="val 50000"/>
                <a:gd name="adj2" fmla="val 50062"/>
              </a:avLst>
            </a:prstGeom>
            <a:solidFill>
              <a:srgbClr val="fe8637"/>
            </a:solidFill>
            <a:ln w="25560">
              <a:solidFill>
                <a:srgbClr val="bb61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00" name="Bent Arrow 12"/>
            <p:cNvSpPr/>
            <p:nvPr/>
          </p:nvSpPr>
          <p:spPr>
            <a:xfrm rot="5400000">
              <a:off x="5686560" y="961560"/>
              <a:ext cx="525240" cy="591840"/>
            </a:xfrm>
            <a:prstGeom prst="pie">
              <a:avLst/>
            </a:prstGeom>
            <a:solidFill>
              <a:srgbClr val="fe8637"/>
            </a:solidFill>
            <a:ln w="25560">
              <a:solidFill>
                <a:srgbClr val="bb61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01" name="Bent Arrow 13"/>
            <p:cNvSpPr/>
            <p:nvPr/>
          </p:nvSpPr>
          <p:spPr>
            <a:xfrm rot="10800000">
              <a:off x="5653080" y="2359080"/>
              <a:ext cx="493560" cy="576000"/>
            </a:xfrm>
            <a:prstGeom prst="pie">
              <a:avLst/>
            </a:prstGeom>
            <a:solidFill>
              <a:srgbClr val="fe8637"/>
            </a:solidFill>
            <a:ln w="25560">
              <a:solidFill>
                <a:srgbClr val="bb61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02" name="Right Arrow 14"/>
            <p:cNvSpPr/>
            <p:nvPr/>
          </p:nvSpPr>
          <p:spPr>
            <a:xfrm rot="19607400">
              <a:off x="2940120" y="1882800"/>
              <a:ext cx="1361880" cy="13176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e8637"/>
            </a:solidFill>
            <a:ln w="25560">
              <a:solidFill>
                <a:srgbClr val="bb61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03" name="Right Arrow 15"/>
            <p:cNvSpPr/>
            <p:nvPr/>
          </p:nvSpPr>
          <p:spPr>
            <a:xfrm rot="20350800">
              <a:off x="3179520" y="1950480"/>
              <a:ext cx="2443320" cy="123840"/>
            </a:xfrm>
            <a:prstGeom prst="rightArrow">
              <a:avLst>
                <a:gd name="adj1" fmla="val 50000"/>
                <a:gd name="adj2" fmla="val 50055"/>
              </a:avLst>
            </a:prstGeom>
            <a:solidFill>
              <a:srgbClr val="fe8637"/>
            </a:solidFill>
            <a:ln w="25560">
              <a:solidFill>
                <a:srgbClr val="bb61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aphicFrame>
        <p:nvGraphicFramePr>
          <p:cNvPr id="404" name=""/>
          <p:cNvGraphicFramePr/>
          <p:nvPr/>
        </p:nvGraphicFramePr>
        <p:xfrm>
          <a:off x="1476360" y="3645000"/>
          <a:ext cx="6095880" cy="14824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زیرساخت : استفاده از اینترانت سازمان برای ارتباطات داخل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منابع انسانی |: استفاده از اینترانت سازمان برای مهارت آفرین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c84"/>
                      </a:solidFill>
                    </a:lnT>
                    <a:lnB>
                      <a:noFill/>
                    </a:lnB>
                    <a:solidFill>
                      <a:srgbClr val="777c84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فناوری : پردازش تصاوی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تدارکات : استفاده از بازوهای الکترونیک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777c8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05" name="Curved Down Arrow 18"/>
          <p:cNvSpPr/>
          <p:nvPr/>
        </p:nvSpPr>
        <p:spPr>
          <a:xfrm rot="16200000">
            <a:off x="-446400" y="2564280"/>
            <a:ext cx="2765160" cy="934920"/>
          </a:xfrm>
          <a:custGeom>
            <a:avLst/>
            <a:gdLst>
              <a:gd name="textAreaLeft" fmla="*/ 603360 w 2765160"/>
              <a:gd name="textAreaRight" fmla="*/ 2044800 w 2765160"/>
              <a:gd name="textAreaTop" fmla="*/ 125280 h 934920"/>
              <a:gd name="textAreaBottom" fmla="*/ 8096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31" hR="21600" stAng="10800000" swAng="5400000"/>
                <a:lnTo>
                  <a:pt x="11257" y="0"/>
                </a:lnTo>
                <a:arcTo wR="9431" hR="21600" stAng="-5400000" swAng="3564023"/>
                <a:lnTo>
                  <a:pt x="21301" y="16200"/>
                </a:lnTo>
                <a:lnTo>
                  <a:pt x="19774" y="21600"/>
                </a:lnTo>
                <a:lnTo>
                  <a:pt x="17649" y="16200"/>
                </a:lnTo>
                <a:lnTo>
                  <a:pt x="18562" y="16200"/>
                </a:lnTo>
                <a:arcTo wR="9431" hR="21600" stAng="-1835977" swAng="-3418117"/>
                <a:lnTo>
                  <a:pt x="10344" y="101"/>
                </a:lnTo>
                <a:arcTo wR="9431" hR="21600" stAng="-5545907" swAng="-5254093"/>
                <a:close/>
              </a:path>
              <a:path fill="darkenLess" w="21600" h="21600">
                <a:moveTo>
                  <a:pt x="0" y="21600"/>
                </a:moveTo>
                <a:arcTo wR="9431" hR="21600" stAng="10800000" swAng="5400000"/>
                <a:lnTo>
                  <a:pt x="9431" y="0"/>
                </a:lnTo>
                <a:arcTo wR="9431" hR="21600" stAng="-5400000" swAng="145907"/>
                <a:lnTo>
                  <a:pt x="10344" y="101"/>
                </a:lnTo>
                <a:arcTo wR="9431" hR="21600" stAng="-5545907" swAng="-5254093"/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Slide Number Placeholder 19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92B0-1A75-4509-B5F2-538673DBD7B3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4678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entury Schoolbook"/>
              </a:rPr>
              <a:t>شکل </a:t>
            </a:r>
            <a:r>
              <a:rPr b="0" lang="fa-IR" sz="30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fa-IR" sz="30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fa-IR" sz="30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fa-IR" sz="3000" spc="-1" strike="noStrike">
                <a:solidFill>
                  <a:srgbClr val="000000"/>
                </a:solidFill>
                <a:latin typeface="Century Schoolbook"/>
              </a:rPr>
              <a:t> مثال هایی از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S/IT</a:t>
            </a:r>
            <a:r>
              <a:rPr b="0" lang="fa-IR" sz="3000" spc="-1" strike="noStrike">
                <a:solidFill>
                  <a:srgbClr val="000000"/>
                </a:solidFill>
                <a:latin typeface="Century Schoolbook"/>
              </a:rPr>
              <a:t> در کارگاه ارزش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8" name="Content Placeholder 3" descr=""/>
          <p:cNvPicPr/>
          <p:nvPr/>
        </p:nvPicPr>
        <p:blipFill>
          <a:blip r:embed="rId1"/>
          <a:stretch/>
        </p:blipFill>
        <p:spPr>
          <a:xfrm>
            <a:off x="469800" y="1554120"/>
            <a:ext cx="7826400" cy="3981600"/>
          </a:xfrm>
          <a:prstGeom prst="rect">
            <a:avLst/>
          </a:prstGeom>
          <a:ln w="0">
            <a:noFill/>
          </a:ln>
        </p:spPr>
      </p:pic>
      <p:sp>
        <p:nvSpPr>
          <p:cNvPr id="409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A2EF-ABF5-4455-87D4-8EC648F8B68B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5a160b"/>
                </a:solidFill>
                <a:latin typeface="Century Schoolbook"/>
              </a:rPr>
              <a:t>سازمان بعنوان شبکه ارزش</a:t>
            </a:r>
            <a:r>
              <a:rPr b="0" lang="fa-IR" sz="3000" spc="-1" strike="noStrike">
                <a:solidFill>
                  <a:srgbClr val="5a160b"/>
                </a:solidFill>
                <a:latin typeface="Century Schoolbook"/>
              </a:rPr>
              <a:t>	</a:t>
            </a:r>
            <a:r>
              <a:rPr b="0" lang="fa-IR" sz="3000" spc="-1" strike="noStrike">
                <a:solidFill>
                  <a:srgbClr val="5a160b"/>
                </a:solidFill>
                <a:latin typeface="Century Schoolbook"/>
              </a:rPr>
              <a:t>	</a:t>
            </a:r>
            <a:r>
              <a:rPr b="0" lang="fa-IR" sz="3000" spc="-1" strike="noStrike">
                <a:solidFill>
                  <a:srgbClr val="5a160b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شبکه ارزش ، شرکتی است که ارزش را با مرتبط کردن کاگزاران و مشتریانی که وابسته به یکدیگر بوده و یا می خواهند باشند ، ایجاد می ک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این شرکتها اطلاعات ، پول ، محصولات و خدمات را توزع می کن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فعالیتها در شبکه های ارزش بطور موازی رخ می دهند . تعداد و ترکیب مشتریان و نقاط دسترسی در شبکه ، گرداننده های مهمی در شبکه ارزش هستند . مشتریان بیشتر و ارتباطات بیشتر ، ارزش بالاتری را برای مشتریان ایجاد می ک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33CB-02CE-45AA-AFA6-D823CFA6BA4B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sh dir="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5a160b"/>
                </a:solidFill>
                <a:latin typeface="Century Schoolbook"/>
              </a:rPr>
              <a:t>شبکه های ارزش سه فعالیت را انجام می دهند :</a:t>
            </a:r>
            <a:br>
              <a:rPr sz="3000"/>
            </a:br>
            <a:r>
              <a:rPr b="0" lang="fa-IR" sz="1400" spc="-1" strike="noStrike">
                <a:solidFill>
                  <a:srgbClr val="5a160b"/>
                </a:solidFill>
                <a:latin typeface="Century Schoolbook"/>
              </a:rPr>
              <a:t>(شکل </a:t>
            </a:r>
            <a:r>
              <a:rPr b="0" lang="fa-IR" sz="1400" spc="-1" strike="noStrike">
                <a:solidFill>
                  <a:srgbClr val="5a160b"/>
                </a:solidFill>
                <a:latin typeface="Century Schoolbook"/>
              </a:rPr>
              <a:t>4</a:t>
            </a:r>
            <a:r>
              <a:rPr b="0" lang="fa-IR" sz="1400" spc="-1" strike="noStrike">
                <a:solidFill>
                  <a:srgbClr val="5a160b"/>
                </a:solidFill>
                <a:latin typeface="Century Schoolbook"/>
              </a:rPr>
              <a:t>-</a:t>
            </a:r>
            <a:r>
              <a:rPr b="0" lang="fa-IR" sz="1400" spc="-1" strike="noStrike">
                <a:solidFill>
                  <a:srgbClr val="5a160b"/>
                </a:solidFill>
                <a:latin typeface="Century Schoolbook"/>
              </a:rPr>
              <a:t>1</a:t>
            </a:r>
            <a:r>
              <a:rPr b="0" lang="fa-IR" sz="1400" spc="-1" strike="noStrike">
                <a:solidFill>
                  <a:srgbClr val="5a160b"/>
                </a:solidFill>
                <a:latin typeface="Century Schoolbook"/>
              </a:rPr>
              <a:t> را ببینید)</a:t>
            </a: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وسعه شبکه مشتریان جدید بمنظور افزایش ارزش برای مشتریان موجود و مشتریان جدید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وسعه خدمات جدید و بهبود در خدمات موجود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توسعه زیرساخت به گونه ای که بتوان خدمات مشتری را کاراتر و کارآمدتر فراهم نم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809F-C3B5-40DA-BB44-227A61998DE8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sh dir="u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5560" y="5732280"/>
            <a:ext cx="746784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entury Schoolbook"/>
              </a:rPr>
              <a:t>مثالهایی از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IS/IT</a:t>
            </a:r>
            <a:r>
              <a:rPr b="1" lang="fa-IR" sz="3000" spc="-1" strike="noStrike">
                <a:solidFill>
                  <a:srgbClr val="000000"/>
                </a:solidFill>
                <a:latin typeface="Century Schoolbook"/>
              </a:rPr>
              <a:t> در شبکه ارزش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611280" y="2997360"/>
          <a:ext cx="7467480" cy="148248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زیرساخت : استفاده از اینترانت سازمان برای ارتباطات داخل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منابع انسانی : استفاده از اینترانت شرکت برای ایجاد مهار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c84"/>
                      </a:solidFill>
                    </a:lnT>
                    <a:lnB>
                      <a:noFill/>
                    </a:lnB>
                    <a:solidFill>
                      <a:srgbClr val="777c84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فناوری : سیستم پایش کارآیی شبک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تدارکات : استفاده از بازارهای الکترونیک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777c8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418" name="Group 6"/>
          <p:cNvGrpSpPr/>
          <p:nvPr/>
        </p:nvGrpSpPr>
        <p:grpSpPr>
          <a:xfrm>
            <a:off x="1619280" y="630360"/>
            <a:ext cx="5256360" cy="2060280"/>
            <a:chOff x="1619280" y="630360"/>
            <a:chExt cx="5256360" cy="2060280"/>
          </a:xfrm>
        </p:grpSpPr>
        <p:sp>
          <p:nvSpPr>
            <p:cNvPr id="419" name="Rectangle 3"/>
            <p:cNvSpPr/>
            <p:nvPr/>
          </p:nvSpPr>
          <p:spPr>
            <a:xfrm>
              <a:off x="1619280" y="630360"/>
              <a:ext cx="2060640" cy="901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77c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400" spc="-1" strike="noStrike">
                  <a:solidFill>
                    <a:srgbClr val="000000"/>
                  </a:solidFill>
                  <a:latin typeface="Century Schoolbook"/>
                  <a:cs typeface="Times New Roman"/>
                </a:rPr>
                <a:t>شبکه مشتری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400" spc="-1" strike="noStrike">
                  <a:solidFill>
                    <a:srgbClr val="000000"/>
                  </a:solidFill>
                  <a:latin typeface="Century Schoolbook"/>
                  <a:cs typeface="Times New Roman"/>
                </a:rPr>
                <a:t>مدیریت روابط با مشتریان (</a:t>
              </a: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CRM</a:t>
              </a:r>
              <a:r>
                <a:rPr b="0" lang="fa-IR" sz="14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20" name="Rectangle 4"/>
            <p:cNvSpPr/>
            <p:nvPr/>
          </p:nvSpPr>
          <p:spPr>
            <a:xfrm>
              <a:off x="3357720" y="1338120"/>
              <a:ext cx="2060640" cy="901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77c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400" spc="-1" strike="noStrike">
                  <a:solidFill>
                    <a:srgbClr val="000000"/>
                  </a:solidFill>
                  <a:latin typeface="Century Schoolbook"/>
                  <a:cs typeface="Times New Roman"/>
                </a:rPr>
                <a:t>خدمات مشتری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400" spc="-1" strike="noStrike">
                  <a:solidFill>
                    <a:srgbClr val="000000"/>
                  </a:solidFill>
                  <a:latin typeface="Century Schoolbook"/>
                  <a:cs typeface="Times New Roman"/>
                </a:rPr>
                <a:t>سیستم خدماتی ارزش افزوده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21" name="Rectangle 5"/>
            <p:cNvSpPr/>
            <p:nvPr/>
          </p:nvSpPr>
          <p:spPr>
            <a:xfrm>
              <a:off x="5224680" y="1917720"/>
              <a:ext cx="1650960" cy="772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77c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400" spc="-1" strike="noStrike">
                  <a:solidFill>
                    <a:srgbClr val="000000"/>
                  </a:solidFill>
                  <a:latin typeface="Century Schoolbook"/>
                  <a:cs typeface="Times New Roman"/>
                </a:rPr>
                <a:t>زیر ساخت عملیاتی 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400" spc="-1" strike="noStrike">
                  <a:solidFill>
                    <a:srgbClr val="000000"/>
                  </a:solidFill>
                  <a:latin typeface="Century Schoolbook"/>
                  <a:cs typeface="Times New Roman"/>
                </a:rPr>
                <a:t>سیستم امنیتی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22" name="Slide Number Placehold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363A-C815-455A-B693-7331AF0BBA68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862110"/>
                </a:solidFill>
                <a:latin typeface="Century Schoolbook"/>
              </a:rPr>
              <a:t>شکل </a:t>
            </a:r>
            <a:r>
              <a:rPr b="0" lang="fa-IR" sz="3000" spc="-1" strike="noStrike">
                <a:solidFill>
                  <a:srgbClr val="862110"/>
                </a:solidFill>
                <a:latin typeface="Century Schoolbook"/>
              </a:rPr>
              <a:t>5</a:t>
            </a:r>
            <a:r>
              <a:rPr b="0" lang="fa-IR" sz="3000" spc="-1" strike="noStrike">
                <a:solidFill>
                  <a:srgbClr val="862110"/>
                </a:solidFill>
                <a:latin typeface="Century Schoolbook"/>
              </a:rPr>
              <a:t>-</a:t>
            </a:r>
            <a:r>
              <a:rPr b="0" lang="fa-IR" sz="3000" spc="-1" strike="noStrike">
                <a:solidFill>
                  <a:srgbClr val="862110"/>
                </a:solidFill>
                <a:latin typeface="Century Schoolbook"/>
              </a:rPr>
              <a:t>1</a:t>
            </a:r>
            <a:r>
              <a:rPr b="0" lang="fa-IR" sz="3000" spc="-1" strike="noStrike">
                <a:solidFill>
                  <a:srgbClr val="862110"/>
                </a:solidFill>
                <a:latin typeface="Century Schoolbook"/>
              </a:rPr>
              <a:t> مشخصه های پیکر بندی ارزش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4" name="Content Placeholder 3" descr=""/>
          <p:cNvPicPr/>
          <p:nvPr/>
        </p:nvPicPr>
        <p:blipFill>
          <a:blip r:embed="rId1"/>
          <a:stretch/>
        </p:blipFill>
        <p:spPr>
          <a:xfrm>
            <a:off x="536400" y="2346480"/>
            <a:ext cx="7614000" cy="304776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9CD2-D907-46C5-87EA-D73F0C7EF2F7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862110"/>
                </a:solidFill>
                <a:latin typeface="Century Schoolbook"/>
              </a:rPr>
              <a:t>مدل کسب و کار سازمان</a:t>
            </a:r>
            <a:r>
              <a:rPr b="1" lang="fa-IR" sz="3000" spc="-1" strike="noStrike">
                <a:solidFill>
                  <a:srgbClr val="862110"/>
                </a:solidFill>
                <a:latin typeface="Century Schoolbook"/>
              </a:rPr>
              <a:t>	</a:t>
            </a:r>
            <a:r>
              <a:rPr b="1" lang="fa-IR" sz="3000" spc="-1" strike="noStrike">
                <a:solidFill>
                  <a:srgbClr val="862110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دل کسب و کار ، مفهوم سازی پیشنهاد ارزش سازمان برای ذینفعان و روشهای منحصر به فردی است که سازمان ها ایجاد کرده و ارزش را به مشتریان تحویل میدهند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دل کسب و کار را بعنوان «طرح مدیریت» برای درآمدزایی در کسب و کار خاص در نظر میگیرند. مدل کسب و کار شدیدا با استراتژی سازمان مرتبط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دلهای کسب و کار توضیح میدهند که بخشهای یک کسب و کار چگونه گردهم می آیند تا ارزش را برای مشتریان ایجاد کنند . بنابراین ، سازمان ها برای بقای کسب و کار باید بر پایه مدل های کسب و کار صحیح ایجاد شو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36D9-C8F4-46E4-BD63-0AA8F46E7DC6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2339640" y="3860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Century Schoolbook"/>
              </a:rPr>
              <a:t>مدیریت استراتژیک فناوری اطلاعات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entury Schoolbook"/>
              </a:rPr>
              <a:t>صفحات:</a:t>
            </a:r>
            <a:r>
              <a:rPr b="1" lang="fa-IR" sz="2800" spc="-1" strike="noStrike">
                <a:solidFill>
                  <a:srgbClr val="000000"/>
                </a:solidFill>
                <a:latin typeface="Century Schoolbook"/>
              </a:rPr>
              <a:t>52</a:t>
            </a:r>
            <a:r>
              <a:rPr b="1" lang="fa-IR" sz="28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fa-IR" sz="2800" spc="-1" strike="noStrike">
                <a:solidFill>
                  <a:srgbClr val="000000"/>
                </a:solidFill>
                <a:latin typeface="Century Schoolbook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1A73-3344-4862-BF8A-6DB3C06E69B4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2110"/>
                </a:solidFill>
                <a:latin typeface="Century Schoolbook"/>
              </a:rPr>
              <a:t>HEDMAN</a:t>
            </a:r>
            <a:r>
              <a:rPr b="0" lang="en-US" sz="2000" spc="-1" strike="noStrike">
                <a:solidFill>
                  <a:srgbClr val="862110"/>
                </a:solidFill>
                <a:latin typeface="Century Schoolbook"/>
              </a:rPr>
              <a:t> </a:t>
            </a:r>
            <a:r>
              <a:rPr b="0" lang="fa-IR" sz="2000" spc="-1" strike="noStrike">
                <a:solidFill>
                  <a:srgbClr val="862110"/>
                </a:solidFill>
                <a:latin typeface="Century Schoolbook"/>
              </a:rPr>
              <a:t> و </a:t>
            </a:r>
            <a:r>
              <a:rPr b="0" lang="en-US" sz="2000" spc="-1" strike="noStrike">
                <a:solidFill>
                  <a:srgbClr val="862110"/>
                </a:solidFill>
                <a:latin typeface="Century Schoolbook"/>
              </a:rPr>
              <a:t>KALLING</a:t>
            </a:r>
            <a:r>
              <a:rPr b="0" lang="en-US" sz="2000" spc="-1" strike="noStrike">
                <a:solidFill>
                  <a:srgbClr val="862110"/>
                </a:solidFill>
                <a:latin typeface="Century Schoolbook"/>
              </a:rPr>
              <a:t> </a:t>
            </a:r>
            <a:r>
              <a:rPr b="0" lang="fa-IR" sz="2000" spc="-1" strike="noStrike">
                <a:solidFill>
                  <a:srgbClr val="862110"/>
                </a:solidFill>
                <a:latin typeface="Century Schoolbook"/>
              </a:rPr>
              <a:t> (</a:t>
            </a:r>
            <a:r>
              <a:rPr b="0" lang="fa-IR" sz="2000" spc="-1" strike="noStrike">
                <a:solidFill>
                  <a:srgbClr val="862110"/>
                </a:solidFill>
                <a:latin typeface="Century Schoolbook"/>
              </a:rPr>
              <a:t>2002</a:t>
            </a:r>
            <a:r>
              <a:rPr b="0" lang="fa-IR" sz="2000" spc="-1" strike="noStrike">
                <a:solidFill>
                  <a:srgbClr val="862110"/>
                </a:solidFill>
                <a:latin typeface="Century Schoolbook"/>
              </a:rPr>
              <a:t> ، صفحه </a:t>
            </a:r>
            <a:r>
              <a:rPr b="0" lang="fa-IR" sz="2000" spc="-1" strike="noStrike">
                <a:solidFill>
                  <a:srgbClr val="862110"/>
                </a:solidFill>
                <a:latin typeface="Century Schoolbook"/>
              </a:rPr>
              <a:t>113</a:t>
            </a:r>
            <a:r>
              <a:rPr b="0" lang="fa-IR" sz="2000" spc="-1" strike="noStrike">
                <a:solidFill>
                  <a:srgbClr val="862110"/>
                </a:solidFill>
                <a:latin typeface="Century Schoolbook"/>
              </a:rPr>
              <a:t>)  مدل کسب و کار را شش مولفه مرتبط به هم می دانند که در سطح بازار محصول شروع می شوند :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601"/>
              </a:spcBef>
              <a:buClr>
                <a:srgbClr val="5a160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شتریا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5a160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رقب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5a160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پیشنها ما به مشتری (یعنی پیشنهاد ارزش سازمان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5a160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فعالیتهای داخلی سازمان برای ارزش آفری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5a160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نابع سازمان(منابع فیزیکی ملموس و منابع سازمانی و انسانی ناملموس) مورد نیاز برای انجام فعالیتهای لاز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5a160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نمایندگی های فروش و ورودی های تولید که مواد خام را برای تشکیل منابع مورد نیاز تامین می ک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116C-F451-4426-AEA4-8235FF09AEB1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2110"/>
                </a:solidFill>
                <a:latin typeface="Century Schoolbook"/>
              </a:rPr>
              <a:t>OSTERWALDER</a:t>
            </a:r>
            <a:r>
              <a:rPr b="0" lang="en-US" sz="2400" spc="-1" strike="noStrike">
                <a:solidFill>
                  <a:srgbClr val="86211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862110"/>
                </a:solidFill>
                <a:latin typeface="Century Schoolbook"/>
              </a:rPr>
              <a:t> و </a:t>
            </a:r>
            <a:r>
              <a:rPr b="0" lang="en-US" sz="2400" spc="-1" strike="noStrike">
                <a:solidFill>
                  <a:srgbClr val="862110"/>
                </a:solidFill>
                <a:latin typeface="Century Schoolbook"/>
              </a:rPr>
              <a:t>PIGNEURE</a:t>
            </a:r>
            <a:r>
              <a:rPr b="0" lang="en-US" sz="2400" spc="-1" strike="noStrike">
                <a:solidFill>
                  <a:srgbClr val="86211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862110"/>
                </a:solidFill>
                <a:latin typeface="Century Schoolbook"/>
              </a:rPr>
              <a:t> </a:t>
            </a:r>
            <a:br>
              <a:rPr sz="2400"/>
            </a:br>
            <a:r>
              <a:rPr b="0" lang="fa-IR" sz="2400" spc="-1" strike="noStrike">
                <a:solidFill>
                  <a:srgbClr val="862110"/>
                </a:solidFill>
                <a:latin typeface="Century Schoolbook"/>
              </a:rPr>
              <a:t>مفهوم مدل کسب و کار را اینگونه تعریف می کنند: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8000" y="19843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مدل کسب و کار ابزار مفهومی حاوی مجموعه ای از اشیا مفاهیم و روابط آنها با هدف بیان منطق کسب و کار شرکت خاصی است . بویژه مدل ، مفاهیم خاص و روابطی را که با ظرافت توصیف کننده و ارائه دهنده این موضوع هستند که چه ارزشی به مشتریان تحویل داده شده و چگونه انجام شده و چه پیامدهایی را شکل میدهد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BA20-F46A-4CF0-B682-78D2FA7D8103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836640"/>
            <a:ext cx="74674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862110"/>
                </a:solidFill>
                <a:latin typeface="Century Schoolbook"/>
              </a:rPr>
              <a:t>طبقه بندی تعریف مدل کسب و کار از نظر </a:t>
            </a:r>
            <a:r>
              <a:rPr b="0" lang="en-US" sz="2000" spc="-1" strike="noStrike">
                <a:solidFill>
                  <a:srgbClr val="862110"/>
                </a:solidFill>
                <a:latin typeface="Century Schoolbook"/>
              </a:rPr>
              <a:t>OSTERWALDER</a:t>
            </a:r>
            <a:r>
              <a:rPr b="0" lang="en-US" sz="2000" spc="-1" strike="noStrike">
                <a:solidFill>
                  <a:srgbClr val="862110"/>
                </a:solidFill>
                <a:latin typeface="Century Schoolbook"/>
              </a:rPr>
              <a:t> </a:t>
            </a:r>
            <a:r>
              <a:rPr b="0" lang="fa-IR" sz="2000" spc="-1" strike="noStrike">
                <a:solidFill>
                  <a:srgbClr val="862110"/>
                </a:solidFill>
                <a:latin typeface="Century Schoolbook"/>
              </a:rPr>
              <a:t> و </a:t>
            </a:r>
            <a:r>
              <a:rPr b="0" lang="en-US" sz="2000" spc="-1" strike="noStrike">
                <a:solidFill>
                  <a:srgbClr val="862110"/>
                </a:solidFill>
                <a:latin typeface="Century Schoolbook"/>
              </a:rPr>
              <a:t>PIGNEURE</a:t>
            </a:r>
            <a:r>
              <a:rPr b="0" lang="fa-IR" sz="2000" spc="-1" strike="noStrike">
                <a:solidFill>
                  <a:srgbClr val="86211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8000" y="19843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در سطح بالا ، مدل کسب و کار را بعنوان مفهوم گسترده انتزاعی تعریف می کند 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سطح دوم ، رده بندی انواع را توصیف کرده و مدل های کسب و کار مشابه را در یک نوع گروه بندی می کند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سطح آخر نمونه هایی از انواع مدل کسب و کار را توصیف می کند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sterwalder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 و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igneure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 دو سطح بالا را سطوح مفهومی مدل کسب و کار و سطح سوم را سطح نمونه می نامند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1497-B11D-470E-ADBC-3ADDFA8D0430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2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62110"/>
                </a:solidFill>
                <a:latin typeface="Century Schoolbook"/>
              </a:rPr>
              <a:t>LINDER</a:t>
            </a:r>
            <a:r>
              <a:rPr b="0" lang="fa-IR" sz="1800" spc="-1" strike="noStrike">
                <a:solidFill>
                  <a:srgbClr val="862110"/>
                </a:solidFill>
                <a:latin typeface="Century Schoolbook"/>
              </a:rPr>
              <a:t> و </a:t>
            </a:r>
            <a:r>
              <a:rPr b="0" lang="en-US" sz="1800" spc="-1" strike="noStrike">
                <a:solidFill>
                  <a:srgbClr val="862110"/>
                </a:solidFill>
                <a:latin typeface="Century Schoolbook"/>
              </a:rPr>
              <a:t>CANTRELL </a:t>
            </a:r>
            <a:r>
              <a:rPr b="0" lang="fa-IR" sz="1800" spc="-1" strike="noStrike">
                <a:solidFill>
                  <a:srgbClr val="862110"/>
                </a:solidFill>
                <a:latin typeface="Century Schoolbook"/>
              </a:rPr>
              <a:t> (2000)</a:t>
            </a:r>
            <a:r>
              <a:rPr b="0" lang="fa-IR" sz="1800" spc="-1" strike="noStrike">
                <a:solidFill>
                  <a:srgbClr val="862110"/>
                </a:solidFill>
                <a:latin typeface="Century Schoolbook"/>
              </a:rPr>
              <a:t> </a:t>
            </a:r>
            <a:r>
              <a:rPr b="1" lang="fa-IR" sz="1800" spc="-1" strike="noStrike">
                <a:solidFill>
                  <a:srgbClr val="862110"/>
                </a:solidFill>
                <a:latin typeface="Century Schoolbook"/>
              </a:rPr>
              <a:t>چهارنوع استراتژی تغییر </a:t>
            </a:r>
            <a:r>
              <a:rPr b="0" lang="fa-IR" sz="1800" spc="-1" strike="noStrike">
                <a:solidFill>
                  <a:srgbClr val="862110"/>
                </a:solidFill>
                <a:latin typeface="Century Schoolbook"/>
              </a:rPr>
              <a:t>برای مدل کسب و کار را تعریف میکنند :</a:t>
            </a:r>
            <a:br>
              <a:rPr sz="18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entury Schoolbook"/>
              </a:rPr>
              <a:t>مدل تحقق 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: سازمانها از مدل تحقق برای حداکثر کردن بازگشت سرمایه با توجه به منطق عملیاتی مدل کسب و کار فعلی خود استفاده می کنند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entury Schoolbook"/>
              </a:rPr>
              <a:t>مدل باز تجدید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: سازمان ها از مدل باز تجدید برایذ بهبود مستمر چارچوب و خئمات و محصولات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 پیشنهادهای ارزش نشان تجاری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 ساختار هزینه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 پایه فناوری قدرت پاسخگویی به افزایش رقابت استفاده می کنند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entury Schoolbook"/>
              </a:rPr>
              <a:t>مدل توسعه : 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سازمان ها مدل توسعه را برای گسترش کسب و کار خود به بازارهای جدید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 مسیرهای جدید کسب و کار و یا مکان های جدید استفاده می کنند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entury Schoolbook"/>
              </a:rPr>
              <a:t>مدل سفر: 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سازمان ها از مدل سفر استفاده می کنند تا مدل های کسب و کار خود را به طور کامل نوسازی کنند و منطق عملیاتی جدیید را بپذیرند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C4B3-919A-4E8A-AD7C-FC73A8BAA5D2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2110"/>
                </a:solidFill>
                <a:latin typeface="Century Schoolbook"/>
              </a:rPr>
              <a:t>OSTERWALDER</a:t>
            </a:r>
            <a:r>
              <a:rPr b="0" lang="en-US" sz="2000" spc="-1" strike="noStrike">
                <a:solidFill>
                  <a:srgbClr val="862110"/>
                </a:solidFill>
                <a:latin typeface="Century Schoolbook"/>
              </a:rPr>
              <a:t> </a:t>
            </a:r>
            <a:r>
              <a:rPr b="0" lang="fa-IR" sz="2000" spc="-1" strike="noStrike">
                <a:solidFill>
                  <a:srgbClr val="862110"/>
                </a:solidFill>
                <a:latin typeface="Century Schoolbook"/>
              </a:rPr>
              <a:t> و </a:t>
            </a:r>
            <a:r>
              <a:rPr b="0" lang="en-US" sz="2000" spc="-1" strike="noStrike">
                <a:solidFill>
                  <a:srgbClr val="862110"/>
                </a:solidFill>
                <a:latin typeface="Century Schoolbook"/>
              </a:rPr>
              <a:t>PIGNEURE</a:t>
            </a:r>
            <a:r>
              <a:rPr b="0" lang="en-US" sz="2000" spc="-1" strike="noStrike">
                <a:solidFill>
                  <a:srgbClr val="862110"/>
                </a:solidFill>
                <a:latin typeface="Century Schoolbook"/>
              </a:rPr>
              <a:t> </a:t>
            </a:r>
            <a:r>
              <a:rPr b="0" lang="fa-IR" sz="2000" spc="-1" strike="noStrike">
                <a:solidFill>
                  <a:srgbClr val="862110"/>
                </a:solidFill>
                <a:latin typeface="Century Schoolbook"/>
              </a:rPr>
              <a:t> مدل کسب و کار را اینگونه تعریف می کنند: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دل کسب و کار مفهومی است و حاوی مجموعه ای از عناصر و روابط بین آنهاست که می تواند پیکربندی شود تا منطق کسب و کار سازمان خاصی را بیان کند . مدل کسب و کار ، ارزش پیشنهاد شده به بخش های مختلف مشتریان و معماری سازمان و شبکه شرکا برای ایجاد ، بازاریابی و تحویل این ارزش و سرمایه فکری برای تولید جریانهای درآمدی پایدار و سودآوررا توصیف می ک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62EA-84FA-4913-8FFC-EE8AFDD33BF0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1" dur="2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862110"/>
                </a:solidFill>
                <a:latin typeface="Century Schoolbook"/>
              </a:rPr>
              <a:t>9</a:t>
            </a:r>
            <a:r>
              <a:rPr b="0" lang="fa-IR" sz="3000" spc="-1" strike="noStrike">
                <a:solidFill>
                  <a:srgbClr val="862110"/>
                </a:solidFill>
                <a:latin typeface="Century Schoolbook"/>
              </a:rPr>
              <a:t>بلوک سازنده اصلی مدل کسب و کار را تعیین می کنند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Century Schoolbook"/>
              </a:rPr>
              <a:t>محصولات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Century Schoolbook"/>
              </a:rPr>
              <a:t>رابط مشتری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Century Schoolbook"/>
              </a:rPr>
              <a:t>          مشتری هدف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Century Schoolbook"/>
              </a:rPr>
              <a:t>          کانال توزیع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Century Schoolbook"/>
              </a:rPr>
              <a:t>          رابطه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Century Schoolbook"/>
              </a:rPr>
              <a:t>مدیریت زیر ساخت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Century Schoolbook"/>
              </a:rPr>
              <a:t>          پیکربندی ارزش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Century Schoolbook"/>
              </a:rPr>
              <a:t>          شایستگی محوری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Century Schoolbook"/>
              </a:rPr>
              <a:t>          شبکه شرکا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Century Schoolbook"/>
              </a:rPr>
              <a:t>جوانب مالی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Century Schoolbook"/>
              </a:rPr>
              <a:t>          ساختار هزینه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Century Schoolbook"/>
              </a:rPr>
              <a:t>مدل درآمد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5DAF-750C-489C-AC0F-864C7075AEB9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4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4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862110"/>
                </a:solidFill>
                <a:latin typeface="Century Schoolbook"/>
              </a:rPr>
              <a:t>مدل کسب و کارهای الکترونیکی</a:t>
            </a:r>
            <a:r>
              <a:rPr b="0" lang="fa-IR" sz="3000" spc="-1" strike="noStrike">
                <a:solidFill>
                  <a:srgbClr val="862110"/>
                </a:solidFill>
                <a:latin typeface="Century Schoolbook"/>
              </a:rPr>
              <a:t>	</a:t>
            </a:r>
            <a:r>
              <a:rPr b="0" lang="fa-IR" sz="3000" spc="-1" strike="noStrike">
                <a:solidFill>
                  <a:srgbClr val="862110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755280" y="1557360"/>
            <a:ext cx="69944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با ظهور فناوری های اینترنتی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 تعداد زیادی استراتژی کسب و کار مبتنی بر اینترنت "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ure plye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" و مدل کسب و کار اینترنتی مرتبط ظهور کرده و نیروی اصلی کسب و کار جهانی شده اند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استراتژی کسب و کار مبتنی اینترنت عموما موسوم به استراتژی تجارت الکترونیکی است. استراتژی کسب و کار الکترونیکی توسط استراتژی فناوری اطلاعات اینترنتی فعال می شود. مدل های کسب و کار برای پیاده سازی استراتژی کسب و کار الکترونیکی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 مدل های کسب و کار الکترونیکی نامیده می شوند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در کسب و کار الکترونیکی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 فناوری اطلاعات عامل فعال کننده یا تبدیل کننده روش های جدیدی است که سازمان می تواند توسط آنها خدمات خود را به طور خلاق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 راحت مقرون به صرفه به مشتریان پیشنهاد داده و قدرت را در دستان آنها قرار دهد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2B4A-D8F0-4F0C-83A1-659CEA347776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862110"/>
                </a:solidFill>
                <a:latin typeface="Century Schoolbook"/>
              </a:rPr>
              <a:t>از جنبه های مدل عملیاتی</a:t>
            </a:r>
            <a:r>
              <a:rPr b="0" lang="en-US" sz="1800" spc="-1" strike="noStrike">
                <a:solidFill>
                  <a:srgbClr val="862110"/>
                </a:solidFill>
                <a:latin typeface="Century Schoolbook"/>
              </a:rPr>
              <a:t>, </a:t>
            </a:r>
            <a:r>
              <a:rPr b="0" lang="fa-IR" sz="1800" spc="-1" strike="noStrike">
                <a:solidFill>
                  <a:srgbClr val="862110"/>
                </a:solidFill>
                <a:latin typeface="Century Schoolbook"/>
              </a:rPr>
              <a:t>زیر ساخت فناوری اطلاعات</a:t>
            </a:r>
            <a:r>
              <a:rPr b="0" lang="en-US" sz="1800" spc="-1" strike="noStrike">
                <a:solidFill>
                  <a:srgbClr val="862110"/>
                </a:solidFill>
                <a:latin typeface="Century Schoolbook"/>
              </a:rPr>
              <a:t>,</a:t>
            </a:r>
            <a:r>
              <a:rPr b="0" lang="fa-IR" sz="1800" spc="-1" strike="noStrike">
                <a:solidFill>
                  <a:srgbClr val="862110"/>
                </a:solidFill>
                <a:latin typeface="Century Schoolbook"/>
              </a:rPr>
              <a:t> منبع درآمد و عوامل حیاتی موفقیت را مرور می کنیم : </a:t>
            </a:r>
            <a:br>
              <a:rPr sz="18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6840" y="1600200"/>
            <a:ext cx="7427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fa-IR" sz="1600" spc="-1" strike="noStrike">
                <a:solidFill>
                  <a:srgbClr val="000000"/>
                </a:solidFill>
                <a:latin typeface="Century Schoolbook"/>
              </a:rPr>
              <a:t>- فروش مستقیم به مشتری: </a:t>
            </a:r>
            <a:r>
              <a:rPr b="0" lang="fa-IR" sz="1600" spc="-1" strike="noStrike">
                <a:solidFill>
                  <a:srgbClr val="000000"/>
                </a:solidFill>
                <a:latin typeface="Century Schoolbook"/>
              </a:rPr>
              <a:t>مشخصه متمایز این مدل این است که خریدار و فروشنده مستقیم ارتباط برقرار می کنند و نه با واسطه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entury Schoolbook"/>
              </a:rPr>
              <a:t>زیر ساخت.</a:t>
            </a:r>
            <a:r>
              <a:rPr b="0" lang="fa-IR" sz="1600" spc="-1" strike="noStrike">
                <a:solidFill>
                  <a:srgbClr val="000000"/>
                </a:solidFill>
                <a:latin typeface="Century Schoolbook"/>
              </a:rPr>
              <a:t> مدل مستقیم به مشتری مستلزم اتصال الکترونیکی گسترده با مشتری از جمله سیستم های پرداخت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online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1600" spc="-1" strike="noStrike">
                <a:solidFill>
                  <a:srgbClr val="000000"/>
                </a:solidFill>
                <a:latin typeface="Century Schoolbook"/>
              </a:rPr>
              <a:t>است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entury Schoolbook"/>
              </a:rPr>
              <a:t>منابع درآمد.</a:t>
            </a:r>
            <a:r>
              <a:rPr b="0" lang="fa-IR" sz="1600" spc="-1" strike="noStrike">
                <a:solidFill>
                  <a:srgbClr val="000000"/>
                </a:solidFill>
                <a:latin typeface="Century Schoolbook"/>
              </a:rPr>
              <a:t> منابع اصلی درآمد در این مدل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fa-IR" sz="1600" spc="-1" strike="noStrike">
                <a:solidFill>
                  <a:srgbClr val="000000"/>
                </a:solidFill>
                <a:latin typeface="Century Schoolbook"/>
              </a:rPr>
              <a:t> معمولا فروش مستقیم به مشتریان است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entury Schoolbook"/>
              </a:rPr>
              <a:t>عوامل بحرانی موفقیت. </a:t>
            </a:r>
            <a:r>
              <a:rPr b="0" lang="fa-IR" sz="1600" spc="-1" strike="noStrike">
                <a:solidFill>
                  <a:srgbClr val="000000"/>
                </a:solidFill>
                <a:latin typeface="Century Schoolbook"/>
              </a:rPr>
              <a:t>عوامل بحرانی موفقیت کارهایی هستند که سازمان باید انجام دهد تا شکوفا شود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fa-IR" sz="1600" spc="-1" strike="noStrike">
                <a:solidFill>
                  <a:srgbClr val="000000"/>
                </a:solidFill>
                <a:latin typeface="Century Schoolbook"/>
              </a:rPr>
              <a:t>- تامین کننده خدمات کامل.</a:t>
            </a:r>
            <a:r>
              <a:rPr b="0" lang="fa-IR" sz="1600" spc="-1" strike="noStrike">
                <a:solidFill>
                  <a:srgbClr val="000000"/>
                </a:solidFill>
                <a:latin typeface="Century Schoolbook"/>
              </a:rPr>
              <a:t> سازمان استفاده کننده از مدل تامین کننده خدمات کامل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fa-IR" sz="1600" spc="-1" strike="noStrike">
                <a:solidFill>
                  <a:srgbClr val="000000"/>
                </a:solidFill>
                <a:latin typeface="Century Schoolbook"/>
              </a:rPr>
              <a:t> پوشش کامل نیازهای مشتری را در حوزه خاصی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fa-IR" sz="1600" spc="-1" strike="noStrike">
                <a:solidFill>
                  <a:srgbClr val="000000"/>
                </a:solidFill>
                <a:latin typeface="Century Schoolbook"/>
              </a:rPr>
              <a:t> به شکل تلفیقی از طریق یک نقطه تماس برآورده می کند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entury Schoolbook"/>
              </a:rPr>
              <a:t>زیر ساخت. </a:t>
            </a:r>
            <a:r>
              <a:rPr b="0" lang="fa-IR" sz="1600" spc="-1" strike="noStrike">
                <a:solidFill>
                  <a:srgbClr val="000000"/>
                </a:solidFill>
                <a:latin typeface="Century Schoolbook"/>
              </a:rPr>
              <a:t>تقریبا همه بنگاه ها در این مدل می خواهند که </a:t>
            </a:r>
            <a:r>
              <a:rPr b="0" lang="fa-IR" sz="1600" spc="-1" strike="noStrike">
                <a:solidFill>
                  <a:srgbClr val="000000"/>
                </a:solidFill>
                <a:latin typeface="Century Schoolbook"/>
              </a:rPr>
              <a:t>100</a:t>
            </a:r>
            <a:r>
              <a:rPr b="0" lang="fa-IR" sz="1600" spc="-1" strike="noStrike">
                <a:solidFill>
                  <a:srgbClr val="000000"/>
                </a:solidFill>
                <a:latin typeface="Century Schoolbook"/>
              </a:rPr>
              <a:t>% کسب و کار مشتریان خود یا حداقل تا حد از آن کسب و کار را بتوانند به طور سود آور مدیریت کنند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fa-IR" sz="1600" spc="-1" strike="noStrike">
                <a:solidFill>
                  <a:srgbClr val="000000"/>
                </a:solidFill>
                <a:latin typeface="Century Schoolbook"/>
              </a:rPr>
              <a:t> به دست می آورند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just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A691-F4C6-48FF-BC6D-41EF56590212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1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6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1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6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1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6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995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5a160b"/>
                </a:solidFill>
                <a:latin typeface="Century Schoolbook"/>
              </a:rPr>
              <a:t>فصل اول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4000" spc="-1" strike="noStrike">
                <a:solidFill>
                  <a:srgbClr val="000000"/>
                </a:solidFill>
                <a:latin typeface="Century Schoolbook"/>
              </a:rPr>
              <a:t>آنچه در این فصل میخوانیم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نظریه منبع محور سازما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نظریه فعالیت محور ساخت سازما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سازمان بر حسب پیکربندی ارزش آ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دل کسب و کا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مدل های کسب و کار الکترونیک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F2B9-98D0-4B07-8239-65EB58EBC686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5a160b"/>
                </a:solidFill>
                <a:latin typeface="Century Schoolbook"/>
              </a:rPr>
              <a:t>نظریه منبع محور سازمان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بر اساس نظریه منبع محور سازمان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,</a:t>
            </a: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تفاوت کارایی در شرکتها را میتوان به تغییر پذیری در منابع و قابلیتهای سازمان نسبت داد. منابعی که ارزشمند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منحصربفرد وتقلید آنها دشوار است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میتوانند پایه ای را برای مزایای رقابتی سازمان که نتایج مثبتی در پی دارندرا فراهم کنند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یکی از این منابع مهم و غالبا بحرانی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کاربرد سیستم های اطلاعاتی/ فناوری اطلاعات (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/IT</a:t>
            </a: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) در سازمان است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اصل نظریه منبع سازمان متکی بر منابع داخلی در دسترس سازمان است و نه بر فرصت های خارجی و موقعیت های تحمیل شده توسط شرایط صنعت 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8E82-A5FF-4519-A3A5-75B7BA7A02EE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sh dir="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68000" y="105228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entury Schoolbook"/>
              </a:rPr>
              <a:t>نظریه منبع محور سازمان بیان میکند که به منظور ایجاد مزیت رقابتی پایدار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fa-IR" sz="2600" spc="-1" strike="noStrike">
                <a:solidFill>
                  <a:srgbClr val="000000"/>
                </a:solidFill>
                <a:latin typeface="Century Schoolbook"/>
              </a:rPr>
              <a:t>منبع باید ارزش اقتصادی پایدار را فراهم کرده و در حال حاضر کمیاب غیر قابل تقلید و جایگزینی و غیر قابل دستیابی در بازار باشد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entury Schoolbook"/>
              </a:rPr>
              <a:t> این نظریه متکی بر </a:t>
            </a:r>
            <a:r>
              <a:rPr b="0" lang="fa-IR" sz="26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fa-IR" sz="2600" spc="-1" strike="noStrike">
                <a:solidFill>
                  <a:srgbClr val="000000"/>
                </a:solidFill>
                <a:latin typeface="Century Schoolbook"/>
              </a:rPr>
              <a:t>نکته کلیدی است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entury Schoolbook"/>
              </a:rPr>
              <a:t>اول ایکه منابع تعیین کننده کارایی سازمان هستند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entury Schoolbook"/>
              </a:rPr>
              <a:t>دوم اینکه منابع باید کمیاب 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fa-IR" sz="2600" spc="-1" strike="noStrike">
                <a:solidFill>
                  <a:srgbClr val="000000"/>
                </a:solidFill>
                <a:latin typeface="Century Schoolbook"/>
              </a:rPr>
              <a:t>ارزشمند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fa-IR" sz="2600" spc="-1" strike="noStrike">
                <a:solidFill>
                  <a:srgbClr val="000000"/>
                </a:solidFill>
                <a:latin typeface="Century Schoolbook"/>
              </a:rPr>
              <a:t> غیر قابل تقلید و غیر قابل جایگزینی توسط سایر منابع کمیاب باشند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entury Schoolbook"/>
              </a:rPr>
              <a:t> هنگامیکه مورد دوم رخ میدهد مزیت رقابتی ایجاد شده است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entury Schoolbook"/>
              </a:rPr>
              <a:t>کارایی سازمان اساسا بستگی به توانایی آن برای داشتن مزیت رقابتی پایدار متمایز دارد که ناشی از مالکیت منابع مختص سازمان است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B8BC-9873-4395-8815-61489E81600E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نظریه منبع محور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چشم انداز مفیدی در مدیریت استراتژیک است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این نظریه نشان می دهد که انواع منابع به احتمال قوی منابع مزیت رقابتی مهم برای سازمان ها هستند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همچنین این نظریه از موجودیت در صنعت برای کنترل سازمان بر گروه هایی از منابع انسانی سازمانی مکانی و مهارت هایی که استراتژی های ارزش آفرینی منحصربفرد را ممکن می سازند بهره برداری می کند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02A1-9A5C-44CA-A4F9-A72EA80630D4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 شاخه ی ویژه ای از نظریه منبع محور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نظریه منبع-مزیت است.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نظریه منبع-مزیت نظریه ای نسبتا اجتماعی و نظریه رقابت درونی سازمان است که توسط رشته هایی نظیر اقتصاد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 مدیریت وبازار یابی بکار می رود. این نظریه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ساختارها وروابط اجتماعی را که بر رقابت و در نتیجه عملکرد مالی تاثیر گذار است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تعیین می کند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F570-FDD6-4F72-86FB-1DF638B4F18A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5a160b"/>
                </a:solidFill>
                <a:latin typeface="Century Schoolbook"/>
              </a:rPr>
              <a:t>منابع فناوری اطلاعات سازمان را می توان به </a:t>
            </a:r>
            <a:r>
              <a:rPr b="0" lang="fa-IR" sz="2800" spc="-1" strike="noStrike">
                <a:solidFill>
                  <a:srgbClr val="5a160b"/>
                </a:solidFill>
                <a:latin typeface="Century Schoolbook"/>
              </a:rPr>
              <a:t>3</a:t>
            </a:r>
            <a:r>
              <a:rPr b="0" lang="fa-IR" sz="2800" spc="-1" strike="noStrike">
                <a:solidFill>
                  <a:srgbClr val="5a160b"/>
                </a:solidFill>
                <a:latin typeface="Century Schoolbook"/>
              </a:rPr>
              <a:t> نوع فرایند تقسیم کرد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← </a:t>
            </a:r>
            <a:r>
              <a:rPr b="1" lang="fa-IR" sz="2000" spc="-1" strike="noStrike">
                <a:solidFill>
                  <a:srgbClr val="000000"/>
                </a:solidFill>
                <a:latin typeface="Century Schoolbook"/>
              </a:rPr>
              <a:t>منابع درونی- برونی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: منابع درونی – برونی از داخل شرکت و در پاسخ به نیازمندی ها و فرصت های بازار استفاده می شوند وتمایل به تمرکز داخلی دارند. این منابع شامل زیرساخت سیستم اطلاعاتی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 مهارت های فنی سیستم اطلاعاتی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, 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توسعه سیستم اطلاعاتی و اقدامات سیستم اطلاعاتی مقرون به صرفه هستند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← </a:t>
            </a:r>
            <a:r>
              <a:rPr b="1" lang="fa-IR" sz="2000" spc="-1" strike="noStrike">
                <a:solidFill>
                  <a:srgbClr val="000000"/>
                </a:solidFill>
                <a:latin typeface="Century Schoolbook"/>
              </a:rPr>
              <a:t>منابع برونی – درونی 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: منابع برونی – درونی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خارجی محور بوده و تاکید بر نیازمندی های بازار پیش بینی شده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ایجادروابط بادوام با مشتریان و درک رقبا دارد.این منابع شامل 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مورد زیر است: مدیریت روابط خارجی که نمایانگر توانایی سازمان برای مدیریت ارتباط بین کارکرد فناوری اطلاعات و ذینفعان خارج از سازمان است و همچنین پاسخگویی به بازار که نمایانگر توانایی سازمان برای درک تغییرات بازار خارجی و پاسخ انعطاف پذیر و سریع است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entury Schoolbook"/>
              </a:rPr>
              <a:t>← منابع پوشا : 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</a:rPr>
              <a:t>شامل تحلیل داخلی و خارجی برای ادغام منابع درونی –برونی و برونی – درونی سازمان مورد نیاز هستند. منابع پوشا شاملََ مشارکت های کسب و کار و برنامه ریزی سیستم اطلاعاتی و مدیریت تغییر هستند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E382-250D-4A58-8CD8-41A6F9E4EFF9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randomBar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5a160b"/>
                </a:solidFill>
                <a:latin typeface="Century Schoolbook"/>
              </a:rPr>
              <a:t>نظریه فعالیت محور سازمان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39640" y="1915920"/>
            <a:ext cx="771552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نظریه فعالیت محور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سازمان را بعنوان دسته ای از فعالیت ها در نظر میگیرد. این نظریه متمرکز بر جریانات منابع در فعالیت ها بوده و تاکید آن بر تاثیر کارکرد تولید سازمان بر ارزش آفرینی است و این در حالیست که توجه کمتری به تفاوت در موجودی های منابع دارد. درین نظریه بطور ضمنی فرض میشود که همه ی ورودی های ضروری ( منابع )را میتوان از بازار کسب کرد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F5BF-340A-401D-ABF0-2746B4BF2C21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plit dir="out" orient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07:54:03Z</dcterms:created>
  <dc:creator>Aria</dc:creator>
  <dc:description/>
  <dc:language>en-US</dc:language>
  <cp:lastModifiedBy>cabir soft</cp:lastModifiedBy>
  <dcterms:modified xsi:type="dcterms:W3CDTF">2011-06-12T19:53:50Z</dcterms:modified>
  <cp:revision>52</cp:revision>
  <dc:subject/>
  <dc:title>به نام خدا</dc:title>
</cp:coreProperties>
</file>