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t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t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tr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t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B92E-6F1E-4718-82CD-D4E6EABD2AD6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329F-F38A-4A62-9E64-E45B779C1D6D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D5D-6E7D-4BE1-AC4F-6B6579D6505C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AF31-DF44-4781-B1F7-9EA7AA29D005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D73F-2BEC-4C43-BAD9-1C1B65BDBB08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D28A-E0F9-40FC-B6F4-ED62DF98C43D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95F-E642-418A-910B-4EE148087235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9DB3-CDCF-474E-B0EC-FD9E1ABB7D46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38D-82D7-49CC-A094-7C03456459BA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C50E-B221-4FD7-88C1-69EC1EC93210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FB01-A4CD-4876-A4BE-CF2FE02A1581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A2EF-2F87-441D-929F-8FBCAAF36BCE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ABA3-F3B7-4B07-ADBE-72E9030B5F4F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289F-F146-4EB6-8A18-A57DC31203C2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2D8-0DD3-42E0-A873-F4A9A3C7D376}" type="slidenum">
              <a:rPr b="0" lang="ar-SA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91A-93DE-418F-B90D-FC8A0955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274-49F4-46F0-8C5C-B0D31FCD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A6C-B148-45B5-B1B1-90E14328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2E8-E368-4215-B70B-BB392718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078-07CA-460C-99AC-BC05E63E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5BC-275A-4EE0-9215-2522347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5EB-94E8-4766-B0E3-13FD370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8D3-8FE2-4A4B-9567-1F4F6E6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8EE-3B3D-40C5-B758-8814AA3A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B7C-76C3-4089-990E-E46F766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8A0-A588-44AE-8A3B-466688E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878-5F9D-4CBE-939B-FB04A1D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t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t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t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t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t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A7EC-44EC-4323-95BF-E0E8AB53C731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tr"/>
                <a:cs typeface="Zar"/>
              </a:rPr>
              <a:t>برنامه‌ريزي استراتژيک</a:t>
            </a: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tr"/>
                <a:cs typeface="Zar"/>
              </a:rPr>
              <a:t>مدل و فرآيند کلان برنامه‌ريزي راهبردي فناوري اطلاعات در سازمان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tr"/>
                <a:cs typeface="Zar"/>
              </a:rPr>
              <a:t>مراحل کلي تجزيه و تحليل و برنامه‌ريزي راهبردي سيستم‌هاي فناوري اطلاعات 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تعيين اهداف تغيير در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طراحي و تدوين راهبردهاي تغييرات در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تعيين معماري و ساختار آينده سيستم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طراحي و تدوين برنامه جامع اقدامات براي تغيير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tr"/>
                <a:cs typeface="Zar"/>
              </a:rPr>
              <a:t>برنامه ريزی استراتژيک فناوری اطلاعات</a:t>
            </a:r>
            <a:endParaRPr b="0" lang="en-US" sz="4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Zar"/>
              </a:rPr>
              <a:t>شناخت معماری سيستم فناوری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87F7-02A7-44AC-8F46-E660B1743371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شناخت معماری سيستم فناوری اطلاعات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FCB-EBDE-4383-BD67-50765E354B88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تعريف سيستم فناوري اطلاعات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سازمان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عبارتست از: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راه حلي که از ترکيب سه عنصر سخت‌افزار، نرم‌افزار و شبکه کامپيوتري تشکيل شده است.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براي حل مسائل سازماني و ساير سيستم‌هاي انساني طراحي و بکارگرفته مي‌شود.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مسائل سازماني: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حل مشکلات و معضلات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استفاده از فرصت‌هاي جديد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پاسخگويي به نيازها و انتظارات جديد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FBDA-AAB2-4AB0-89A3-42633CDE2836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اجزاء و ساختار سيستم‌هاي فناوري اطلاعات 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سازمان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37A-6D38-4E8B-96F8-224A101EF87A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الگوي اول در ساختار اجزاء و معماري فناوري اطلاعات 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سازمان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سخت‌افزار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نرم‌افزار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شبکه ارتباطي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سازمان اجرايي - مديريتي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514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0BE-FD9C-46C3-8845-B0DCE17825C5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الگوي دوم در ساختار اجزاء و معماري فناوري اطلاعات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سازمان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pic>
        <p:nvPicPr>
          <p:cNvPr id="132" name="Diagram 5" descr=""/>
          <p:cNvPicPr/>
          <p:nvPr/>
        </p:nvPicPr>
        <p:blipFill>
          <a:blip r:embed="rId1"/>
          <a:stretch/>
        </p:blipFill>
        <p:spPr>
          <a:xfrm>
            <a:off x="493560" y="1481040"/>
            <a:ext cx="8205840" cy="5072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E13-AC2B-415F-9D80-EB11F1583BC4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پيکره‌بندي و معماري کلان سيستم‌هاي 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T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pic>
        <p:nvPicPr>
          <p:cNvPr id="135" name="Diagram 4" descr=""/>
          <p:cNvPicPr/>
          <p:nvPr/>
        </p:nvPicPr>
        <p:blipFill>
          <a:blip r:embed="rId1"/>
          <a:stretch/>
        </p:blipFill>
        <p:spPr>
          <a:xfrm>
            <a:off x="450720" y="1494000"/>
            <a:ext cx="82965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اجزاي زيرساخت فناوري اطلاعات سيستم‌هاي 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EC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pic>
        <p:nvPicPr>
          <p:cNvPr id="137" name="Diagram 4" descr=""/>
          <p:cNvPicPr/>
          <p:nvPr/>
        </p:nvPicPr>
        <p:blipFill>
          <a:blip r:embed="rId1"/>
          <a:stretch/>
        </p:blipFill>
        <p:spPr>
          <a:xfrm>
            <a:off x="493560" y="1481040"/>
            <a:ext cx="820584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ea typeface="Nazan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pic>
        <p:nvPicPr>
          <p:cNvPr id="139" name="Diagram 3" descr=""/>
          <p:cNvPicPr/>
          <p:nvPr/>
        </p:nvPicPr>
        <p:blipFill>
          <a:blip r:embed="rId1"/>
          <a:stretch/>
        </p:blipFill>
        <p:spPr>
          <a:xfrm>
            <a:off x="208080" y="109440"/>
            <a:ext cx="88027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مدل و فرآيند کلان برنامه‌ريزي راهبردي فناوري اطلاعات در سازمان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الگوي دوم در ساختار اجزاء و معماري فناوري اطلاعات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سازمان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بستر فناوري اطلاعات سازمان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امانه‌هاي کاربري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2" marL="1314360" indent="-51408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سخت‌افزار ايستگاه‌هاي کاربري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314360" indent="-51408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نرم‌افزار ايستگاه‌هاي کاربري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3" marL="1771560" indent="-514080" algn="r" rtl="1">
              <a:spcBef>
                <a:spcPts val="499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tr"/>
                <a:cs typeface="Nazanin"/>
              </a:rPr>
              <a:t>سيستم عامل ايستگاه‌هاي کاربري</a:t>
            </a:r>
            <a:endParaRPr b="0" lang="en-US" sz="2000" spc="-1" strike="noStrike">
              <a:solidFill>
                <a:srgbClr val="000000"/>
              </a:solidFill>
              <a:latin typeface="Titr"/>
            </a:endParaRPr>
          </a:p>
          <a:p>
            <a:pPr lvl="3" marL="1771560" indent="-514080" algn="r" rtl="1">
              <a:spcBef>
                <a:spcPts val="499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tr"/>
                <a:cs typeface="Nazanin"/>
              </a:rPr>
              <a:t>کاربردهاي ايستگاه‌هاي کاربري</a:t>
            </a:r>
            <a:endParaRPr b="0" lang="en-US" sz="2000" spc="-1" strike="noStrike">
              <a:solidFill>
                <a:srgbClr val="000000"/>
              </a:solidFill>
              <a:latin typeface="Titr"/>
            </a:endParaRPr>
          </a:p>
          <a:p>
            <a:pPr lvl="3" marL="1771560" indent="-514080" algn="r" rtl="1">
              <a:spcBef>
                <a:spcPts val="499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tr"/>
                <a:cs typeface="Nazanin"/>
              </a:rPr>
              <a:t>ساير نرم‌افزارهاي ايستگاه‌هاي کاربري</a:t>
            </a:r>
            <a:endParaRPr b="0" lang="en-US" sz="2000" spc="-1" strike="noStrike">
              <a:solidFill>
                <a:srgbClr val="000000"/>
              </a:solidFill>
              <a:latin typeface="Titr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شبکه ارتباطي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2" marL="1314360" indent="-51408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خطوط ارتباط و انتقال داده‌ها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314360" indent="-51408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تجهيزات ارتباط و انتقال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078-E253-4B88-8F5A-AAD109B101CD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الگوي دوم در ساختار اجزاء و معماري فناوري اطلاعات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سازمان- ادامه 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امانه‌هاي سرويس‌دهنده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2" marL="1314360" indent="-51408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سخت‌افزار سرويس‌دهنده‌ها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314360" indent="-514080" algn="r" rtl="1"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نرم‌افزار سرويس‌دهنده‌ها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3" marL="1771560" indent="-514080" algn="r" rtl="1">
              <a:spcBef>
                <a:spcPts val="499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tr"/>
                <a:cs typeface="Nazanin"/>
              </a:rPr>
              <a:t>سيستم عامل سرويس دهنده‌ها</a:t>
            </a:r>
            <a:endParaRPr b="0" lang="en-US" sz="2000" spc="-1" strike="noStrike">
              <a:solidFill>
                <a:srgbClr val="000000"/>
              </a:solidFill>
              <a:latin typeface="Titr"/>
            </a:endParaRPr>
          </a:p>
          <a:p>
            <a:pPr lvl="3" marL="1771560" indent="-514080" algn="r" rtl="1">
              <a:spcBef>
                <a:spcPts val="499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tr"/>
                <a:cs typeface="Nazanin"/>
              </a:rPr>
              <a:t>نرم افزارهاي سرويس دهنده</a:t>
            </a:r>
            <a:endParaRPr b="0" lang="en-US" sz="2000" spc="-1" strike="noStrike">
              <a:solidFill>
                <a:srgbClr val="000000"/>
              </a:solidFill>
              <a:latin typeface="Titr"/>
            </a:endParaRPr>
          </a:p>
          <a:p>
            <a:pPr lvl="3" marL="1771560" indent="-514080" algn="r" rtl="1">
              <a:spcBef>
                <a:spcPts val="499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tr"/>
                <a:cs typeface="Nazanin"/>
              </a:rPr>
              <a:t>ساير نرم‌افزارها</a:t>
            </a:r>
            <a:endParaRPr b="0" lang="en-US" sz="20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E600-A6D7-45F0-8E4A-9E8DD3BE0F2C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الگوي دوم در ساختار اجزاء و معماري فناوري اطلاعات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IS/IT</a:t>
            </a:r>
            <a:r>
              <a:rPr b="1" lang="en-US" sz="3600" spc="-1" strike="noStrike">
                <a:solidFill>
                  <a:srgbClr val="000000"/>
                </a:solidFill>
                <a:latin typeface="Titr"/>
                <a:ea typeface="Zar"/>
              </a:rPr>
              <a:t>) </a:t>
            </a:r>
            <a:r>
              <a:rPr b="1" lang="fa-IR" sz="3600" spc="-1" strike="noStrike">
                <a:solidFill>
                  <a:srgbClr val="000000"/>
                </a:solidFill>
                <a:latin typeface="Titr"/>
                <a:ea typeface="Zar"/>
              </a:rPr>
              <a:t> سازمان - ادامه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478080" indent="-478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سيستم‌هاي اطلاعاتي کاربردي سازمان (نرم‌افزارها) 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يستم‌هاي اطلاعاتي عملياتي – پردازش تراکنش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يستم‌هاي اطلاعاتي مديري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يستم‌هاي پشتيباني تصميم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يستم‌هاي خبره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اير سيستم‌ها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marL="478080" indent="-478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سازمان اجرايي – مديريتي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معماري کلان و مفهومي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850320" indent="-478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معماري عملياتی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marL="478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2E43-FC5E-44B1-A426-F4F3A8D2C1B7}" type="slidenum">
              <a:rPr b="0" lang="ar-SA" sz="14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tr"/>
              </a:rPr>
              <a:t>نمودار مفهومي تغيير وضعيت سيستم‌هاي سازماني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179280" y="2421000"/>
            <a:ext cx="3600720" cy="352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4" name="Oval 19"/>
          <p:cNvSpPr/>
          <p:nvPr/>
        </p:nvSpPr>
        <p:spPr>
          <a:xfrm>
            <a:off x="1042920" y="4149720"/>
            <a:ext cx="1871640" cy="17287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5" name="Oval 20"/>
          <p:cNvSpPr/>
          <p:nvPr/>
        </p:nvSpPr>
        <p:spPr>
          <a:xfrm>
            <a:off x="1403280" y="4799160"/>
            <a:ext cx="107964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6" name="Oval 26"/>
          <p:cNvSpPr/>
          <p:nvPr/>
        </p:nvSpPr>
        <p:spPr>
          <a:xfrm>
            <a:off x="5292720" y="2492280"/>
            <a:ext cx="3600360" cy="352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6156360" y="4221000"/>
            <a:ext cx="1871640" cy="1729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516720" y="4870440"/>
            <a:ext cx="107964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cxnSp>
        <p:nvCxnSpPr>
          <p:cNvPr id="59" name="AutoShape 33"/>
          <p:cNvCxnSpPr>
            <a:stCxn id="53" idx="0"/>
            <a:endCxn id="56" idx="0"/>
          </p:cNvCxnSpPr>
          <p:nvPr/>
        </p:nvCxnSpPr>
        <p:spPr>
          <a:xfrm flipH="1" rot="16200000">
            <a:off x="4500360" y="-110880"/>
            <a:ext cx="72360" cy="5114160"/>
          </a:xfrm>
          <a:prstGeom prst="curvedConnector5">
            <a:avLst>
              <a:gd name="adj1" fmla="val -597500"/>
              <a:gd name="adj2" fmla="val 49996"/>
              <a:gd name="adj3" fmla="val -5975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34"/>
          <p:cNvCxnSpPr>
            <a:stCxn id="54" idx="0"/>
            <a:endCxn id="57" idx="0"/>
          </p:cNvCxnSpPr>
          <p:nvPr/>
        </p:nvCxnSpPr>
        <p:spPr>
          <a:xfrm flipH="1" rot="16200000">
            <a:off x="4500360" y="1613160"/>
            <a:ext cx="72360" cy="5114160"/>
          </a:xfrm>
          <a:prstGeom prst="curvedConnector5">
            <a:avLst>
              <a:gd name="adj1" fmla="val -1366500"/>
              <a:gd name="adj2" fmla="val 49996"/>
              <a:gd name="adj3" fmla="val -1366500"/>
            </a:avLst>
          </a:prstGeom>
          <a:ln w="158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1" name="AutoShape 35"/>
          <p:cNvCxnSpPr>
            <a:stCxn id="55" idx="0"/>
            <a:endCxn id="58" idx="0"/>
          </p:cNvCxnSpPr>
          <p:nvPr/>
        </p:nvCxnSpPr>
        <p:spPr>
          <a:xfrm flipH="1" rot="16200000">
            <a:off x="4464000" y="2259000"/>
            <a:ext cx="72000" cy="5113800"/>
          </a:xfrm>
          <a:prstGeom prst="curvedConnector5">
            <a:avLst>
              <a:gd name="adj1" fmla="val -915075"/>
              <a:gd name="adj2" fmla="val 50000"/>
              <a:gd name="adj3" fmla="val -915075"/>
            </a:avLst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Rectangle 66"/>
          <p:cNvSpPr/>
          <p:nvPr/>
        </p:nvSpPr>
        <p:spPr>
          <a:xfrm>
            <a:off x="1042920" y="6237360"/>
            <a:ext cx="1871640" cy="4316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3" name="Rectangle 67"/>
          <p:cNvSpPr/>
          <p:nvPr/>
        </p:nvSpPr>
        <p:spPr>
          <a:xfrm>
            <a:off x="6227640" y="6237360"/>
            <a:ext cx="1871640" cy="4316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cxnSp>
        <p:nvCxnSpPr>
          <p:cNvPr id="64" name="AutoShape 68"/>
          <p:cNvCxnSpPr>
            <a:stCxn id="62" idx="3"/>
            <a:endCxn id="63" idx="1"/>
          </p:cNvCxnSpPr>
          <p:nvPr/>
        </p:nvCxnSpPr>
        <p:spPr>
          <a:xfrm>
            <a:off x="2924280" y="6453000"/>
            <a:ext cx="3294720" cy="1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5" name="Rectangle 79"/>
          <p:cNvSpPr/>
          <p:nvPr/>
        </p:nvSpPr>
        <p:spPr>
          <a:xfrm>
            <a:off x="611280" y="3284640"/>
            <a:ext cx="1152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6" name="Rectangle 91"/>
          <p:cNvSpPr/>
          <p:nvPr/>
        </p:nvSpPr>
        <p:spPr>
          <a:xfrm>
            <a:off x="7236000" y="3213000"/>
            <a:ext cx="115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7" name="Ink 22"/>
          <p:cNvSpPr/>
          <p:nvPr/>
        </p:nvSpPr>
        <p:spPr>
          <a:xfrm>
            <a:off x="1414440" y="2581200"/>
            <a:ext cx="874800" cy="397080"/>
          </a:xfrm>
          <a:custGeom>
            <a:avLst/>
            <a:gdLst/>
            <a:ahLst/>
            <a:rect l="l" t="t" r="r" b="b"/>
            <a:pathLst>
              <a:path w="2428" h="1100">
                <a:moveTo>
                  <a:pt x="6294" y="6282"/>
                </a:moveTo>
                <a:cubicBezTo>
                  <a:pt x="6282" y="6253"/>
                  <a:pt x="6257" y="6234"/>
                  <a:pt x="6304" y="6213"/>
                </a:cubicBezTo>
                <a:cubicBezTo>
                  <a:pt x="6319" y="6206"/>
                  <a:pt x="6354" y="6210"/>
                  <a:pt x="6357" y="6232"/>
                </a:cubicBezTo>
                <a:cubicBezTo>
                  <a:pt x="6360" y="6261"/>
                  <a:pt x="6325" y="6280"/>
                  <a:pt x="6309" y="6299"/>
                </a:cubicBezTo>
                <a:cubicBezTo>
                  <a:pt x="6287" y="6326"/>
                  <a:pt x="6260" y="6346"/>
                  <a:pt x="6234" y="6369"/>
                </a:cubicBezTo>
                <a:cubicBezTo>
                  <a:pt x="6200" y="6400"/>
                  <a:pt x="6163" y="6429"/>
                  <a:pt x="6130" y="6461"/>
                </a:cubicBezTo>
                <a:cubicBezTo>
                  <a:pt x="6127" y="6465"/>
                  <a:pt x="6123" y="6469"/>
                  <a:pt x="6120" y="6473"/>
                </a:cubicBezTo>
                <a:cubicBezTo>
                  <a:pt x="6161" y="6468"/>
                  <a:pt x="6203" y="6461"/>
                  <a:pt x="6245" y="6458"/>
                </a:cubicBezTo>
                <a:cubicBezTo>
                  <a:pt x="6266" y="6456"/>
                  <a:pt x="6344" y="6448"/>
                  <a:pt x="6353" y="6479"/>
                </a:cubicBezTo>
                <a:cubicBezTo>
                  <a:pt x="6362" y="6510"/>
                  <a:pt x="6336" y="6532"/>
                  <a:pt x="6314" y="6551"/>
                </a:cubicBezTo>
                <a:cubicBezTo>
                  <a:pt x="6287" y="6575"/>
                  <a:pt x="6245" y="6592"/>
                  <a:pt x="6212" y="6605"/>
                </a:cubicBezTo>
                <a:cubicBezTo>
                  <a:pt x="6171" y="6621"/>
                  <a:pt x="6131" y="6630"/>
                  <a:pt x="6087" y="6630"/>
                </a:cubicBezTo>
                <a:cubicBezTo>
                  <a:pt x="6054" y="6630"/>
                  <a:pt x="6031" y="6627"/>
                  <a:pt x="6007" y="6604"/>
                </a:cubicBezTo>
                <a:cubicBezTo>
                  <a:pt x="5984" y="6582"/>
                  <a:pt x="5998" y="6559"/>
                  <a:pt x="5999" y="6534"/>
                </a:cubicBezTo>
                <a:cubicBezTo>
                  <a:pt x="5970" y="6566"/>
                  <a:pt x="5944" y="6594"/>
                  <a:pt x="5907" y="6619"/>
                </a:cubicBezTo>
                <a:cubicBezTo>
                  <a:pt x="5871" y="6643"/>
                  <a:pt x="5830" y="6662"/>
                  <a:pt x="5790" y="6678"/>
                </a:cubicBezTo>
                <a:cubicBezTo>
                  <a:pt x="5730" y="6702"/>
                  <a:pt x="5616" y="6740"/>
                  <a:pt x="5559" y="6687"/>
                </a:cubicBezTo>
                <a:cubicBezTo>
                  <a:pt x="5538" y="6668"/>
                  <a:pt x="5547" y="6640"/>
                  <a:pt x="5554" y="6618"/>
                </a:cubicBezTo>
                <a:cubicBezTo>
                  <a:pt x="5566" y="6580"/>
                  <a:pt x="5606" y="6544"/>
                  <a:pt x="5647" y="6551"/>
                </a:cubicBezTo>
                <a:cubicBezTo>
                  <a:pt x="5677" y="6556"/>
                  <a:pt x="5697" y="6577"/>
                  <a:pt x="5712" y="6601"/>
                </a:cubicBezTo>
                <a:cubicBezTo>
                  <a:pt x="5731" y="6632"/>
                  <a:pt x="5719" y="6651"/>
                  <a:pt x="5693" y="6671"/>
                </a:cubicBezTo>
                <a:cubicBezTo>
                  <a:pt x="5654" y="6702"/>
                  <a:pt x="5580" y="6709"/>
                  <a:pt x="5533" y="6718"/>
                </a:cubicBezTo>
                <a:cubicBezTo>
                  <a:pt x="5492" y="6726"/>
                  <a:pt x="5450" y="6732"/>
                  <a:pt x="5408" y="6733"/>
                </a:cubicBezTo>
                <a:cubicBezTo>
                  <a:pt x="5386" y="6733"/>
                  <a:pt x="5343" y="6744"/>
                  <a:pt x="5355" y="6711"/>
                </a:cubicBezTo>
                <a:cubicBezTo>
                  <a:pt x="5378" y="6707"/>
                  <a:pt x="5386" y="6706"/>
                  <a:pt x="5402" y="6704"/>
                </a:cubicBezTo>
              </a:path>
              <a:path w="2428" h="1100">
                <a:moveTo>
                  <a:pt x="5474" y="7071"/>
                </a:moveTo>
                <a:cubicBezTo>
                  <a:pt x="5505" y="7065"/>
                  <a:pt x="5536" y="7053"/>
                  <a:pt x="5568" y="7051"/>
                </a:cubicBezTo>
                <a:cubicBezTo>
                  <a:pt x="5606" y="7048"/>
                  <a:pt x="5640" y="7034"/>
                  <a:pt x="5676" y="7030"/>
                </a:cubicBezTo>
                <a:cubicBezTo>
                  <a:pt x="5684" y="7030"/>
                  <a:pt x="5692" y="7031"/>
                  <a:pt x="5700" y="7031"/>
                </a:cubicBezTo>
              </a:path>
              <a:path w="2428" h="1100">
                <a:moveTo>
                  <a:pt x="5715" y="6099"/>
                </a:moveTo>
                <a:cubicBezTo>
                  <a:pt x="5719" y="6073"/>
                  <a:pt x="5721" y="6046"/>
                  <a:pt x="5716" y="6019"/>
                </a:cubicBezTo>
                <a:cubicBezTo>
                  <a:pt x="5712" y="6001"/>
                  <a:pt x="5707" y="5990"/>
                  <a:pt x="5707" y="5972"/>
                </a:cubicBezTo>
                <a:cubicBezTo>
                  <a:pt x="5718" y="5998"/>
                  <a:pt x="5720" y="6020"/>
                  <a:pt x="5721" y="6049"/>
                </a:cubicBezTo>
                <a:cubicBezTo>
                  <a:pt x="5723" y="6110"/>
                  <a:pt x="5718" y="6175"/>
                  <a:pt x="5708" y="6235"/>
                </a:cubicBezTo>
                <a:cubicBezTo>
                  <a:pt x="5702" y="6272"/>
                  <a:pt x="5697" y="6308"/>
                  <a:pt x="5690" y="6344"/>
                </a:cubicBezTo>
              </a:path>
              <a:path w="2428" h="1100">
                <a:moveTo>
                  <a:pt x="5466" y="6408"/>
                </a:moveTo>
                <a:cubicBezTo>
                  <a:pt x="5500" y="6380"/>
                  <a:pt x="5453" y="6435"/>
                  <a:pt x="5444" y="6442"/>
                </a:cubicBezTo>
                <a:cubicBezTo>
                  <a:pt x="5421" y="6462"/>
                  <a:pt x="5398" y="6481"/>
                  <a:pt x="5374" y="6500"/>
                </a:cubicBezTo>
                <a:cubicBezTo>
                  <a:pt x="5337" y="6529"/>
                  <a:pt x="5300" y="6551"/>
                  <a:pt x="5257" y="6570"/>
                </a:cubicBezTo>
                <a:cubicBezTo>
                  <a:pt x="5227" y="6584"/>
                  <a:pt x="5197" y="6594"/>
                  <a:pt x="5164" y="6597"/>
                </a:cubicBezTo>
                <a:cubicBezTo>
                  <a:pt x="5139" y="6599"/>
                  <a:pt x="5114" y="6600"/>
                  <a:pt x="5090" y="6593"/>
                </a:cubicBezTo>
                <a:cubicBezTo>
                  <a:pt x="5064" y="6586"/>
                  <a:pt x="5045" y="6567"/>
                  <a:pt x="5033" y="6543"/>
                </a:cubicBezTo>
                <a:cubicBezTo>
                  <a:pt x="5019" y="6515"/>
                  <a:pt x="5022" y="6490"/>
                  <a:pt x="5028" y="6461"/>
                </a:cubicBezTo>
                <a:cubicBezTo>
                  <a:pt x="5032" y="6439"/>
                  <a:pt x="5047" y="6422"/>
                  <a:pt x="5053" y="6401"/>
                </a:cubicBezTo>
                <a:cubicBezTo>
                  <a:pt x="5060" y="6378"/>
                  <a:pt x="5065" y="6354"/>
                  <a:pt x="5072" y="6331"/>
                </a:cubicBezTo>
                <a:cubicBezTo>
                  <a:pt x="5079" y="6308"/>
                  <a:pt x="5081" y="6284"/>
                  <a:pt x="5087" y="6260"/>
                </a:cubicBezTo>
                <a:cubicBezTo>
                  <a:pt x="5104" y="6275"/>
                  <a:pt x="5100" y="6279"/>
                  <a:pt x="5094" y="6305"/>
                </a:cubicBezTo>
              </a:path>
              <a:path w="2428" h="1100">
                <a:moveTo>
                  <a:pt x="4872" y="6577"/>
                </a:moveTo>
                <a:cubicBezTo>
                  <a:pt x="4882" y="6561"/>
                  <a:pt x="4887" y="6556"/>
                  <a:pt x="4904" y="6547"/>
                </a:cubicBezTo>
                <a:cubicBezTo>
                  <a:pt x="4895" y="6569"/>
                  <a:pt x="4885" y="6591"/>
                  <a:pt x="4869" y="6609"/>
                </a:cubicBezTo>
                <a:cubicBezTo>
                  <a:pt x="4849" y="6631"/>
                  <a:pt x="4830" y="6655"/>
                  <a:pt x="4809" y="6676"/>
                </a:cubicBezTo>
                <a:cubicBezTo>
                  <a:pt x="4791" y="6694"/>
                  <a:pt x="4770" y="6707"/>
                  <a:pt x="4749" y="6721"/>
                </a:cubicBezTo>
                <a:cubicBezTo>
                  <a:pt x="4726" y="6736"/>
                  <a:pt x="4711" y="6736"/>
                  <a:pt x="4684" y="6735"/>
                </a:cubicBezTo>
              </a:path>
              <a:path w="2428" h="1100">
                <a:moveTo>
                  <a:pt x="4979" y="6202"/>
                </a:moveTo>
                <a:cubicBezTo>
                  <a:pt x="4996" y="6174"/>
                  <a:pt x="4994" y="6178"/>
                  <a:pt x="5001" y="6209"/>
                </a:cubicBezTo>
              </a:path>
              <a:path w="2428" h="1100">
                <a:moveTo>
                  <a:pt x="4781" y="6448"/>
                </a:moveTo>
                <a:cubicBezTo>
                  <a:pt x="4797" y="6439"/>
                  <a:pt x="4832" y="6435"/>
                  <a:pt x="4843" y="6423"/>
                </a:cubicBezTo>
                <a:cubicBezTo>
                  <a:pt x="4864" y="6400"/>
                  <a:pt x="4819" y="6370"/>
                  <a:pt x="4806" y="6360"/>
                </a:cubicBezTo>
                <a:cubicBezTo>
                  <a:pt x="4791" y="6348"/>
                  <a:pt x="4774" y="6338"/>
                  <a:pt x="4759" y="6326"/>
                </a:cubicBezTo>
                <a:cubicBezTo>
                  <a:pt x="4752" y="6349"/>
                  <a:pt x="4749" y="6369"/>
                  <a:pt x="4745" y="6392"/>
                </a:cubicBezTo>
                <a:cubicBezTo>
                  <a:pt x="4736" y="6441"/>
                  <a:pt x="4716" y="6487"/>
                  <a:pt x="4692" y="6530"/>
                </a:cubicBezTo>
                <a:cubicBezTo>
                  <a:pt x="4680" y="6552"/>
                  <a:pt x="4660" y="6575"/>
                  <a:pt x="4637" y="6587"/>
                </a:cubicBezTo>
                <a:cubicBezTo>
                  <a:pt x="4613" y="6600"/>
                  <a:pt x="4589" y="6597"/>
                  <a:pt x="4566" y="6580"/>
                </a:cubicBezTo>
                <a:cubicBezTo>
                  <a:pt x="4543" y="6563"/>
                  <a:pt x="4533" y="6536"/>
                  <a:pt x="4528" y="6509"/>
                </a:cubicBezTo>
                <a:cubicBezTo>
                  <a:pt x="4525" y="6493"/>
                  <a:pt x="4521" y="6472"/>
                  <a:pt x="4522" y="6456"/>
                </a:cubicBezTo>
                <a:cubicBezTo>
                  <a:pt x="4523" y="6437"/>
                  <a:pt x="4525" y="6418"/>
                  <a:pt x="4527" y="6399"/>
                </a:cubicBezTo>
                <a:cubicBezTo>
                  <a:pt x="4530" y="6374"/>
                  <a:pt x="4535" y="6350"/>
                  <a:pt x="4538" y="6326"/>
                </a:cubicBezTo>
                <a:cubicBezTo>
                  <a:pt x="4543" y="6292"/>
                  <a:pt x="4550" y="6260"/>
                  <a:pt x="4557" y="6227"/>
                </a:cubicBezTo>
                <a:cubicBezTo>
                  <a:pt x="4563" y="6199"/>
                  <a:pt x="4573" y="6172"/>
                  <a:pt x="4586" y="6147"/>
                </a:cubicBezTo>
                <a:cubicBezTo>
                  <a:pt x="4586" y="6172"/>
                  <a:pt x="4581" y="6192"/>
                  <a:pt x="4575" y="6218"/>
                </a:cubicBezTo>
              </a:path>
              <a:path w="2428" h="1100">
                <a:moveTo>
                  <a:pt x="4418" y="6280"/>
                </a:moveTo>
                <a:cubicBezTo>
                  <a:pt x="4419" y="6259"/>
                  <a:pt x="4420" y="6241"/>
                  <a:pt x="4418" y="6221"/>
                </a:cubicBezTo>
                <a:cubicBezTo>
                  <a:pt x="4420" y="6246"/>
                  <a:pt x="4427" y="6270"/>
                  <a:pt x="4428" y="6295"/>
                </a:cubicBezTo>
                <a:cubicBezTo>
                  <a:pt x="4430" y="6323"/>
                  <a:pt x="4425" y="6352"/>
                  <a:pt x="4421" y="6380"/>
                </a:cubicBezTo>
                <a:cubicBezTo>
                  <a:pt x="4417" y="6409"/>
                  <a:pt x="4408" y="6435"/>
                  <a:pt x="4401" y="6463"/>
                </a:cubicBezTo>
                <a:cubicBezTo>
                  <a:pt x="4393" y="6498"/>
                  <a:pt x="4382" y="6528"/>
                  <a:pt x="4365" y="6559"/>
                </a:cubicBezTo>
                <a:cubicBezTo>
                  <a:pt x="4350" y="6586"/>
                  <a:pt x="4330" y="6614"/>
                  <a:pt x="4307" y="6635"/>
                </a:cubicBezTo>
                <a:cubicBezTo>
                  <a:pt x="4286" y="6654"/>
                  <a:pt x="4260" y="6673"/>
                  <a:pt x="4233" y="6683"/>
                </a:cubicBezTo>
                <a:cubicBezTo>
                  <a:pt x="4195" y="6696"/>
                  <a:pt x="4155" y="6701"/>
                  <a:pt x="4115" y="6699"/>
                </a:cubicBezTo>
                <a:cubicBezTo>
                  <a:pt x="4089" y="6698"/>
                  <a:pt x="4060" y="6694"/>
                  <a:pt x="4035" y="6686"/>
                </a:cubicBezTo>
                <a:cubicBezTo>
                  <a:pt x="4011" y="6678"/>
                  <a:pt x="3989" y="6670"/>
                  <a:pt x="3971" y="6651"/>
                </a:cubicBezTo>
                <a:cubicBezTo>
                  <a:pt x="3951" y="6630"/>
                  <a:pt x="3934" y="6595"/>
                  <a:pt x="3930" y="6566"/>
                </a:cubicBezTo>
                <a:cubicBezTo>
                  <a:pt x="3928" y="6548"/>
                  <a:pt x="3934" y="6521"/>
                  <a:pt x="3941" y="6504"/>
                </a:cubicBezTo>
                <a:cubicBezTo>
                  <a:pt x="3949" y="6484"/>
                  <a:pt x="3968" y="6459"/>
                  <a:pt x="3981" y="6442"/>
                </a:cubicBezTo>
                <a:cubicBezTo>
                  <a:pt x="3999" y="6417"/>
                  <a:pt x="4018" y="6398"/>
                  <a:pt x="4040" y="6377"/>
                </a:cubicBezTo>
                <a:cubicBezTo>
                  <a:pt x="4058" y="6361"/>
                  <a:pt x="4074" y="6343"/>
                  <a:pt x="4095" y="6331"/>
                </a:cubicBezTo>
                <a:cubicBezTo>
                  <a:pt x="4122" y="6315"/>
                  <a:pt x="4114" y="6331"/>
                  <a:pt x="4127" y="6337"/>
                </a:cubicBezTo>
              </a:path>
              <a:path w="2428" h="1100">
                <a:moveTo>
                  <a:pt x="4280" y="6093"/>
                </a:moveTo>
                <a:cubicBezTo>
                  <a:pt x="4280" y="6087"/>
                  <a:pt x="4280" y="6081"/>
                  <a:pt x="4280" y="6075"/>
                </a:cubicBezTo>
                <a:cubicBezTo>
                  <a:pt x="4304" y="6086"/>
                  <a:pt x="4299" y="6103"/>
                  <a:pt x="4304" y="6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8" name="Ink 23"/>
          <p:cNvSpPr/>
          <p:nvPr/>
        </p:nvSpPr>
        <p:spPr>
          <a:xfrm>
            <a:off x="1641600" y="4257720"/>
            <a:ext cx="583920" cy="198360"/>
          </a:xfrm>
          <a:custGeom>
            <a:avLst/>
            <a:gdLst/>
            <a:ahLst/>
            <a:rect l="l" t="t" r="r" b="b"/>
            <a:pathLst>
              <a:path w="1621" h="549">
                <a:moveTo>
                  <a:pt x="6180" y="10187"/>
                </a:moveTo>
                <a:cubicBezTo>
                  <a:pt x="6164" y="10212"/>
                  <a:pt x="6148" y="10229"/>
                  <a:pt x="6123" y="10246"/>
                </a:cubicBezTo>
                <a:cubicBezTo>
                  <a:pt x="6100" y="10261"/>
                  <a:pt x="6074" y="10272"/>
                  <a:pt x="6049" y="10283"/>
                </a:cubicBezTo>
                <a:cubicBezTo>
                  <a:pt x="6010" y="10300"/>
                  <a:pt x="5971" y="10316"/>
                  <a:pt x="5932" y="10331"/>
                </a:cubicBezTo>
                <a:cubicBezTo>
                  <a:pt x="5906" y="10341"/>
                  <a:pt x="5877" y="10350"/>
                  <a:pt x="5850" y="10354"/>
                </a:cubicBezTo>
                <a:cubicBezTo>
                  <a:pt x="5825" y="10358"/>
                  <a:pt x="5797" y="10363"/>
                  <a:pt x="5771" y="10363"/>
                </a:cubicBezTo>
                <a:cubicBezTo>
                  <a:pt x="5751" y="10363"/>
                  <a:pt x="5728" y="10362"/>
                  <a:pt x="5708" y="10360"/>
                </a:cubicBezTo>
                <a:cubicBezTo>
                  <a:pt x="5686" y="10357"/>
                  <a:pt x="5659" y="10348"/>
                  <a:pt x="5648" y="10329"/>
                </a:cubicBezTo>
                <a:cubicBezTo>
                  <a:pt x="5635" y="10307"/>
                  <a:pt x="5639" y="10275"/>
                  <a:pt x="5641" y="10251"/>
                </a:cubicBezTo>
                <a:cubicBezTo>
                  <a:pt x="5643" y="10222"/>
                  <a:pt x="5646" y="10193"/>
                  <a:pt x="5647" y="10164"/>
                </a:cubicBezTo>
                <a:cubicBezTo>
                  <a:pt x="5647" y="10157"/>
                  <a:pt x="5647" y="10080"/>
                  <a:pt x="5651" y="10125"/>
                </a:cubicBezTo>
              </a:path>
              <a:path w="1621" h="549">
                <a:moveTo>
                  <a:pt x="5492" y="10368"/>
                </a:moveTo>
                <a:cubicBezTo>
                  <a:pt x="5495" y="10355"/>
                  <a:pt x="5498" y="10351"/>
                  <a:pt x="5511" y="10357"/>
                </a:cubicBezTo>
                <a:cubicBezTo>
                  <a:pt x="5497" y="10381"/>
                  <a:pt x="5480" y="10403"/>
                  <a:pt x="5463" y="10425"/>
                </a:cubicBezTo>
                <a:cubicBezTo>
                  <a:pt x="5441" y="10453"/>
                  <a:pt x="5413" y="10477"/>
                  <a:pt x="5387" y="10503"/>
                </a:cubicBezTo>
                <a:cubicBezTo>
                  <a:pt x="5366" y="10524"/>
                  <a:pt x="5343" y="10540"/>
                  <a:pt x="5320" y="10558"/>
                </a:cubicBezTo>
                <a:cubicBezTo>
                  <a:pt x="5304" y="10571"/>
                  <a:pt x="5300" y="10576"/>
                  <a:pt x="5286" y="10573"/>
                </a:cubicBezTo>
              </a:path>
              <a:path w="1621" h="549">
                <a:moveTo>
                  <a:pt x="5573" y="10037"/>
                </a:moveTo>
                <a:cubicBezTo>
                  <a:pt x="5584" y="10023"/>
                  <a:pt x="5588" y="10021"/>
                  <a:pt x="5588" y="10047"/>
                </a:cubicBezTo>
              </a:path>
              <a:path w="1621" h="549">
                <a:moveTo>
                  <a:pt x="5359" y="10282"/>
                </a:moveTo>
                <a:cubicBezTo>
                  <a:pt x="5372" y="10255"/>
                  <a:pt x="5375" y="10261"/>
                  <a:pt x="5403" y="10257"/>
                </a:cubicBezTo>
                <a:cubicBezTo>
                  <a:pt x="5433" y="10253"/>
                  <a:pt x="5437" y="10225"/>
                  <a:pt x="5430" y="10200"/>
                </a:cubicBezTo>
                <a:cubicBezTo>
                  <a:pt x="5422" y="10173"/>
                  <a:pt x="5405" y="10150"/>
                  <a:pt x="5388" y="10129"/>
                </a:cubicBezTo>
                <a:cubicBezTo>
                  <a:pt x="5379" y="10153"/>
                  <a:pt x="5372" y="10177"/>
                  <a:pt x="5364" y="10201"/>
                </a:cubicBezTo>
                <a:cubicBezTo>
                  <a:pt x="5355" y="10227"/>
                  <a:pt x="5347" y="10250"/>
                  <a:pt x="5334" y="10274"/>
                </a:cubicBezTo>
                <a:cubicBezTo>
                  <a:pt x="5322" y="10295"/>
                  <a:pt x="5306" y="10316"/>
                  <a:pt x="5289" y="10334"/>
                </a:cubicBezTo>
                <a:cubicBezTo>
                  <a:pt x="5275" y="10349"/>
                  <a:pt x="5255" y="10359"/>
                  <a:pt x="5236" y="10363"/>
                </a:cubicBezTo>
                <a:cubicBezTo>
                  <a:pt x="5207" y="10370"/>
                  <a:pt x="5185" y="10364"/>
                  <a:pt x="5163" y="10343"/>
                </a:cubicBezTo>
                <a:cubicBezTo>
                  <a:pt x="5145" y="10326"/>
                  <a:pt x="5135" y="10305"/>
                  <a:pt x="5133" y="10281"/>
                </a:cubicBezTo>
                <a:cubicBezTo>
                  <a:pt x="5130" y="10247"/>
                  <a:pt x="5138" y="10218"/>
                  <a:pt x="5145" y="10185"/>
                </a:cubicBezTo>
                <a:cubicBezTo>
                  <a:pt x="5149" y="10164"/>
                  <a:pt x="5154" y="10144"/>
                  <a:pt x="5163" y="10125"/>
                </a:cubicBezTo>
                <a:cubicBezTo>
                  <a:pt x="5184" y="10082"/>
                  <a:pt x="5167" y="10134"/>
                  <a:pt x="5163" y="10143"/>
                </a:cubicBezTo>
              </a:path>
              <a:path w="1621" h="549">
                <a:moveTo>
                  <a:pt x="5014" y="10139"/>
                </a:moveTo>
                <a:cubicBezTo>
                  <a:pt x="5015" y="10133"/>
                  <a:pt x="5015" y="10128"/>
                  <a:pt x="5016" y="10122"/>
                </a:cubicBezTo>
                <a:cubicBezTo>
                  <a:pt x="5018" y="10146"/>
                  <a:pt x="5017" y="10145"/>
                  <a:pt x="5016" y="10169"/>
                </a:cubicBezTo>
                <a:cubicBezTo>
                  <a:pt x="5015" y="10192"/>
                  <a:pt x="5015" y="10216"/>
                  <a:pt x="5012" y="10239"/>
                </a:cubicBezTo>
                <a:cubicBezTo>
                  <a:pt x="5008" y="10264"/>
                  <a:pt x="5004" y="10289"/>
                  <a:pt x="4998" y="10314"/>
                </a:cubicBezTo>
                <a:cubicBezTo>
                  <a:pt x="4991" y="10344"/>
                  <a:pt x="4983" y="10375"/>
                  <a:pt x="4968" y="10403"/>
                </a:cubicBezTo>
                <a:cubicBezTo>
                  <a:pt x="4952" y="10433"/>
                  <a:pt x="4926" y="10465"/>
                  <a:pt x="4901" y="10489"/>
                </a:cubicBezTo>
                <a:cubicBezTo>
                  <a:pt x="4883" y="10506"/>
                  <a:pt x="4862" y="10523"/>
                  <a:pt x="4841" y="10535"/>
                </a:cubicBezTo>
                <a:cubicBezTo>
                  <a:pt x="4825" y="10544"/>
                  <a:pt x="4806" y="10554"/>
                  <a:pt x="4788" y="10558"/>
                </a:cubicBezTo>
                <a:cubicBezTo>
                  <a:pt x="4758" y="10564"/>
                  <a:pt x="4720" y="10561"/>
                  <a:pt x="4692" y="10552"/>
                </a:cubicBezTo>
                <a:cubicBezTo>
                  <a:pt x="4673" y="10546"/>
                  <a:pt x="4653" y="10531"/>
                  <a:pt x="4637" y="10520"/>
                </a:cubicBezTo>
                <a:cubicBezTo>
                  <a:pt x="4607" y="10499"/>
                  <a:pt x="4572" y="10470"/>
                  <a:pt x="4563" y="10434"/>
                </a:cubicBezTo>
                <a:cubicBezTo>
                  <a:pt x="4555" y="10402"/>
                  <a:pt x="4567" y="10376"/>
                  <a:pt x="4585" y="10350"/>
                </a:cubicBezTo>
                <a:cubicBezTo>
                  <a:pt x="4608" y="10317"/>
                  <a:pt x="4642" y="10292"/>
                  <a:pt x="4664" y="10257"/>
                </a:cubicBezTo>
                <a:cubicBezTo>
                  <a:pt x="4670" y="10244"/>
                  <a:pt x="4672" y="10239"/>
                  <a:pt x="4680" y="10232"/>
                </a:cubicBezTo>
              </a:path>
              <a:path w="1621" h="549">
                <a:moveTo>
                  <a:pt x="4813" y="10086"/>
                </a:moveTo>
                <a:cubicBezTo>
                  <a:pt x="4820" y="10056"/>
                  <a:pt x="4829" y="10090"/>
                  <a:pt x="4834" y="101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69" name="Ink 24"/>
          <p:cNvSpPr/>
          <p:nvPr/>
        </p:nvSpPr>
        <p:spPr>
          <a:xfrm>
            <a:off x="1685880" y="5008680"/>
            <a:ext cx="669960" cy="188640"/>
          </a:xfrm>
          <a:custGeom>
            <a:avLst/>
            <a:gdLst/>
            <a:ahLst/>
            <a:rect l="l" t="t" r="r" b="b"/>
            <a:pathLst>
              <a:path w="1862" h="526">
                <a:moveTo>
                  <a:pt x="4830" y="12230"/>
                </a:moveTo>
                <a:cubicBezTo>
                  <a:pt x="4828" y="12195"/>
                  <a:pt x="4827" y="12271"/>
                  <a:pt x="4826" y="12275"/>
                </a:cubicBezTo>
                <a:cubicBezTo>
                  <a:pt x="4821" y="12315"/>
                  <a:pt x="4814" y="12355"/>
                  <a:pt x="4809" y="12395"/>
                </a:cubicBezTo>
                <a:cubicBezTo>
                  <a:pt x="4805" y="12429"/>
                  <a:pt x="4798" y="12464"/>
                  <a:pt x="4795" y="12498"/>
                </a:cubicBezTo>
                <a:cubicBezTo>
                  <a:pt x="4795" y="12502"/>
                  <a:pt x="4792" y="12554"/>
                  <a:pt x="4795" y="12517"/>
                </a:cubicBezTo>
                <a:cubicBezTo>
                  <a:pt x="4807" y="12494"/>
                  <a:pt x="4809" y="12475"/>
                  <a:pt x="4812" y="12448"/>
                </a:cubicBezTo>
              </a:path>
              <a:path w="1862" h="526">
                <a:moveTo>
                  <a:pt x="4756" y="12218"/>
                </a:moveTo>
                <a:cubicBezTo>
                  <a:pt x="4782" y="12197"/>
                  <a:pt x="4801" y="12192"/>
                  <a:pt x="4833" y="12182"/>
                </a:cubicBezTo>
                <a:cubicBezTo>
                  <a:pt x="4861" y="12174"/>
                  <a:pt x="4896" y="12160"/>
                  <a:pt x="4925" y="12164"/>
                </a:cubicBezTo>
                <a:cubicBezTo>
                  <a:pt x="4947" y="12167"/>
                  <a:pt x="4965" y="12178"/>
                  <a:pt x="4983" y="12189"/>
                </a:cubicBezTo>
              </a:path>
              <a:path w="1862" h="526">
                <a:moveTo>
                  <a:pt x="4691" y="12592"/>
                </a:moveTo>
                <a:cubicBezTo>
                  <a:pt x="4688" y="12596"/>
                  <a:pt x="4685" y="12601"/>
                  <a:pt x="4682" y="12605"/>
                </a:cubicBezTo>
                <a:cubicBezTo>
                  <a:pt x="4711" y="12597"/>
                  <a:pt x="4739" y="12594"/>
                  <a:pt x="4769" y="12591"/>
                </a:cubicBezTo>
                <a:cubicBezTo>
                  <a:pt x="4797" y="12588"/>
                  <a:pt x="4827" y="12589"/>
                  <a:pt x="4856" y="12588"/>
                </a:cubicBezTo>
                <a:cubicBezTo>
                  <a:pt x="4876" y="12589"/>
                  <a:pt x="4881" y="12589"/>
                  <a:pt x="4893" y="12589"/>
                </a:cubicBezTo>
              </a:path>
              <a:path w="1862" h="526">
                <a:moveTo>
                  <a:pt x="5236" y="12207"/>
                </a:moveTo>
                <a:cubicBezTo>
                  <a:pt x="5256" y="12172"/>
                  <a:pt x="5246" y="12236"/>
                  <a:pt x="5246" y="12255"/>
                </a:cubicBezTo>
                <a:cubicBezTo>
                  <a:pt x="5247" y="12294"/>
                  <a:pt x="5241" y="12332"/>
                  <a:pt x="5236" y="12371"/>
                </a:cubicBezTo>
                <a:cubicBezTo>
                  <a:pt x="5232" y="12405"/>
                  <a:pt x="5225" y="12439"/>
                  <a:pt x="5222" y="12474"/>
                </a:cubicBezTo>
                <a:cubicBezTo>
                  <a:pt x="5218" y="12515"/>
                  <a:pt x="5223" y="12512"/>
                  <a:pt x="5229" y="12473"/>
                </a:cubicBezTo>
              </a:path>
              <a:path w="1862" h="526">
                <a:moveTo>
                  <a:pt x="5097" y="12218"/>
                </a:moveTo>
                <a:cubicBezTo>
                  <a:pt x="5084" y="12196"/>
                  <a:pt x="5098" y="12187"/>
                  <a:pt x="5125" y="12178"/>
                </a:cubicBezTo>
                <a:cubicBezTo>
                  <a:pt x="5168" y="12164"/>
                  <a:pt x="5211" y="12149"/>
                  <a:pt x="5256" y="12140"/>
                </a:cubicBezTo>
                <a:cubicBezTo>
                  <a:pt x="5311" y="12129"/>
                  <a:pt x="5367" y="12125"/>
                  <a:pt x="5423" y="12123"/>
                </a:cubicBezTo>
                <a:cubicBezTo>
                  <a:pt x="5464" y="12121"/>
                  <a:pt x="5503" y="12117"/>
                  <a:pt x="5544" y="12114"/>
                </a:cubicBezTo>
                <a:cubicBezTo>
                  <a:pt x="5563" y="12113"/>
                  <a:pt x="5579" y="12111"/>
                  <a:pt x="5598" y="12111"/>
                </a:cubicBezTo>
              </a:path>
              <a:path w="1862" h="526">
                <a:moveTo>
                  <a:pt x="5668" y="12239"/>
                </a:moveTo>
                <a:cubicBezTo>
                  <a:pt x="5690" y="12246"/>
                  <a:pt x="5675" y="12260"/>
                  <a:pt x="5669" y="12283"/>
                </a:cubicBezTo>
                <a:cubicBezTo>
                  <a:pt x="5659" y="12322"/>
                  <a:pt x="5643" y="12356"/>
                  <a:pt x="5627" y="12393"/>
                </a:cubicBezTo>
                <a:cubicBezTo>
                  <a:pt x="5606" y="12442"/>
                  <a:pt x="5582" y="12488"/>
                  <a:pt x="5556" y="12534"/>
                </a:cubicBezTo>
                <a:cubicBezTo>
                  <a:pt x="5540" y="12563"/>
                  <a:pt x="5522" y="12592"/>
                  <a:pt x="5502" y="12619"/>
                </a:cubicBezTo>
                <a:cubicBezTo>
                  <a:pt x="5498" y="12624"/>
                  <a:pt x="5494" y="12629"/>
                  <a:pt x="5490" y="12634"/>
                </a:cubicBezTo>
              </a:path>
              <a:path w="1862" h="526">
                <a:moveTo>
                  <a:pt x="5982" y="12180"/>
                </a:moveTo>
                <a:cubicBezTo>
                  <a:pt x="5984" y="12209"/>
                  <a:pt x="5982" y="12236"/>
                  <a:pt x="5975" y="12265"/>
                </a:cubicBezTo>
                <a:cubicBezTo>
                  <a:pt x="5964" y="12312"/>
                  <a:pt x="5951" y="12358"/>
                  <a:pt x="5939" y="12404"/>
                </a:cubicBezTo>
                <a:cubicBezTo>
                  <a:pt x="5929" y="12442"/>
                  <a:pt x="5909" y="12482"/>
                  <a:pt x="5904" y="12521"/>
                </a:cubicBezTo>
                <a:cubicBezTo>
                  <a:pt x="5904" y="12540"/>
                  <a:pt x="5904" y="12546"/>
                  <a:pt x="5904" y="12559"/>
                </a:cubicBezTo>
                <a:cubicBezTo>
                  <a:pt x="5924" y="12547"/>
                  <a:pt x="5926" y="12528"/>
                  <a:pt x="5936" y="12503"/>
                </a:cubicBezTo>
                <a:cubicBezTo>
                  <a:pt x="5938" y="12498"/>
                  <a:pt x="5940" y="12493"/>
                  <a:pt x="5942" y="12488"/>
                </a:cubicBezTo>
              </a:path>
              <a:path w="1862" h="526">
                <a:moveTo>
                  <a:pt x="5886" y="12191"/>
                </a:moveTo>
                <a:cubicBezTo>
                  <a:pt x="5905" y="12168"/>
                  <a:pt x="5925" y="12153"/>
                  <a:pt x="5954" y="12148"/>
                </a:cubicBezTo>
                <a:cubicBezTo>
                  <a:pt x="5989" y="12141"/>
                  <a:pt x="6024" y="12134"/>
                  <a:pt x="6060" y="12130"/>
                </a:cubicBezTo>
                <a:cubicBezTo>
                  <a:pt x="6089" y="12126"/>
                  <a:pt x="6127" y="12131"/>
                  <a:pt x="6151" y="12152"/>
                </a:cubicBezTo>
                <a:cubicBezTo>
                  <a:pt x="6162" y="12167"/>
                  <a:pt x="6166" y="12171"/>
                  <a:pt x="6166" y="12184"/>
                </a:cubicBezTo>
              </a:path>
              <a:path w="1862" h="526">
                <a:moveTo>
                  <a:pt x="5861" y="12588"/>
                </a:moveTo>
                <a:cubicBezTo>
                  <a:pt x="5856" y="12589"/>
                  <a:pt x="5850" y="12590"/>
                  <a:pt x="5845" y="12591"/>
                </a:cubicBezTo>
                <a:cubicBezTo>
                  <a:pt x="5872" y="12591"/>
                  <a:pt x="5906" y="12580"/>
                  <a:pt x="5934" y="12573"/>
                </a:cubicBezTo>
                <a:cubicBezTo>
                  <a:pt x="5975" y="12562"/>
                  <a:pt x="6002" y="12550"/>
                  <a:pt x="6044" y="12548"/>
                </a:cubicBezTo>
                <a:cubicBezTo>
                  <a:pt x="6063" y="12546"/>
                  <a:pt x="6070" y="12546"/>
                  <a:pt x="6081" y="12555"/>
                </a:cubicBezTo>
              </a:path>
              <a:path w="1862" h="526">
                <a:moveTo>
                  <a:pt x="6468" y="12228"/>
                </a:moveTo>
                <a:cubicBezTo>
                  <a:pt x="6472" y="12202"/>
                  <a:pt x="6474" y="12179"/>
                  <a:pt x="6465" y="12154"/>
                </a:cubicBezTo>
                <a:cubicBezTo>
                  <a:pt x="6455" y="12126"/>
                  <a:pt x="6424" y="12143"/>
                  <a:pt x="6404" y="12152"/>
                </a:cubicBezTo>
                <a:cubicBezTo>
                  <a:pt x="6377" y="12163"/>
                  <a:pt x="6351" y="12177"/>
                  <a:pt x="6327" y="12193"/>
                </a:cubicBezTo>
                <a:cubicBezTo>
                  <a:pt x="6303" y="12208"/>
                  <a:pt x="6280" y="12226"/>
                  <a:pt x="6304" y="12253"/>
                </a:cubicBezTo>
                <a:cubicBezTo>
                  <a:pt x="6323" y="12274"/>
                  <a:pt x="6351" y="12284"/>
                  <a:pt x="6375" y="12297"/>
                </a:cubicBezTo>
                <a:cubicBezTo>
                  <a:pt x="6400" y="12310"/>
                  <a:pt x="6426" y="12321"/>
                  <a:pt x="6450" y="12336"/>
                </a:cubicBezTo>
                <a:cubicBezTo>
                  <a:pt x="6480" y="12355"/>
                  <a:pt x="6514" y="12382"/>
                  <a:pt x="6533" y="12413"/>
                </a:cubicBezTo>
                <a:cubicBezTo>
                  <a:pt x="6549" y="12438"/>
                  <a:pt x="6544" y="12461"/>
                  <a:pt x="6528" y="12484"/>
                </a:cubicBezTo>
                <a:cubicBezTo>
                  <a:pt x="6509" y="12513"/>
                  <a:pt x="6473" y="12524"/>
                  <a:pt x="6443" y="12537"/>
                </a:cubicBezTo>
                <a:cubicBezTo>
                  <a:pt x="6411" y="12551"/>
                  <a:pt x="6345" y="12586"/>
                  <a:pt x="6308" y="12580"/>
                </a:cubicBezTo>
                <a:cubicBezTo>
                  <a:pt x="6303" y="12578"/>
                  <a:pt x="6299" y="12575"/>
                  <a:pt x="6294" y="125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0" name="Ink 25"/>
          <p:cNvSpPr/>
          <p:nvPr/>
        </p:nvSpPr>
        <p:spPr>
          <a:xfrm>
            <a:off x="1687680" y="5322960"/>
            <a:ext cx="618840" cy="287280"/>
          </a:xfrm>
          <a:custGeom>
            <a:avLst/>
            <a:gdLst/>
            <a:ahLst/>
            <a:rect l="l" t="t" r="r" b="b"/>
            <a:pathLst>
              <a:path w="1717" h="796">
                <a:moveTo>
                  <a:pt x="6393" y="13482"/>
                </a:moveTo>
                <a:cubicBezTo>
                  <a:pt x="6375" y="13495"/>
                  <a:pt x="6379" y="13498"/>
                  <a:pt x="6359" y="13509"/>
                </a:cubicBezTo>
                <a:cubicBezTo>
                  <a:pt x="6331" y="13525"/>
                  <a:pt x="6301" y="13544"/>
                  <a:pt x="6272" y="13558"/>
                </a:cubicBezTo>
                <a:cubicBezTo>
                  <a:pt x="6230" y="13579"/>
                  <a:pt x="6183" y="13598"/>
                  <a:pt x="6138" y="13611"/>
                </a:cubicBezTo>
                <a:cubicBezTo>
                  <a:pt x="6090" y="13625"/>
                  <a:pt x="6038" y="13638"/>
                  <a:pt x="5988" y="13640"/>
                </a:cubicBezTo>
                <a:cubicBezTo>
                  <a:pt x="5956" y="13641"/>
                  <a:pt x="5918" y="13639"/>
                  <a:pt x="5888" y="13628"/>
                </a:cubicBezTo>
                <a:cubicBezTo>
                  <a:pt x="5853" y="13615"/>
                  <a:pt x="5854" y="13582"/>
                  <a:pt x="5856" y="13551"/>
                </a:cubicBezTo>
                <a:cubicBezTo>
                  <a:pt x="5859" y="13502"/>
                  <a:pt x="5874" y="13453"/>
                  <a:pt x="5878" y="13404"/>
                </a:cubicBezTo>
                <a:cubicBezTo>
                  <a:pt x="5881" y="13369"/>
                  <a:pt x="5885" y="13334"/>
                  <a:pt x="5886" y="13299"/>
                </a:cubicBezTo>
                <a:cubicBezTo>
                  <a:pt x="5886" y="13285"/>
                  <a:pt x="5886" y="13271"/>
                  <a:pt x="5886" y="13257"/>
                </a:cubicBezTo>
                <a:cubicBezTo>
                  <a:pt x="5896" y="13289"/>
                  <a:pt x="5892" y="13315"/>
                  <a:pt x="5888" y="13349"/>
                </a:cubicBezTo>
              </a:path>
              <a:path w="1717" h="796">
                <a:moveTo>
                  <a:pt x="5661" y="13640"/>
                </a:moveTo>
                <a:cubicBezTo>
                  <a:pt x="5675" y="13620"/>
                  <a:pt x="5685" y="13610"/>
                  <a:pt x="5690" y="13589"/>
                </a:cubicBezTo>
                <a:cubicBezTo>
                  <a:pt x="5674" y="13618"/>
                  <a:pt x="5652" y="13639"/>
                  <a:pt x="5627" y="13662"/>
                </a:cubicBezTo>
                <a:cubicBezTo>
                  <a:pt x="5589" y="13696"/>
                  <a:pt x="5544" y="13730"/>
                  <a:pt x="5497" y="13751"/>
                </a:cubicBezTo>
                <a:cubicBezTo>
                  <a:pt x="5485" y="13757"/>
                  <a:pt x="5451" y="13788"/>
                  <a:pt x="5435" y="13777"/>
                </a:cubicBezTo>
                <a:cubicBezTo>
                  <a:pt x="5432" y="13773"/>
                  <a:pt x="5430" y="13768"/>
                  <a:pt x="5427" y="13764"/>
                </a:cubicBezTo>
              </a:path>
              <a:path w="1717" h="796">
                <a:moveTo>
                  <a:pt x="5714" y="13186"/>
                </a:moveTo>
                <a:cubicBezTo>
                  <a:pt x="5720" y="13171"/>
                  <a:pt x="5727" y="13159"/>
                  <a:pt x="5736" y="13145"/>
                </a:cubicBezTo>
                <a:cubicBezTo>
                  <a:pt x="5739" y="13161"/>
                  <a:pt x="5740" y="13166"/>
                  <a:pt x="5739" y="13177"/>
                </a:cubicBezTo>
              </a:path>
              <a:path w="1717" h="796">
                <a:moveTo>
                  <a:pt x="5527" y="13459"/>
                </a:moveTo>
                <a:cubicBezTo>
                  <a:pt x="5515" y="13431"/>
                  <a:pt x="5534" y="13446"/>
                  <a:pt x="5563" y="13438"/>
                </a:cubicBezTo>
                <a:cubicBezTo>
                  <a:pt x="5590" y="13431"/>
                  <a:pt x="5623" y="13420"/>
                  <a:pt x="5625" y="13387"/>
                </a:cubicBezTo>
                <a:cubicBezTo>
                  <a:pt x="5627" y="13364"/>
                  <a:pt x="5617" y="13341"/>
                  <a:pt x="5611" y="13320"/>
                </a:cubicBezTo>
                <a:cubicBezTo>
                  <a:pt x="5605" y="13298"/>
                  <a:pt x="5594" y="13281"/>
                  <a:pt x="5582" y="13262"/>
                </a:cubicBezTo>
                <a:cubicBezTo>
                  <a:pt x="5562" y="13288"/>
                  <a:pt x="5557" y="13313"/>
                  <a:pt x="5543" y="13342"/>
                </a:cubicBezTo>
                <a:cubicBezTo>
                  <a:pt x="5527" y="13375"/>
                  <a:pt x="5507" y="13407"/>
                  <a:pt x="5487" y="13437"/>
                </a:cubicBezTo>
                <a:cubicBezTo>
                  <a:pt x="5466" y="13467"/>
                  <a:pt x="5444" y="13487"/>
                  <a:pt x="5416" y="13509"/>
                </a:cubicBezTo>
                <a:cubicBezTo>
                  <a:pt x="5396" y="13524"/>
                  <a:pt x="5378" y="13535"/>
                  <a:pt x="5353" y="13537"/>
                </a:cubicBezTo>
                <a:cubicBezTo>
                  <a:pt x="5322" y="13539"/>
                  <a:pt x="5305" y="13521"/>
                  <a:pt x="5292" y="13495"/>
                </a:cubicBezTo>
                <a:cubicBezTo>
                  <a:pt x="5282" y="13476"/>
                  <a:pt x="5290" y="13454"/>
                  <a:pt x="5292" y="13434"/>
                </a:cubicBezTo>
                <a:cubicBezTo>
                  <a:pt x="5295" y="13405"/>
                  <a:pt x="5300" y="13376"/>
                  <a:pt x="5306" y="13347"/>
                </a:cubicBezTo>
                <a:cubicBezTo>
                  <a:pt x="5313" y="13316"/>
                  <a:pt x="5317" y="13285"/>
                  <a:pt x="5320" y="13253"/>
                </a:cubicBezTo>
                <a:cubicBezTo>
                  <a:pt x="5322" y="13228"/>
                  <a:pt x="5324" y="13206"/>
                  <a:pt x="5331" y="13182"/>
                </a:cubicBezTo>
                <a:cubicBezTo>
                  <a:pt x="5341" y="13222"/>
                  <a:pt x="5341" y="13252"/>
                  <a:pt x="5338" y="13294"/>
                </a:cubicBezTo>
              </a:path>
              <a:path w="1717" h="796">
                <a:moveTo>
                  <a:pt x="5150" y="13296"/>
                </a:moveTo>
                <a:cubicBezTo>
                  <a:pt x="5153" y="13263"/>
                  <a:pt x="5161" y="13231"/>
                  <a:pt x="5165" y="13198"/>
                </a:cubicBezTo>
                <a:cubicBezTo>
                  <a:pt x="5168" y="13178"/>
                  <a:pt x="5170" y="13158"/>
                  <a:pt x="5172" y="13138"/>
                </a:cubicBezTo>
                <a:cubicBezTo>
                  <a:pt x="5172" y="13198"/>
                  <a:pt x="5176" y="13260"/>
                  <a:pt x="5164" y="13319"/>
                </a:cubicBezTo>
                <a:cubicBezTo>
                  <a:pt x="5154" y="13365"/>
                  <a:pt x="5140" y="13407"/>
                  <a:pt x="5122" y="13450"/>
                </a:cubicBezTo>
                <a:cubicBezTo>
                  <a:pt x="5104" y="13494"/>
                  <a:pt x="5075" y="13520"/>
                  <a:pt x="5040" y="13552"/>
                </a:cubicBezTo>
                <a:cubicBezTo>
                  <a:pt x="5001" y="13587"/>
                  <a:pt x="4960" y="13613"/>
                  <a:pt x="4908" y="13625"/>
                </a:cubicBezTo>
                <a:cubicBezTo>
                  <a:pt x="4864" y="13635"/>
                  <a:pt x="4821" y="13640"/>
                  <a:pt x="4777" y="13628"/>
                </a:cubicBezTo>
                <a:cubicBezTo>
                  <a:pt x="4756" y="13622"/>
                  <a:pt x="4734" y="13611"/>
                  <a:pt x="4719" y="13596"/>
                </a:cubicBezTo>
                <a:cubicBezTo>
                  <a:pt x="4701" y="13578"/>
                  <a:pt x="4689" y="13553"/>
                  <a:pt x="4689" y="13527"/>
                </a:cubicBezTo>
                <a:cubicBezTo>
                  <a:pt x="4689" y="13501"/>
                  <a:pt x="4694" y="13476"/>
                  <a:pt x="4703" y="13452"/>
                </a:cubicBezTo>
                <a:cubicBezTo>
                  <a:pt x="4714" y="13423"/>
                  <a:pt x="4726" y="13393"/>
                  <a:pt x="4742" y="13367"/>
                </a:cubicBezTo>
                <a:cubicBezTo>
                  <a:pt x="4758" y="13340"/>
                  <a:pt x="4778" y="13317"/>
                  <a:pt x="4797" y="13292"/>
                </a:cubicBezTo>
                <a:cubicBezTo>
                  <a:pt x="4822" y="13259"/>
                  <a:pt x="4846" y="13234"/>
                  <a:pt x="4886" y="13225"/>
                </a:cubicBezTo>
              </a:path>
              <a:path w="1717" h="796">
                <a:moveTo>
                  <a:pt x="5007" y="12999"/>
                </a:moveTo>
                <a:cubicBezTo>
                  <a:pt x="5015" y="12957"/>
                  <a:pt x="5028" y="13010"/>
                  <a:pt x="5025" y="13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1" name="Ink 29"/>
          <p:cNvSpPr/>
          <p:nvPr/>
        </p:nvSpPr>
        <p:spPr>
          <a:xfrm>
            <a:off x="6527880" y="2652840"/>
            <a:ext cx="874800" cy="396720"/>
          </a:xfrm>
          <a:custGeom>
            <a:avLst/>
            <a:gdLst/>
            <a:ahLst/>
            <a:rect l="l" t="t" r="r" b="b"/>
            <a:pathLst>
              <a:path w="2428" h="1100">
                <a:moveTo>
                  <a:pt x="6294" y="6282"/>
                </a:moveTo>
                <a:cubicBezTo>
                  <a:pt x="6282" y="6253"/>
                  <a:pt x="6257" y="6234"/>
                  <a:pt x="6304" y="6213"/>
                </a:cubicBezTo>
                <a:cubicBezTo>
                  <a:pt x="6319" y="6206"/>
                  <a:pt x="6354" y="6210"/>
                  <a:pt x="6357" y="6232"/>
                </a:cubicBezTo>
                <a:cubicBezTo>
                  <a:pt x="6360" y="6261"/>
                  <a:pt x="6325" y="6280"/>
                  <a:pt x="6309" y="6299"/>
                </a:cubicBezTo>
                <a:cubicBezTo>
                  <a:pt x="6287" y="6326"/>
                  <a:pt x="6260" y="6346"/>
                  <a:pt x="6234" y="6369"/>
                </a:cubicBezTo>
                <a:cubicBezTo>
                  <a:pt x="6200" y="6400"/>
                  <a:pt x="6163" y="6429"/>
                  <a:pt x="6130" y="6461"/>
                </a:cubicBezTo>
                <a:cubicBezTo>
                  <a:pt x="6127" y="6465"/>
                  <a:pt x="6123" y="6469"/>
                  <a:pt x="6120" y="6473"/>
                </a:cubicBezTo>
                <a:cubicBezTo>
                  <a:pt x="6161" y="6468"/>
                  <a:pt x="6203" y="6461"/>
                  <a:pt x="6245" y="6458"/>
                </a:cubicBezTo>
                <a:cubicBezTo>
                  <a:pt x="6266" y="6456"/>
                  <a:pt x="6344" y="6448"/>
                  <a:pt x="6353" y="6479"/>
                </a:cubicBezTo>
                <a:cubicBezTo>
                  <a:pt x="6362" y="6510"/>
                  <a:pt x="6336" y="6532"/>
                  <a:pt x="6314" y="6551"/>
                </a:cubicBezTo>
                <a:cubicBezTo>
                  <a:pt x="6287" y="6575"/>
                  <a:pt x="6245" y="6592"/>
                  <a:pt x="6212" y="6605"/>
                </a:cubicBezTo>
                <a:cubicBezTo>
                  <a:pt x="6171" y="6621"/>
                  <a:pt x="6131" y="6630"/>
                  <a:pt x="6087" y="6630"/>
                </a:cubicBezTo>
                <a:cubicBezTo>
                  <a:pt x="6054" y="6630"/>
                  <a:pt x="6031" y="6627"/>
                  <a:pt x="6007" y="6604"/>
                </a:cubicBezTo>
                <a:cubicBezTo>
                  <a:pt x="5984" y="6582"/>
                  <a:pt x="5998" y="6559"/>
                  <a:pt x="5999" y="6534"/>
                </a:cubicBezTo>
                <a:cubicBezTo>
                  <a:pt x="5970" y="6566"/>
                  <a:pt x="5944" y="6594"/>
                  <a:pt x="5907" y="6619"/>
                </a:cubicBezTo>
                <a:cubicBezTo>
                  <a:pt x="5871" y="6643"/>
                  <a:pt x="5830" y="6662"/>
                  <a:pt x="5790" y="6678"/>
                </a:cubicBezTo>
                <a:cubicBezTo>
                  <a:pt x="5730" y="6702"/>
                  <a:pt x="5616" y="6740"/>
                  <a:pt x="5559" y="6687"/>
                </a:cubicBezTo>
                <a:cubicBezTo>
                  <a:pt x="5538" y="6668"/>
                  <a:pt x="5547" y="6640"/>
                  <a:pt x="5554" y="6618"/>
                </a:cubicBezTo>
                <a:cubicBezTo>
                  <a:pt x="5566" y="6580"/>
                  <a:pt x="5606" y="6544"/>
                  <a:pt x="5647" y="6551"/>
                </a:cubicBezTo>
                <a:cubicBezTo>
                  <a:pt x="5677" y="6556"/>
                  <a:pt x="5697" y="6577"/>
                  <a:pt x="5712" y="6601"/>
                </a:cubicBezTo>
                <a:cubicBezTo>
                  <a:pt x="5731" y="6632"/>
                  <a:pt x="5719" y="6651"/>
                  <a:pt x="5693" y="6671"/>
                </a:cubicBezTo>
                <a:cubicBezTo>
                  <a:pt x="5654" y="6702"/>
                  <a:pt x="5580" y="6709"/>
                  <a:pt x="5533" y="6718"/>
                </a:cubicBezTo>
                <a:cubicBezTo>
                  <a:pt x="5492" y="6726"/>
                  <a:pt x="5450" y="6732"/>
                  <a:pt x="5408" y="6733"/>
                </a:cubicBezTo>
                <a:cubicBezTo>
                  <a:pt x="5386" y="6733"/>
                  <a:pt x="5343" y="6744"/>
                  <a:pt x="5355" y="6711"/>
                </a:cubicBezTo>
                <a:cubicBezTo>
                  <a:pt x="5378" y="6707"/>
                  <a:pt x="5386" y="6706"/>
                  <a:pt x="5402" y="6704"/>
                </a:cubicBezTo>
              </a:path>
              <a:path w="2428" h="1100">
                <a:moveTo>
                  <a:pt x="5474" y="7071"/>
                </a:moveTo>
                <a:cubicBezTo>
                  <a:pt x="5505" y="7065"/>
                  <a:pt x="5536" y="7053"/>
                  <a:pt x="5568" y="7051"/>
                </a:cubicBezTo>
                <a:cubicBezTo>
                  <a:pt x="5606" y="7048"/>
                  <a:pt x="5640" y="7034"/>
                  <a:pt x="5676" y="7030"/>
                </a:cubicBezTo>
                <a:cubicBezTo>
                  <a:pt x="5684" y="7030"/>
                  <a:pt x="5692" y="7031"/>
                  <a:pt x="5700" y="7031"/>
                </a:cubicBezTo>
              </a:path>
              <a:path w="2428" h="1100">
                <a:moveTo>
                  <a:pt x="5715" y="6099"/>
                </a:moveTo>
                <a:cubicBezTo>
                  <a:pt x="5719" y="6073"/>
                  <a:pt x="5721" y="6046"/>
                  <a:pt x="5716" y="6019"/>
                </a:cubicBezTo>
                <a:cubicBezTo>
                  <a:pt x="5712" y="6001"/>
                  <a:pt x="5707" y="5990"/>
                  <a:pt x="5707" y="5972"/>
                </a:cubicBezTo>
                <a:cubicBezTo>
                  <a:pt x="5718" y="5998"/>
                  <a:pt x="5720" y="6020"/>
                  <a:pt x="5721" y="6049"/>
                </a:cubicBezTo>
                <a:cubicBezTo>
                  <a:pt x="5723" y="6110"/>
                  <a:pt x="5718" y="6175"/>
                  <a:pt x="5708" y="6235"/>
                </a:cubicBezTo>
                <a:cubicBezTo>
                  <a:pt x="5702" y="6272"/>
                  <a:pt x="5697" y="6308"/>
                  <a:pt x="5690" y="6344"/>
                </a:cubicBezTo>
              </a:path>
              <a:path w="2428" h="1100">
                <a:moveTo>
                  <a:pt x="5466" y="6408"/>
                </a:moveTo>
                <a:cubicBezTo>
                  <a:pt x="5500" y="6380"/>
                  <a:pt x="5453" y="6435"/>
                  <a:pt x="5444" y="6442"/>
                </a:cubicBezTo>
                <a:cubicBezTo>
                  <a:pt x="5421" y="6462"/>
                  <a:pt x="5398" y="6481"/>
                  <a:pt x="5374" y="6500"/>
                </a:cubicBezTo>
                <a:cubicBezTo>
                  <a:pt x="5337" y="6529"/>
                  <a:pt x="5300" y="6551"/>
                  <a:pt x="5257" y="6570"/>
                </a:cubicBezTo>
                <a:cubicBezTo>
                  <a:pt x="5227" y="6584"/>
                  <a:pt x="5197" y="6594"/>
                  <a:pt x="5164" y="6597"/>
                </a:cubicBezTo>
                <a:cubicBezTo>
                  <a:pt x="5139" y="6599"/>
                  <a:pt x="5114" y="6600"/>
                  <a:pt x="5090" y="6593"/>
                </a:cubicBezTo>
                <a:cubicBezTo>
                  <a:pt x="5064" y="6586"/>
                  <a:pt x="5045" y="6567"/>
                  <a:pt x="5033" y="6543"/>
                </a:cubicBezTo>
                <a:cubicBezTo>
                  <a:pt x="5019" y="6515"/>
                  <a:pt x="5022" y="6490"/>
                  <a:pt x="5028" y="6461"/>
                </a:cubicBezTo>
                <a:cubicBezTo>
                  <a:pt x="5032" y="6439"/>
                  <a:pt x="5047" y="6422"/>
                  <a:pt x="5053" y="6401"/>
                </a:cubicBezTo>
                <a:cubicBezTo>
                  <a:pt x="5060" y="6378"/>
                  <a:pt x="5065" y="6354"/>
                  <a:pt x="5072" y="6331"/>
                </a:cubicBezTo>
                <a:cubicBezTo>
                  <a:pt x="5079" y="6308"/>
                  <a:pt x="5081" y="6284"/>
                  <a:pt x="5087" y="6260"/>
                </a:cubicBezTo>
                <a:cubicBezTo>
                  <a:pt x="5104" y="6275"/>
                  <a:pt x="5100" y="6279"/>
                  <a:pt x="5094" y="6305"/>
                </a:cubicBezTo>
              </a:path>
              <a:path w="2428" h="1100">
                <a:moveTo>
                  <a:pt x="4872" y="6577"/>
                </a:moveTo>
                <a:cubicBezTo>
                  <a:pt x="4882" y="6561"/>
                  <a:pt x="4887" y="6556"/>
                  <a:pt x="4904" y="6547"/>
                </a:cubicBezTo>
                <a:cubicBezTo>
                  <a:pt x="4895" y="6569"/>
                  <a:pt x="4885" y="6591"/>
                  <a:pt x="4869" y="6609"/>
                </a:cubicBezTo>
                <a:cubicBezTo>
                  <a:pt x="4849" y="6631"/>
                  <a:pt x="4830" y="6655"/>
                  <a:pt x="4809" y="6676"/>
                </a:cubicBezTo>
                <a:cubicBezTo>
                  <a:pt x="4791" y="6694"/>
                  <a:pt x="4770" y="6707"/>
                  <a:pt x="4749" y="6721"/>
                </a:cubicBezTo>
                <a:cubicBezTo>
                  <a:pt x="4726" y="6736"/>
                  <a:pt x="4711" y="6736"/>
                  <a:pt x="4684" y="6735"/>
                </a:cubicBezTo>
              </a:path>
              <a:path w="2428" h="1100">
                <a:moveTo>
                  <a:pt x="4979" y="6202"/>
                </a:moveTo>
                <a:cubicBezTo>
                  <a:pt x="4996" y="6174"/>
                  <a:pt x="4994" y="6178"/>
                  <a:pt x="5001" y="6209"/>
                </a:cubicBezTo>
              </a:path>
              <a:path w="2428" h="1100">
                <a:moveTo>
                  <a:pt x="4781" y="6448"/>
                </a:moveTo>
                <a:cubicBezTo>
                  <a:pt x="4797" y="6439"/>
                  <a:pt x="4832" y="6435"/>
                  <a:pt x="4843" y="6423"/>
                </a:cubicBezTo>
                <a:cubicBezTo>
                  <a:pt x="4864" y="6400"/>
                  <a:pt x="4819" y="6370"/>
                  <a:pt x="4806" y="6360"/>
                </a:cubicBezTo>
                <a:cubicBezTo>
                  <a:pt x="4791" y="6348"/>
                  <a:pt x="4774" y="6338"/>
                  <a:pt x="4759" y="6326"/>
                </a:cubicBezTo>
                <a:cubicBezTo>
                  <a:pt x="4752" y="6349"/>
                  <a:pt x="4749" y="6369"/>
                  <a:pt x="4745" y="6392"/>
                </a:cubicBezTo>
                <a:cubicBezTo>
                  <a:pt x="4736" y="6441"/>
                  <a:pt x="4716" y="6487"/>
                  <a:pt x="4692" y="6530"/>
                </a:cubicBezTo>
                <a:cubicBezTo>
                  <a:pt x="4680" y="6552"/>
                  <a:pt x="4660" y="6575"/>
                  <a:pt x="4637" y="6587"/>
                </a:cubicBezTo>
                <a:cubicBezTo>
                  <a:pt x="4613" y="6600"/>
                  <a:pt x="4589" y="6597"/>
                  <a:pt x="4566" y="6580"/>
                </a:cubicBezTo>
                <a:cubicBezTo>
                  <a:pt x="4543" y="6563"/>
                  <a:pt x="4533" y="6536"/>
                  <a:pt x="4528" y="6509"/>
                </a:cubicBezTo>
                <a:cubicBezTo>
                  <a:pt x="4525" y="6493"/>
                  <a:pt x="4521" y="6472"/>
                  <a:pt x="4522" y="6456"/>
                </a:cubicBezTo>
                <a:cubicBezTo>
                  <a:pt x="4523" y="6437"/>
                  <a:pt x="4525" y="6418"/>
                  <a:pt x="4527" y="6399"/>
                </a:cubicBezTo>
                <a:cubicBezTo>
                  <a:pt x="4530" y="6374"/>
                  <a:pt x="4535" y="6350"/>
                  <a:pt x="4538" y="6326"/>
                </a:cubicBezTo>
                <a:cubicBezTo>
                  <a:pt x="4543" y="6292"/>
                  <a:pt x="4550" y="6260"/>
                  <a:pt x="4557" y="6227"/>
                </a:cubicBezTo>
                <a:cubicBezTo>
                  <a:pt x="4563" y="6199"/>
                  <a:pt x="4573" y="6172"/>
                  <a:pt x="4586" y="6147"/>
                </a:cubicBezTo>
                <a:cubicBezTo>
                  <a:pt x="4586" y="6172"/>
                  <a:pt x="4581" y="6192"/>
                  <a:pt x="4575" y="6218"/>
                </a:cubicBezTo>
              </a:path>
              <a:path w="2428" h="1100">
                <a:moveTo>
                  <a:pt x="4418" y="6280"/>
                </a:moveTo>
                <a:cubicBezTo>
                  <a:pt x="4419" y="6259"/>
                  <a:pt x="4420" y="6241"/>
                  <a:pt x="4418" y="6221"/>
                </a:cubicBezTo>
                <a:cubicBezTo>
                  <a:pt x="4420" y="6246"/>
                  <a:pt x="4427" y="6270"/>
                  <a:pt x="4428" y="6295"/>
                </a:cubicBezTo>
                <a:cubicBezTo>
                  <a:pt x="4430" y="6323"/>
                  <a:pt x="4425" y="6352"/>
                  <a:pt x="4421" y="6380"/>
                </a:cubicBezTo>
                <a:cubicBezTo>
                  <a:pt x="4417" y="6409"/>
                  <a:pt x="4408" y="6435"/>
                  <a:pt x="4401" y="6463"/>
                </a:cubicBezTo>
                <a:cubicBezTo>
                  <a:pt x="4393" y="6498"/>
                  <a:pt x="4382" y="6528"/>
                  <a:pt x="4365" y="6559"/>
                </a:cubicBezTo>
                <a:cubicBezTo>
                  <a:pt x="4350" y="6586"/>
                  <a:pt x="4330" y="6614"/>
                  <a:pt x="4307" y="6635"/>
                </a:cubicBezTo>
                <a:cubicBezTo>
                  <a:pt x="4286" y="6654"/>
                  <a:pt x="4260" y="6673"/>
                  <a:pt x="4233" y="6683"/>
                </a:cubicBezTo>
                <a:cubicBezTo>
                  <a:pt x="4195" y="6696"/>
                  <a:pt x="4155" y="6701"/>
                  <a:pt x="4115" y="6699"/>
                </a:cubicBezTo>
                <a:cubicBezTo>
                  <a:pt x="4089" y="6698"/>
                  <a:pt x="4060" y="6694"/>
                  <a:pt x="4035" y="6686"/>
                </a:cubicBezTo>
                <a:cubicBezTo>
                  <a:pt x="4011" y="6678"/>
                  <a:pt x="3989" y="6670"/>
                  <a:pt x="3971" y="6651"/>
                </a:cubicBezTo>
                <a:cubicBezTo>
                  <a:pt x="3951" y="6630"/>
                  <a:pt x="3934" y="6595"/>
                  <a:pt x="3930" y="6566"/>
                </a:cubicBezTo>
                <a:cubicBezTo>
                  <a:pt x="3928" y="6548"/>
                  <a:pt x="3934" y="6521"/>
                  <a:pt x="3941" y="6504"/>
                </a:cubicBezTo>
                <a:cubicBezTo>
                  <a:pt x="3949" y="6484"/>
                  <a:pt x="3968" y="6459"/>
                  <a:pt x="3981" y="6442"/>
                </a:cubicBezTo>
                <a:cubicBezTo>
                  <a:pt x="3999" y="6417"/>
                  <a:pt x="4018" y="6398"/>
                  <a:pt x="4040" y="6377"/>
                </a:cubicBezTo>
                <a:cubicBezTo>
                  <a:pt x="4058" y="6361"/>
                  <a:pt x="4074" y="6343"/>
                  <a:pt x="4095" y="6331"/>
                </a:cubicBezTo>
                <a:cubicBezTo>
                  <a:pt x="4122" y="6315"/>
                  <a:pt x="4114" y="6331"/>
                  <a:pt x="4127" y="6337"/>
                </a:cubicBezTo>
              </a:path>
              <a:path w="2428" h="1100">
                <a:moveTo>
                  <a:pt x="4280" y="6093"/>
                </a:moveTo>
                <a:cubicBezTo>
                  <a:pt x="4280" y="6087"/>
                  <a:pt x="4280" y="6081"/>
                  <a:pt x="4280" y="6075"/>
                </a:cubicBezTo>
                <a:cubicBezTo>
                  <a:pt x="4304" y="6086"/>
                  <a:pt x="4299" y="6103"/>
                  <a:pt x="4304" y="6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2" name="Ink 30"/>
          <p:cNvSpPr/>
          <p:nvPr/>
        </p:nvSpPr>
        <p:spPr>
          <a:xfrm>
            <a:off x="6754680" y="4329000"/>
            <a:ext cx="584280" cy="198720"/>
          </a:xfrm>
          <a:custGeom>
            <a:avLst/>
            <a:gdLst/>
            <a:ahLst/>
            <a:rect l="l" t="t" r="r" b="b"/>
            <a:pathLst>
              <a:path w="1621" h="549">
                <a:moveTo>
                  <a:pt x="6180" y="10187"/>
                </a:moveTo>
                <a:cubicBezTo>
                  <a:pt x="6164" y="10212"/>
                  <a:pt x="6148" y="10229"/>
                  <a:pt x="6123" y="10246"/>
                </a:cubicBezTo>
                <a:cubicBezTo>
                  <a:pt x="6100" y="10261"/>
                  <a:pt x="6074" y="10272"/>
                  <a:pt x="6049" y="10283"/>
                </a:cubicBezTo>
                <a:cubicBezTo>
                  <a:pt x="6010" y="10300"/>
                  <a:pt x="5971" y="10316"/>
                  <a:pt x="5932" y="10331"/>
                </a:cubicBezTo>
                <a:cubicBezTo>
                  <a:pt x="5906" y="10341"/>
                  <a:pt x="5877" y="10350"/>
                  <a:pt x="5850" y="10354"/>
                </a:cubicBezTo>
                <a:cubicBezTo>
                  <a:pt x="5825" y="10358"/>
                  <a:pt x="5797" y="10363"/>
                  <a:pt x="5771" y="10363"/>
                </a:cubicBezTo>
                <a:cubicBezTo>
                  <a:pt x="5751" y="10363"/>
                  <a:pt x="5728" y="10362"/>
                  <a:pt x="5708" y="10360"/>
                </a:cubicBezTo>
                <a:cubicBezTo>
                  <a:pt x="5686" y="10357"/>
                  <a:pt x="5659" y="10348"/>
                  <a:pt x="5648" y="10329"/>
                </a:cubicBezTo>
                <a:cubicBezTo>
                  <a:pt x="5635" y="10307"/>
                  <a:pt x="5639" y="10275"/>
                  <a:pt x="5641" y="10251"/>
                </a:cubicBezTo>
                <a:cubicBezTo>
                  <a:pt x="5643" y="10222"/>
                  <a:pt x="5646" y="10193"/>
                  <a:pt x="5647" y="10164"/>
                </a:cubicBezTo>
                <a:cubicBezTo>
                  <a:pt x="5647" y="10157"/>
                  <a:pt x="5647" y="10080"/>
                  <a:pt x="5651" y="10125"/>
                </a:cubicBezTo>
              </a:path>
              <a:path w="1621" h="549">
                <a:moveTo>
                  <a:pt x="5492" y="10368"/>
                </a:moveTo>
                <a:cubicBezTo>
                  <a:pt x="5495" y="10355"/>
                  <a:pt x="5498" y="10351"/>
                  <a:pt x="5511" y="10357"/>
                </a:cubicBezTo>
                <a:cubicBezTo>
                  <a:pt x="5497" y="10381"/>
                  <a:pt x="5480" y="10403"/>
                  <a:pt x="5463" y="10425"/>
                </a:cubicBezTo>
                <a:cubicBezTo>
                  <a:pt x="5441" y="10453"/>
                  <a:pt x="5413" y="10477"/>
                  <a:pt x="5387" y="10503"/>
                </a:cubicBezTo>
                <a:cubicBezTo>
                  <a:pt x="5366" y="10524"/>
                  <a:pt x="5343" y="10540"/>
                  <a:pt x="5320" y="10558"/>
                </a:cubicBezTo>
                <a:cubicBezTo>
                  <a:pt x="5304" y="10571"/>
                  <a:pt x="5300" y="10576"/>
                  <a:pt x="5286" y="10573"/>
                </a:cubicBezTo>
              </a:path>
              <a:path w="1621" h="549">
                <a:moveTo>
                  <a:pt x="5573" y="10037"/>
                </a:moveTo>
                <a:cubicBezTo>
                  <a:pt x="5584" y="10023"/>
                  <a:pt x="5588" y="10021"/>
                  <a:pt x="5588" y="10047"/>
                </a:cubicBezTo>
              </a:path>
              <a:path w="1621" h="549">
                <a:moveTo>
                  <a:pt x="5359" y="10282"/>
                </a:moveTo>
                <a:cubicBezTo>
                  <a:pt x="5372" y="10255"/>
                  <a:pt x="5375" y="10261"/>
                  <a:pt x="5403" y="10257"/>
                </a:cubicBezTo>
                <a:cubicBezTo>
                  <a:pt x="5433" y="10253"/>
                  <a:pt x="5437" y="10225"/>
                  <a:pt x="5430" y="10200"/>
                </a:cubicBezTo>
                <a:cubicBezTo>
                  <a:pt x="5422" y="10173"/>
                  <a:pt x="5405" y="10150"/>
                  <a:pt x="5388" y="10129"/>
                </a:cubicBezTo>
                <a:cubicBezTo>
                  <a:pt x="5379" y="10153"/>
                  <a:pt x="5372" y="10177"/>
                  <a:pt x="5364" y="10201"/>
                </a:cubicBezTo>
                <a:cubicBezTo>
                  <a:pt x="5355" y="10227"/>
                  <a:pt x="5347" y="10250"/>
                  <a:pt x="5334" y="10274"/>
                </a:cubicBezTo>
                <a:cubicBezTo>
                  <a:pt x="5322" y="10295"/>
                  <a:pt x="5306" y="10316"/>
                  <a:pt x="5289" y="10334"/>
                </a:cubicBezTo>
                <a:cubicBezTo>
                  <a:pt x="5275" y="10349"/>
                  <a:pt x="5255" y="10359"/>
                  <a:pt x="5236" y="10363"/>
                </a:cubicBezTo>
                <a:cubicBezTo>
                  <a:pt x="5207" y="10370"/>
                  <a:pt x="5185" y="10364"/>
                  <a:pt x="5163" y="10343"/>
                </a:cubicBezTo>
                <a:cubicBezTo>
                  <a:pt x="5145" y="10326"/>
                  <a:pt x="5135" y="10305"/>
                  <a:pt x="5133" y="10281"/>
                </a:cubicBezTo>
                <a:cubicBezTo>
                  <a:pt x="5130" y="10247"/>
                  <a:pt x="5138" y="10218"/>
                  <a:pt x="5145" y="10185"/>
                </a:cubicBezTo>
                <a:cubicBezTo>
                  <a:pt x="5149" y="10164"/>
                  <a:pt x="5154" y="10144"/>
                  <a:pt x="5163" y="10125"/>
                </a:cubicBezTo>
                <a:cubicBezTo>
                  <a:pt x="5184" y="10082"/>
                  <a:pt x="5167" y="10134"/>
                  <a:pt x="5163" y="10143"/>
                </a:cubicBezTo>
              </a:path>
              <a:path w="1621" h="549">
                <a:moveTo>
                  <a:pt x="5014" y="10139"/>
                </a:moveTo>
                <a:cubicBezTo>
                  <a:pt x="5015" y="10133"/>
                  <a:pt x="5015" y="10128"/>
                  <a:pt x="5016" y="10122"/>
                </a:cubicBezTo>
                <a:cubicBezTo>
                  <a:pt x="5018" y="10146"/>
                  <a:pt x="5017" y="10145"/>
                  <a:pt x="5016" y="10169"/>
                </a:cubicBezTo>
                <a:cubicBezTo>
                  <a:pt x="5015" y="10192"/>
                  <a:pt x="5015" y="10216"/>
                  <a:pt x="5012" y="10239"/>
                </a:cubicBezTo>
                <a:cubicBezTo>
                  <a:pt x="5008" y="10264"/>
                  <a:pt x="5004" y="10289"/>
                  <a:pt x="4998" y="10314"/>
                </a:cubicBezTo>
                <a:cubicBezTo>
                  <a:pt x="4991" y="10344"/>
                  <a:pt x="4983" y="10375"/>
                  <a:pt x="4968" y="10403"/>
                </a:cubicBezTo>
                <a:cubicBezTo>
                  <a:pt x="4952" y="10433"/>
                  <a:pt x="4926" y="10465"/>
                  <a:pt x="4901" y="10489"/>
                </a:cubicBezTo>
                <a:cubicBezTo>
                  <a:pt x="4883" y="10506"/>
                  <a:pt x="4862" y="10523"/>
                  <a:pt x="4841" y="10535"/>
                </a:cubicBezTo>
                <a:cubicBezTo>
                  <a:pt x="4825" y="10544"/>
                  <a:pt x="4806" y="10554"/>
                  <a:pt x="4788" y="10558"/>
                </a:cubicBezTo>
                <a:cubicBezTo>
                  <a:pt x="4758" y="10564"/>
                  <a:pt x="4720" y="10561"/>
                  <a:pt x="4692" y="10552"/>
                </a:cubicBezTo>
                <a:cubicBezTo>
                  <a:pt x="4673" y="10546"/>
                  <a:pt x="4653" y="10531"/>
                  <a:pt x="4637" y="10520"/>
                </a:cubicBezTo>
                <a:cubicBezTo>
                  <a:pt x="4607" y="10499"/>
                  <a:pt x="4572" y="10470"/>
                  <a:pt x="4563" y="10434"/>
                </a:cubicBezTo>
                <a:cubicBezTo>
                  <a:pt x="4555" y="10402"/>
                  <a:pt x="4567" y="10376"/>
                  <a:pt x="4585" y="10350"/>
                </a:cubicBezTo>
                <a:cubicBezTo>
                  <a:pt x="4608" y="10317"/>
                  <a:pt x="4642" y="10292"/>
                  <a:pt x="4664" y="10257"/>
                </a:cubicBezTo>
                <a:cubicBezTo>
                  <a:pt x="4670" y="10244"/>
                  <a:pt x="4672" y="10239"/>
                  <a:pt x="4680" y="10232"/>
                </a:cubicBezTo>
              </a:path>
              <a:path w="1621" h="549">
                <a:moveTo>
                  <a:pt x="4813" y="10086"/>
                </a:moveTo>
                <a:cubicBezTo>
                  <a:pt x="4820" y="10056"/>
                  <a:pt x="4829" y="10090"/>
                  <a:pt x="4834" y="101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3" name="Ink 31"/>
          <p:cNvSpPr/>
          <p:nvPr/>
        </p:nvSpPr>
        <p:spPr>
          <a:xfrm>
            <a:off x="6799320" y="5079960"/>
            <a:ext cx="669960" cy="189000"/>
          </a:xfrm>
          <a:custGeom>
            <a:avLst/>
            <a:gdLst/>
            <a:ahLst/>
            <a:rect l="l" t="t" r="r" b="b"/>
            <a:pathLst>
              <a:path w="1862" h="526">
                <a:moveTo>
                  <a:pt x="4830" y="12230"/>
                </a:moveTo>
                <a:cubicBezTo>
                  <a:pt x="4828" y="12195"/>
                  <a:pt x="4827" y="12271"/>
                  <a:pt x="4826" y="12275"/>
                </a:cubicBezTo>
                <a:cubicBezTo>
                  <a:pt x="4821" y="12315"/>
                  <a:pt x="4814" y="12355"/>
                  <a:pt x="4809" y="12395"/>
                </a:cubicBezTo>
                <a:cubicBezTo>
                  <a:pt x="4805" y="12429"/>
                  <a:pt x="4798" y="12464"/>
                  <a:pt x="4795" y="12498"/>
                </a:cubicBezTo>
                <a:cubicBezTo>
                  <a:pt x="4795" y="12502"/>
                  <a:pt x="4792" y="12554"/>
                  <a:pt x="4795" y="12517"/>
                </a:cubicBezTo>
                <a:cubicBezTo>
                  <a:pt x="4807" y="12494"/>
                  <a:pt x="4809" y="12475"/>
                  <a:pt x="4812" y="12448"/>
                </a:cubicBezTo>
              </a:path>
              <a:path w="1862" h="526">
                <a:moveTo>
                  <a:pt x="4756" y="12218"/>
                </a:moveTo>
                <a:cubicBezTo>
                  <a:pt x="4782" y="12197"/>
                  <a:pt x="4801" y="12192"/>
                  <a:pt x="4833" y="12182"/>
                </a:cubicBezTo>
                <a:cubicBezTo>
                  <a:pt x="4861" y="12174"/>
                  <a:pt x="4896" y="12160"/>
                  <a:pt x="4925" y="12164"/>
                </a:cubicBezTo>
                <a:cubicBezTo>
                  <a:pt x="4947" y="12167"/>
                  <a:pt x="4965" y="12178"/>
                  <a:pt x="4983" y="12189"/>
                </a:cubicBezTo>
              </a:path>
              <a:path w="1862" h="526">
                <a:moveTo>
                  <a:pt x="4691" y="12592"/>
                </a:moveTo>
                <a:cubicBezTo>
                  <a:pt x="4688" y="12596"/>
                  <a:pt x="4685" y="12601"/>
                  <a:pt x="4682" y="12605"/>
                </a:cubicBezTo>
                <a:cubicBezTo>
                  <a:pt x="4711" y="12597"/>
                  <a:pt x="4739" y="12594"/>
                  <a:pt x="4769" y="12591"/>
                </a:cubicBezTo>
                <a:cubicBezTo>
                  <a:pt x="4797" y="12588"/>
                  <a:pt x="4827" y="12589"/>
                  <a:pt x="4856" y="12588"/>
                </a:cubicBezTo>
                <a:cubicBezTo>
                  <a:pt x="4876" y="12589"/>
                  <a:pt x="4881" y="12589"/>
                  <a:pt x="4893" y="12589"/>
                </a:cubicBezTo>
              </a:path>
              <a:path w="1862" h="526">
                <a:moveTo>
                  <a:pt x="5236" y="12207"/>
                </a:moveTo>
                <a:cubicBezTo>
                  <a:pt x="5256" y="12172"/>
                  <a:pt x="5246" y="12236"/>
                  <a:pt x="5246" y="12255"/>
                </a:cubicBezTo>
                <a:cubicBezTo>
                  <a:pt x="5247" y="12294"/>
                  <a:pt x="5241" y="12332"/>
                  <a:pt x="5236" y="12371"/>
                </a:cubicBezTo>
                <a:cubicBezTo>
                  <a:pt x="5232" y="12405"/>
                  <a:pt x="5225" y="12439"/>
                  <a:pt x="5222" y="12474"/>
                </a:cubicBezTo>
                <a:cubicBezTo>
                  <a:pt x="5218" y="12515"/>
                  <a:pt x="5223" y="12512"/>
                  <a:pt x="5229" y="12473"/>
                </a:cubicBezTo>
              </a:path>
              <a:path w="1862" h="526">
                <a:moveTo>
                  <a:pt x="5097" y="12218"/>
                </a:moveTo>
                <a:cubicBezTo>
                  <a:pt x="5084" y="12196"/>
                  <a:pt x="5098" y="12187"/>
                  <a:pt x="5125" y="12178"/>
                </a:cubicBezTo>
                <a:cubicBezTo>
                  <a:pt x="5168" y="12164"/>
                  <a:pt x="5211" y="12149"/>
                  <a:pt x="5256" y="12140"/>
                </a:cubicBezTo>
                <a:cubicBezTo>
                  <a:pt x="5311" y="12129"/>
                  <a:pt x="5367" y="12125"/>
                  <a:pt x="5423" y="12123"/>
                </a:cubicBezTo>
                <a:cubicBezTo>
                  <a:pt x="5464" y="12121"/>
                  <a:pt x="5503" y="12117"/>
                  <a:pt x="5544" y="12114"/>
                </a:cubicBezTo>
                <a:cubicBezTo>
                  <a:pt x="5563" y="12113"/>
                  <a:pt x="5579" y="12111"/>
                  <a:pt x="5598" y="12111"/>
                </a:cubicBezTo>
              </a:path>
              <a:path w="1862" h="526">
                <a:moveTo>
                  <a:pt x="5668" y="12239"/>
                </a:moveTo>
                <a:cubicBezTo>
                  <a:pt x="5690" y="12246"/>
                  <a:pt x="5675" y="12260"/>
                  <a:pt x="5669" y="12283"/>
                </a:cubicBezTo>
                <a:cubicBezTo>
                  <a:pt x="5659" y="12322"/>
                  <a:pt x="5643" y="12356"/>
                  <a:pt x="5627" y="12393"/>
                </a:cubicBezTo>
                <a:cubicBezTo>
                  <a:pt x="5606" y="12442"/>
                  <a:pt x="5582" y="12488"/>
                  <a:pt x="5556" y="12534"/>
                </a:cubicBezTo>
                <a:cubicBezTo>
                  <a:pt x="5540" y="12563"/>
                  <a:pt x="5522" y="12592"/>
                  <a:pt x="5502" y="12619"/>
                </a:cubicBezTo>
                <a:cubicBezTo>
                  <a:pt x="5498" y="12624"/>
                  <a:pt x="5494" y="12629"/>
                  <a:pt x="5490" y="12634"/>
                </a:cubicBezTo>
              </a:path>
              <a:path w="1862" h="526">
                <a:moveTo>
                  <a:pt x="5982" y="12180"/>
                </a:moveTo>
                <a:cubicBezTo>
                  <a:pt x="5984" y="12209"/>
                  <a:pt x="5982" y="12236"/>
                  <a:pt x="5975" y="12265"/>
                </a:cubicBezTo>
                <a:cubicBezTo>
                  <a:pt x="5964" y="12312"/>
                  <a:pt x="5951" y="12358"/>
                  <a:pt x="5939" y="12404"/>
                </a:cubicBezTo>
                <a:cubicBezTo>
                  <a:pt x="5929" y="12442"/>
                  <a:pt x="5909" y="12482"/>
                  <a:pt x="5904" y="12521"/>
                </a:cubicBezTo>
                <a:cubicBezTo>
                  <a:pt x="5904" y="12540"/>
                  <a:pt x="5904" y="12546"/>
                  <a:pt x="5904" y="12559"/>
                </a:cubicBezTo>
                <a:cubicBezTo>
                  <a:pt x="5924" y="12547"/>
                  <a:pt x="5926" y="12528"/>
                  <a:pt x="5936" y="12503"/>
                </a:cubicBezTo>
                <a:cubicBezTo>
                  <a:pt x="5938" y="12498"/>
                  <a:pt x="5940" y="12493"/>
                  <a:pt x="5942" y="12488"/>
                </a:cubicBezTo>
              </a:path>
              <a:path w="1862" h="526">
                <a:moveTo>
                  <a:pt x="5886" y="12191"/>
                </a:moveTo>
                <a:cubicBezTo>
                  <a:pt x="5905" y="12168"/>
                  <a:pt x="5925" y="12153"/>
                  <a:pt x="5954" y="12148"/>
                </a:cubicBezTo>
                <a:cubicBezTo>
                  <a:pt x="5989" y="12141"/>
                  <a:pt x="6024" y="12134"/>
                  <a:pt x="6060" y="12130"/>
                </a:cubicBezTo>
                <a:cubicBezTo>
                  <a:pt x="6089" y="12126"/>
                  <a:pt x="6127" y="12131"/>
                  <a:pt x="6151" y="12152"/>
                </a:cubicBezTo>
                <a:cubicBezTo>
                  <a:pt x="6162" y="12167"/>
                  <a:pt x="6166" y="12171"/>
                  <a:pt x="6166" y="12184"/>
                </a:cubicBezTo>
              </a:path>
              <a:path w="1862" h="526">
                <a:moveTo>
                  <a:pt x="5861" y="12588"/>
                </a:moveTo>
                <a:cubicBezTo>
                  <a:pt x="5856" y="12589"/>
                  <a:pt x="5850" y="12590"/>
                  <a:pt x="5845" y="12591"/>
                </a:cubicBezTo>
                <a:cubicBezTo>
                  <a:pt x="5872" y="12591"/>
                  <a:pt x="5906" y="12580"/>
                  <a:pt x="5934" y="12573"/>
                </a:cubicBezTo>
                <a:cubicBezTo>
                  <a:pt x="5975" y="12562"/>
                  <a:pt x="6002" y="12550"/>
                  <a:pt x="6044" y="12548"/>
                </a:cubicBezTo>
                <a:cubicBezTo>
                  <a:pt x="6063" y="12546"/>
                  <a:pt x="6070" y="12546"/>
                  <a:pt x="6081" y="12555"/>
                </a:cubicBezTo>
              </a:path>
              <a:path w="1862" h="526">
                <a:moveTo>
                  <a:pt x="6468" y="12228"/>
                </a:moveTo>
                <a:cubicBezTo>
                  <a:pt x="6472" y="12202"/>
                  <a:pt x="6474" y="12179"/>
                  <a:pt x="6465" y="12154"/>
                </a:cubicBezTo>
                <a:cubicBezTo>
                  <a:pt x="6455" y="12126"/>
                  <a:pt x="6424" y="12143"/>
                  <a:pt x="6404" y="12152"/>
                </a:cubicBezTo>
                <a:cubicBezTo>
                  <a:pt x="6377" y="12163"/>
                  <a:pt x="6351" y="12177"/>
                  <a:pt x="6327" y="12193"/>
                </a:cubicBezTo>
                <a:cubicBezTo>
                  <a:pt x="6303" y="12208"/>
                  <a:pt x="6280" y="12226"/>
                  <a:pt x="6304" y="12253"/>
                </a:cubicBezTo>
                <a:cubicBezTo>
                  <a:pt x="6323" y="12274"/>
                  <a:pt x="6351" y="12284"/>
                  <a:pt x="6375" y="12297"/>
                </a:cubicBezTo>
                <a:cubicBezTo>
                  <a:pt x="6400" y="12310"/>
                  <a:pt x="6426" y="12321"/>
                  <a:pt x="6450" y="12336"/>
                </a:cubicBezTo>
                <a:cubicBezTo>
                  <a:pt x="6480" y="12355"/>
                  <a:pt x="6514" y="12382"/>
                  <a:pt x="6533" y="12413"/>
                </a:cubicBezTo>
                <a:cubicBezTo>
                  <a:pt x="6549" y="12438"/>
                  <a:pt x="6544" y="12461"/>
                  <a:pt x="6528" y="12484"/>
                </a:cubicBezTo>
                <a:cubicBezTo>
                  <a:pt x="6509" y="12513"/>
                  <a:pt x="6473" y="12524"/>
                  <a:pt x="6443" y="12537"/>
                </a:cubicBezTo>
                <a:cubicBezTo>
                  <a:pt x="6411" y="12551"/>
                  <a:pt x="6345" y="12586"/>
                  <a:pt x="6308" y="12580"/>
                </a:cubicBezTo>
                <a:cubicBezTo>
                  <a:pt x="6303" y="12578"/>
                  <a:pt x="6299" y="12575"/>
                  <a:pt x="6294" y="125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4" name="Ink 32"/>
          <p:cNvSpPr/>
          <p:nvPr/>
        </p:nvSpPr>
        <p:spPr>
          <a:xfrm>
            <a:off x="6800760" y="5394240"/>
            <a:ext cx="619200" cy="287280"/>
          </a:xfrm>
          <a:custGeom>
            <a:avLst/>
            <a:gdLst/>
            <a:ahLst/>
            <a:rect l="l" t="t" r="r" b="b"/>
            <a:pathLst>
              <a:path w="1717" h="796">
                <a:moveTo>
                  <a:pt x="6393" y="13482"/>
                </a:moveTo>
                <a:cubicBezTo>
                  <a:pt x="6375" y="13495"/>
                  <a:pt x="6379" y="13498"/>
                  <a:pt x="6359" y="13509"/>
                </a:cubicBezTo>
                <a:cubicBezTo>
                  <a:pt x="6331" y="13525"/>
                  <a:pt x="6301" y="13544"/>
                  <a:pt x="6272" y="13558"/>
                </a:cubicBezTo>
                <a:cubicBezTo>
                  <a:pt x="6230" y="13579"/>
                  <a:pt x="6183" y="13598"/>
                  <a:pt x="6138" y="13611"/>
                </a:cubicBezTo>
                <a:cubicBezTo>
                  <a:pt x="6090" y="13625"/>
                  <a:pt x="6038" y="13638"/>
                  <a:pt x="5988" y="13640"/>
                </a:cubicBezTo>
                <a:cubicBezTo>
                  <a:pt x="5956" y="13641"/>
                  <a:pt x="5918" y="13639"/>
                  <a:pt x="5888" y="13628"/>
                </a:cubicBezTo>
                <a:cubicBezTo>
                  <a:pt x="5853" y="13615"/>
                  <a:pt x="5854" y="13582"/>
                  <a:pt x="5856" y="13551"/>
                </a:cubicBezTo>
                <a:cubicBezTo>
                  <a:pt x="5859" y="13502"/>
                  <a:pt x="5874" y="13453"/>
                  <a:pt x="5878" y="13404"/>
                </a:cubicBezTo>
                <a:cubicBezTo>
                  <a:pt x="5881" y="13369"/>
                  <a:pt x="5885" y="13334"/>
                  <a:pt x="5886" y="13299"/>
                </a:cubicBezTo>
                <a:cubicBezTo>
                  <a:pt x="5886" y="13285"/>
                  <a:pt x="5886" y="13271"/>
                  <a:pt x="5886" y="13257"/>
                </a:cubicBezTo>
                <a:cubicBezTo>
                  <a:pt x="5896" y="13289"/>
                  <a:pt x="5892" y="13315"/>
                  <a:pt x="5888" y="13349"/>
                </a:cubicBezTo>
              </a:path>
              <a:path w="1717" h="796">
                <a:moveTo>
                  <a:pt x="5661" y="13640"/>
                </a:moveTo>
                <a:cubicBezTo>
                  <a:pt x="5675" y="13620"/>
                  <a:pt x="5685" y="13610"/>
                  <a:pt x="5690" y="13589"/>
                </a:cubicBezTo>
                <a:cubicBezTo>
                  <a:pt x="5674" y="13618"/>
                  <a:pt x="5652" y="13639"/>
                  <a:pt x="5627" y="13662"/>
                </a:cubicBezTo>
                <a:cubicBezTo>
                  <a:pt x="5589" y="13696"/>
                  <a:pt x="5544" y="13730"/>
                  <a:pt x="5497" y="13751"/>
                </a:cubicBezTo>
                <a:cubicBezTo>
                  <a:pt x="5485" y="13757"/>
                  <a:pt x="5451" y="13788"/>
                  <a:pt x="5435" y="13777"/>
                </a:cubicBezTo>
                <a:cubicBezTo>
                  <a:pt x="5432" y="13773"/>
                  <a:pt x="5430" y="13768"/>
                  <a:pt x="5427" y="13764"/>
                </a:cubicBezTo>
              </a:path>
              <a:path w="1717" h="796">
                <a:moveTo>
                  <a:pt x="5714" y="13186"/>
                </a:moveTo>
                <a:cubicBezTo>
                  <a:pt x="5720" y="13171"/>
                  <a:pt x="5727" y="13159"/>
                  <a:pt x="5736" y="13145"/>
                </a:cubicBezTo>
                <a:cubicBezTo>
                  <a:pt x="5739" y="13161"/>
                  <a:pt x="5740" y="13166"/>
                  <a:pt x="5739" y="13177"/>
                </a:cubicBezTo>
              </a:path>
              <a:path w="1717" h="796">
                <a:moveTo>
                  <a:pt x="5527" y="13459"/>
                </a:moveTo>
                <a:cubicBezTo>
                  <a:pt x="5515" y="13431"/>
                  <a:pt x="5534" y="13446"/>
                  <a:pt x="5563" y="13438"/>
                </a:cubicBezTo>
                <a:cubicBezTo>
                  <a:pt x="5590" y="13431"/>
                  <a:pt x="5623" y="13420"/>
                  <a:pt x="5625" y="13387"/>
                </a:cubicBezTo>
                <a:cubicBezTo>
                  <a:pt x="5627" y="13364"/>
                  <a:pt x="5617" y="13341"/>
                  <a:pt x="5611" y="13320"/>
                </a:cubicBezTo>
                <a:cubicBezTo>
                  <a:pt x="5605" y="13298"/>
                  <a:pt x="5594" y="13281"/>
                  <a:pt x="5582" y="13262"/>
                </a:cubicBezTo>
                <a:cubicBezTo>
                  <a:pt x="5562" y="13288"/>
                  <a:pt x="5557" y="13313"/>
                  <a:pt x="5543" y="13342"/>
                </a:cubicBezTo>
                <a:cubicBezTo>
                  <a:pt x="5527" y="13375"/>
                  <a:pt x="5507" y="13407"/>
                  <a:pt x="5487" y="13437"/>
                </a:cubicBezTo>
                <a:cubicBezTo>
                  <a:pt x="5466" y="13467"/>
                  <a:pt x="5444" y="13487"/>
                  <a:pt x="5416" y="13509"/>
                </a:cubicBezTo>
                <a:cubicBezTo>
                  <a:pt x="5396" y="13524"/>
                  <a:pt x="5378" y="13535"/>
                  <a:pt x="5353" y="13537"/>
                </a:cubicBezTo>
                <a:cubicBezTo>
                  <a:pt x="5322" y="13539"/>
                  <a:pt x="5305" y="13521"/>
                  <a:pt x="5292" y="13495"/>
                </a:cubicBezTo>
                <a:cubicBezTo>
                  <a:pt x="5282" y="13476"/>
                  <a:pt x="5290" y="13454"/>
                  <a:pt x="5292" y="13434"/>
                </a:cubicBezTo>
                <a:cubicBezTo>
                  <a:pt x="5295" y="13405"/>
                  <a:pt x="5300" y="13376"/>
                  <a:pt x="5306" y="13347"/>
                </a:cubicBezTo>
                <a:cubicBezTo>
                  <a:pt x="5313" y="13316"/>
                  <a:pt x="5317" y="13285"/>
                  <a:pt x="5320" y="13253"/>
                </a:cubicBezTo>
                <a:cubicBezTo>
                  <a:pt x="5322" y="13228"/>
                  <a:pt x="5324" y="13206"/>
                  <a:pt x="5331" y="13182"/>
                </a:cubicBezTo>
                <a:cubicBezTo>
                  <a:pt x="5341" y="13222"/>
                  <a:pt x="5341" y="13252"/>
                  <a:pt x="5338" y="13294"/>
                </a:cubicBezTo>
              </a:path>
              <a:path w="1717" h="796">
                <a:moveTo>
                  <a:pt x="5150" y="13296"/>
                </a:moveTo>
                <a:cubicBezTo>
                  <a:pt x="5153" y="13263"/>
                  <a:pt x="5161" y="13231"/>
                  <a:pt x="5165" y="13198"/>
                </a:cubicBezTo>
                <a:cubicBezTo>
                  <a:pt x="5168" y="13178"/>
                  <a:pt x="5170" y="13158"/>
                  <a:pt x="5172" y="13138"/>
                </a:cubicBezTo>
                <a:cubicBezTo>
                  <a:pt x="5172" y="13198"/>
                  <a:pt x="5176" y="13260"/>
                  <a:pt x="5164" y="13319"/>
                </a:cubicBezTo>
                <a:cubicBezTo>
                  <a:pt x="5154" y="13365"/>
                  <a:pt x="5140" y="13407"/>
                  <a:pt x="5122" y="13450"/>
                </a:cubicBezTo>
                <a:cubicBezTo>
                  <a:pt x="5104" y="13494"/>
                  <a:pt x="5075" y="13520"/>
                  <a:pt x="5040" y="13552"/>
                </a:cubicBezTo>
                <a:cubicBezTo>
                  <a:pt x="5001" y="13587"/>
                  <a:pt x="4960" y="13613"/>
                  <a:pt x="4908" y="13625"/>
                </a:cubicBezTo>
                <a:cubicBezTo>
                  <a:pt x="4864" y="13635"/>
                  <a:pt x="4821" y="13640"/>
                  <a:pt x="4777" y="13628"/>
                </a:cubicBezTo>
                <a:cubicBezTo>
                  <a:pt x="4756" y="13622"/>
                  <a:pt x="4734" y="13611"/>
                  <a:pt x="4719" y="13596"/>
                </a:cubicBezTo>
                <a:cubicBezTo>
                  <a:pt x="4701" y="13578"/>
                  <a:pt x="4689" y="13553"/>
                  <a:pt x="4689" y="13527"/>
                </a:cubicBezTo>
                <a:cubicBezTo>
                  <a:pt x="4689" y="13501"/>
                  <a:pt x="4694" y="13476"/>
                  <a:pt x="4703" y="13452"/>
                </a:cubicBezTo>
                <a:cubicBezTo>
                  <a:pt x="4714" y="13423"/>
                  <a:pt x="4726" y="13393"/>
                  <a:pt x="4742" y="13367"/>
                </a:cubicBezTo>
                <a:cubicBezTo>
                  <a:pt x="4758" y="13340"/>
                  <a:pt x="4778" y="13317"/>
                  <a:pt x="4797" y="13292"/>
                </a:cubicBezTo>
                <a:cubicBezTo>
                  <a:pt x="4822" y="13259"/>
                  <a:pt x="4846" y="13234"/>
                  <a:pt x="4886" y="13225"/>
                </a:cubicBezTo>
              </a:path>
              <a:path w="1717" h="796">
                <a:moveTo>
                  <a:pt x="5007" y="12999"/>
                </a:moveTo>
                <a:cubicBezTo>
                  <a:pt x="5015" y="12957"/>
                  <a:pt x="5028" y="13010"/>
                  <a:pt x="5025" y="130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5" name="Ink 60"/>
          <p:cNvSpPr/>
          <p:nvPr/>
        </p:nvSpPr>
        <p:spPr>
          <a:xfrm>
            <a:off x="4284720" y="1557360"/>
            <a:ext cx="750960" cy="345960"/>
          </a:xfrm>
          <a:custGeom>
            <a:avLst/>
            <a:gdLst/>
            <a:ahLst/>
            <a:rect l="l" t="t" r="r" b="b"/>
            <a:pathLst>
              <a:path w="2085" h="961">
                <a:moveTo>
                  <a:pt x="14526" y="4920"/>
                </a:moveTo>
                <a:cubicBezTo>
                  <a:pt x="14531" y="4906"/>
                  <a:pt x="14533" y="4901"/>
                  <a:pt x="14541" y="4894"/>
                </a:cubicBezTo>
                <a:cubicBezTo>
                  <a:pt x="14512" y="4923"/>
                  <a:pt x="14485" y="4953"/>
                  <a:pt x="14447" y="4970"/>
                </a:cubicBezTo>
                <a:cubicBezTo>
                  <a:pt x="14384" y="4998"/>
                  <a:pt x="14365" y="4945"/>
                  <a:pt x="14319" y="4916"/>
                </a:cubicBezTo>
                <a:cubicBezTo>
                  <a:pt x="14296" y="4902"/>
                  <a:pt x="14278" y="4899"/>
                  <a:pt x="14252" y="4898"/>
                </a:cubicBezTo>
                <a:cubicBezTo>
                  <a:pt x="14235" y="4899"/>
                  <a:pt x="14229" y="4899"/>
                  <a:pt x="14218" y="4900"/>
                </a:cubicBezTo>
                <a:cubicBezTo>
                  <a:pt x="14236" y="4882"/>
                  <a:pt x="14250" y="4865"/>
                  <a:pt x="14273" y="4850"/>
                </a:cubicBezTo>
                <a:cubicBezTo>
                  <a:pt x="14293" y="4837"/>
                  <a:pt x="14325" y="4814"/>
                  <a:pt x="14351" y="4816"/>
                </a:cubicBezTo>
                <a:cubicBezTo>
                  <a:pt x="14386" y="4819"/>
                  <a:pt x="14384" y="4828"/>
                  <a:pt x="14383" y="4859"/>
                </a:cubicBezTo>
                <a:cubicBezTo>
                  <a:pt x="14382" y="4913"/>
                  <a:pt x="14349" y="4977"/>
                  <a:pt x="14316" y="5017"/>
                </a:cubicBezTo>
                <a:cubicBezTo>
                  <a:pt x="14289" y="5050"/>
                  <a:pt x="14259" y="5076"/>
                  <a:pt x="14217" y="5087"/>
                </a:cubicBezTo>
                <a:cubicBezTo>
                  <a:pt x="14186" y="5095"/>
                  <a:pt x="14140" y="5091"/>
                  <a:pt x="14139" y="5047"/>
                </a:cubicBezTo>
                <a:cubicBezTo>
                  <a:pt x="14140" y="5024"/>
                  <a:pt x="14140" y="5016"/>
                  <a:pt x="14146" y="5002"/>
                </a:cubicBezTo>
                <a:cubicBezTo>
                  <a:pt x="14128" y="5041"/>
                  <a:pt x="14087" y="5178"/>
                  <a:pt x="14040" y="5189"/>
                </a:cubicBezTo>
                <a:cubicBezTo>
                  <a:pt x="14010" y="5196"/>
                  <a:pt x="14005" y="5169"/>
                  <a:pt x="13985" y="5152"/>
                </a:cubicBezTo>
                <a:cubicBezTo>
                  <a:pt x="13960" y="5130"/>
                  <a:pt x="13953" y="5117"/>
                  <a:pt x="13922" y="5127"/>
                </a:cubicBezTo>
                <a:cubicBezTo>
                  <a:pt x="13892" y="5137"/>
                  <a:pt x="13848" y="5189"/>
                  <a:pt x="13824" y="5208"/>
                </a:cubicBezTo>
                <a:cubicBezTo>
                  <a:pt x="13767" y="5254"/>
                  <a:pt x="13711" y="5304"/>
                  <a:pt x="13651" y="5346"/>
                </a:cubicBezTo>
                <a:cubicBezTo>
                  <a:pt x="13612" y="5373"/>
                  <a:pt x="13580" y="5400"/>
                  <a:pt x="13543" y="5429"/>
                </a:cubicBezTo>
              </a:path>
              <a:path w="2085" h="961">
                <a:moveTo>
                  <a:pt x="14580" y="4663"/>
                </a:moveTo>
                <a:cubicBezTo>
                  <a:pt x="14575" y="4661"/>
                  <a:pt x="14571" y="4660"/>
                  <a:pt x="14566" y="4658"/>
                </a:cubicBezTo>
                <a:cubicBezTo>
                  <a:pt x="14575" y="4633"/>
                  <a:pt x="14604" y="4635"/>
                  <a:pt x="14634" y="4628"/>
                </a:cubicBezTo>
                <a:cubicBezTo>
                  <a:pt x="14692" y="4615"/>
                  <a:pt x="14750" y="4603"/>
                  <a:pt x="14810" y="4600"/>
                </a:cubicBezTo>
                <a:cubicBezTo>
                  <a:pt x="14857" y="4598"/>
                  <a:pt x="14899" y="4602"/>
                  <a:pt x="14846" y="4636"/>
                </a:cubicBezTo>
              </a:path>
              <a:path w="2085" h="961">
                <a:moveTo>
                  <a:pt x="14376" y="4487"/>
                </a:moveTo>
                <a:cubicBezTo>
                  <a:pt x="14368" y="4441"/>
                  <a:pt x="14364" y="4515"/>
                  <a:pt x="14363" y="4528"/>
                </a:cubicBezTo>
              </a:path>
              <a:path w="2085" h="961">
                <a:moveTo>
                  <a:pt x="14167" y="5372"/>
                </a:moveTo>
                <a:cubicBezTo>
                  <a:pt x="14161" y="5371"/>
                  <a:pt x="14155" y="5370"/>
                  <a:pt x="14149" y="5369"/>
                </a:cubicBezTo>
                <a:cubicBezTo>
                  <a:pt x="14178" y="5361"/>
                  <a:pt x="14205" y="5356"/>
                  <a:pt x="14235" y="5356"/>
                </a:cubicBezTo>
                <a:cubicBezTo>
                  <a:pt x="14265" y="5356"/>
                  <a:pt x="14286" y="5354"/>
                  <a:pt x="14314" y="5367"/>
                </a:cubicBezTo>
                <a:cubicBezTo>
                  <a:pt x="14319" y="5370"/>
                  <a:pt x="14325" y="5373"/>
                  <a:pt x="14330" y="5376"/>
                </a:cubicBezTo>
              </a:path>
              <a:path w="2085" h="961">
                <a:moveTo>
                  <a:pt x="13777" y="5427"/>
                </a:moveTo>
                <a:cubicBezTo>
                  <a:pt x="13788" y="5404"/>
                  <a:pt x="13806" y="5401"/>
                  <a:pt x="13833" y="5397"/>
                </a:cubicBezTo>
                <a:cubicBezTo>
                  <a:pt x="13876" y="5391"/>
                  <a:pt x="13892" y="5390"/>
                  <a:pt x="13929" y="5414"/>
                </a:cubicBezTo>
              </a:path>
              <a:path w="2085" h="961">
                <a:moveTo>
                  <a:pt x="13802" y="4867"/>
                </a:moveTo>
                <a:cubicBezTo>
                  <a:pt x="13808" y="4841"/>
                  <a:pt x="13816" y="4818"/>
                  <a:pt x="13823" y="4791"/>
                </a:cubicBezTo>
                <a:cubicBezTo>
                  <a:pt x="13828" y="4773"/>
                  <a:pt x="13829" y="4768"/>
                  <a:pt x="13833" y="4757"/>
                </a:cubicBezTo>
                <a:cubicBezTo>
                  <a:pt x="13822" y="4785"/>
                  <a:pt x="13816" y="4812"/>
                  <a:pt x="13808" y="4841"/>
                </a:cubicBezTo>
                <a:cubicBezTo>
                  <a:pt x="13795" y="4885"/>
                  <a:pt x="13780" y="4929"/>
                  <a:pt x="13769" y="4974"/>
                </a:cubicBezTo>
                <a:cubicBezTo>
                  <a:pt x="13759" y="5015"/>
                  <a:pt x="13747" y="5054"/>
                  <a:pt x="13738" y="5095"/>
                </a:cubicBezTo>
              </a:path>
              <a:path w="2085" h="961">
                <a:moveTo>
                  <a:pt x="13671" y="4937"/>
                </a:moveTo>
                <a:cubicBezTo>
                  <a:pt x="13676" y="4934"/>
                  <a:pt x="13680" y="4930"/>
                  <a:pt x="13685" y="4927"/>
                </a:cubicBezTo>
                <a:cubicBezTo>
                  <a:pt x="13663" y="4942"/>
                  <a:pt x="13639" y="4961"/>
                  <a:pt x="13616" y="4977"/>
                </a:cubicBezTo>
                <a:cubicBezTo>
                  <a:pt x="13571" y="5008"/>
                  <a:pt x="13521" y="5027"/>
                  <a:pt x="13470" y="5045"/>
                </a:cubicBezTo>
                <a:cubicBezTo>
                  <a:pt x="13386" y="5075"/>
                  <a:pt x="13303" y="5090"/>
                  <a:pt x="13214" y="5102"/>
                </a:cubicBezTo>
                <a:cubicBezTo>
                  <a:pt x="13109" y="5116"/>
                  <a:pt x="12997" y="5126"/>
                  <a:pt x="12891" y="5111"/>
                </a:cubicBezTo>
                <a:cubicBezTo>
                  <a:pt x="12856" y="5106"/>
                  <a:pt x="12806" y="5047"/>
                  <a:pt x="12790" y="5079"/>
                </a:cubicBezTo>
                <a:cubicBezTo>
                  <a:pt x="12782" y="5095"/>
                  <a:pt x="12794" y="5111"/>
                  <a:pt x="12792" y="5129"/>
                </a:cubicBezTo>
              </a:path>
              <a:path w="2085" h="961">
                <a:moveTo>
                  <a:pt x="13090" y="4760"/>
                </a:moveTo>
                <a:cubicBezTo>
                  <a:pt x="13089" y="4731"/>
                  <a:pt x="13131" y="4734"/>
                  <a:pt x="13170" y="4725"/>
                </a:cubicBezTo>
                <a:cubicBezTo>
                  <a:pt x="13242" y="4709"/>
                  <a:pt x="13312" y="4707"/>
                  <a:pt x="13386" y="4707"/>
                </a:cubicBezTo>
                <a:cubicBezTo>
                  <a:pt x="13439" y="4707"/>
                  <a:pt x="13493" y="4710"/>
                  <a:pt x="13546" y="47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6" name="Ink 61"/>
          <p:cNvSpPr/>
          <p:nvPr/>
        </p:nvSpPr>
        <p:spPr>
          <a:xfrm>
            <a:off x="3502080" y="2720880"/>
            <a:ext cx="2025720" cy="451080"/>
          </a:xfrm>
          <a:custGeom>
            <a:avLst/>
            <a:gdLst/>
            <a:ahLst/>
            <a:rect l="l" t="t" r="r" b="b"/>
            <a:pathLst>
              <a:path w="5626" h="1252">
                <a:moveTo>
                  <a:pt x="15346" y="8515"/>
                </a:moveTo>
                <a:cubicBezTo>
                  <a:pt x="15350" y="8502"/>
                  <a:pt x="15351" y="8498"/>
                  <a:pt x="15355" y="8490"/>
                </a:cubicBezTo>
                <a:cubicBezTo>
                  <a:pt x="15351" y="8513"/>
                  <a:pt x="15341" y="8534"/>
                  <a:pt x="15332" y="8556"/>
                </a:cubicBezTo>
                <a:cubicBezTo>
                  <a:pt x="15317" y="8592"/>
                  <a:pt x="15298" y="8626"/>
                  <a:pt x="15283" y="8662"/>
                </a:cubicBezTo>
                <a:cubicBezTo>
                  <a:pt x="15270" y="8692"/>
                  <a:pt x="15262" y="8737"/>
                  <a:pt x="15245" y="8764"/>
                </a:cubicBezTo>
                <a:cubicBezTo>
                  <a:pt x="15234" y="8783"/>
                  <a:pt x="15220" y="8797"/>
                  <a:pt x="15205" y="8811"/>
                </a:cubicBezTo>
              </a:path>
              <a:path w="5626" h="1252">
                <a:moveTo>
                  <a:pt x="14991" y="8545"/>
                </a:moveTo>
                <a:cubicBezTo>
                  <a:pt x="14993" y="8513"/>
                  <a:pt x="15014" y="8518"/>
                  <a:pt x="15052" y="8512"/>
                </a:cubicBezTo>
                <a:cubicBezTo>
                  <a:pt x="15087" y="8507"/>
                  <a:pt x="15123" y="8509"/>
                  <a:pt x="15158" y="8509"/>
                </a:cubicBezTo>
                <a:cubicBezTo>
                  <a:pt x="15191" y="8509"/>
                  <a:pt x="15210" y="8514"/>
                  <a:pt x="15238" y="8530"/>
                </a:cubicBezTo>
                <a:cubicBezTo>
                  <a:pt x="15235" y="8563"/>
                  <a:pt x="15224" y="8579"/>
                  <a:pt x="15199" y="8602"/>
                </a:cubicBezTo>
                <a:cubicBezTo>
                  <a:pt x="15154" y="8643"/>
                  <a:pt x="15088" y="8667"/>
                  <a:pt x="15027" y="8657"/>
                </a:cubicBezTo>
                <a:cubicBezTo>
                  <a:pt x="14995" y="8652"/>
                  <a:pt x="14971" y="8637"/>
                  <a:pt x="14956" y="8608"/>
                </a:cubicBezTo>
                <a:cubicBezTo>
                  <a:pt x="14945" y="8588"/>
                  <a:pt x="14961" y="8568"/>
                  <a:pt x="14973" y="8554"/>
                </a:cubicBezTo>
                <a:cubicBezTo>
                  <a:pt x="14989" y="8535"/>
                  <a:pt x="15007" y="8526"/>
                  <a:pt x="15030" y="8520"/>
                </a:cubicBezTo>
                <a:cubicBezTo>
                  <a:pt x="15049" y="8515"/>
                  <a:pt x="15078" y="8512"/>
                  <a:pt x="15087" y="8536"/>
                </a:cubicBezTo>
                <a:cubicBezTo>
                  <a:pt x="15095" y="8557"/>
                  <a:pt x="15080" y="8591"/>
                  <a:pt x="15069" y="8609"/>
                </a:cubicBezTo>
                <a:cubicBezTo>
                  <a:pt x="15052" y="8636"/>
                  <a:pt x="15026" y="8662"/>
                  <a:pt x="14999" y="8680"/>
                </a:cubicBezTo>
                <a:cubicBezTo>
                  <a:pt x="14964" y="8704"/>
                  <a:pt x="14915" y="8721"/>
                  <a:pt x="14874" y="8707"/>
                </a:cubicBezTo>
                <a:cubicBezTo>
                  <a:pt x="14851" y="8699"/>
                  <a:pt x="14838" y="8684"/>
                  <a:pt x="14832" y="8661"/>
                </a:cubicBezTo>
                <a:cubicBezTo>
                  <a:pt x="14826" y="8640"/>
                  <a:pt x="14828" y="8617"/>
                  <a:pt x="14835" y="8597"/>
                </a:cubicBezTo>
                <a:cubicBezTo>
                  <a:pt x="14840" y="8583"/>
                  <a:pt x="14846" y="8570"/>
                  <a:pt x="14852" y="8556"/>
                </a:cubicBezTo>
                <a:cubicBezTo>
                  <a:pt x="14851" y="8586"/>
                  <a:pt x="14853" y="8596"/>
                  <a:pt x="14832" y="8622"/>
                </a:cubicBezTo>
                <a:cubicBezTo>
                  <a:pt x="14809" y="8651"/>
                  <a:pt x="14773" y="8664"/>
                  <a:pt x="14739" y="8677"/>
                </a:cubicBezTo>
                <a:cubicBezTo>
                  <a:pt x="14687" y="8697"/>
                  <a:pt x="14639" y="8710"/>
                  <a:pt x="14586" y="8723"/>
                </a:cubicBezTo>
                <a:cubicBezTo>
                  <a:pt x="14558" y="8732"/>
                  <a:pt x="14549" y="8735"/>
                  <a:pt x="14530" y="8728"/>
                </a:cubicBezTo>
              </a:path>
              <a:path w="5626" h="1252">
                <a:moveTo>
                  <a:pt x="14803" y="8330"/>
                </a:moveTo>
                <a:cubicBezTo>
                  <a:pt x="14810" y="8303"/>
                  <a:pt x="14809" y="8286"/>
                  <a:pt x="14832" y="8278"/>
                </a:cubicBezTo>
                <a:cubicBezTo>
                  <a:pt x="14833" y="8313"/>
                  <a:pt x="14821" y="8338"/>
                  <a:pt x="14807" y="8371"/>
                </a:cubicBezTo>
                <a:cubicBezTo>
                  <a:pt x="14786" y="8422"/>
                  <a:pt x="14757" y="8467"/>
                  <a:pt x="14729" y="8515"/>
                </a:cubicBezTo>
                <a:cubicBezTo>
                  <a:pt x="14705" y="8555"/>
                  <a:pt x="14677" y="8589"/>
                  <a:pt x="14644" y="8620"/>
                </a:cubicBezTo>
              </a:path>
              <a:path w="5626" h="1252">
                <a:moveTo>
                  <a:pt x="14594" y="8473"/>
                </a:moveTo>
                <a:cubicBezTo>
                  <a:pt x="14587" y="8451"/>
                  <a:pt x="14578" y="8429"/>
                  <a:pt x="14576" y="8406"/>
                </a:cubicBezTo>
                <a:cubicBezTo>
                  <a:pt x="14574" y="8380"/>
                  <a:pt x="14582" y="8358"/>
                  <a:pt x="14611" y="8355"/>
                </a:cubicBezTo>
                <a:cubicBezTo>
                  <a:pt x="14640" y="8352"/>
                  <a:pt x="14647" y="8383"/>
                  <a:pt x="14644" y="8406"/>
                </a:cubicBezTo>
                <a:cubicBezTo>
                  <a:pt x="14639" y="8441"/>
                  <a:pt x="14615" y="8472"/>
                  <a:pt x="14587" y="8492"/>
                </a:cubicBezTo>
                <a:cubicBezTo>
                  <a:pt x="14534" y="8531"/>
                  <a:pt x="14450" y="8533"/>
                  <a:pt x="14388" y="8538"/>
                </a:cubicBezTo>
                <a:cubicBezTo>
                  <a:pt x="14347" y="8541"/>
                  <a:pt x="14304" y="8544"/>
                  <a:pt x="14263" y="8541"/>
                </a:cubicBezTo>
                <a:cubicBezTo>
                  <a:pt x="14234" y="8539"/>
                  <a:pt x="14209" y="8535"/>
                  <a:pt x="14182" y="8527"/>
                </a:cubicBezTo>
                <a:cubicBezTo>
                  <a:pt x="14159" y="8520"/>
                  <a:pt x="14138" y="8509"/>
                  <a:pt x="14117" y="8498"/>
                </a:cubicBezTo>
                <a:cubicBezTo>
                  <a:pt x="14092" y="8486"/>
                  <a:pt x="14062" y="8483"/>
                  <a:pt x="14079" y="8466"/>
                </a:cubicBezTo>
              </a:path>
              <a:path w="5626" h="1252">
                <a:moveTo>
                  <a:pt x="14491" y="8149"/>
                </a:moveTo>
                <a:cubicBezTo>
                  <a:pt x="14489" y="8109"/>
                  <a:pt x="14486" y="8121"/>
                  <a:pt x="14473" y="8151"/>
                </a:cubicBezTo>
              </a:path>
              <a:path w="5626" h="1252">
                <a:moveTo>
                  <a:pt x="13703" y="8492"/>
                </a:moveTo>
                <a:cubicBezTo>
                  <a:pt x="13698" y="8491"/>
                  <a:pt x="13693" y="8489"/>
                  <a:pt x="13688" y="8488"/>
                </a:cubicBezTo>
                <a:cubicBezTo>
                  <a:pt x="13715" y="8487"/>
                  <a:pt x="13743" y="8488"/>
                  <a:pt x="13770" y="8485"/>
                </a:cubicBezTo>
                <a:cubicBezTo>
                  <a:pt x="13796" y="8483"/>
                  <a:pt x="13812" y="8485"/>
                  <a:pt x="13837" y="8488"/>
                </a:cubicBezTo>
              </a:path>
              <a:path w="5626" h="1252">
                <a:moveTo>
                  <a:pt x="13534" y="8210"/>
                </a:moveTo>
                <a:cubicBezTo>
                  <a:pt x="13538" y="8193"/>
                  <a:pt x="13539" y="8188"/>
                  <a:pt x="13536" y="8176"/>
                </a:cubicBezTo>
                <a:cubicBezTo>
                  <a:pt x="13548" y="8199"/>
                  <a:pt x="13548" y="8218"/>
                  <a:pt x="13545" y="8245"/>
                </a:cubicBezTo>
                <a:cubicBezTo>
                  <a:pt x="13537" y="8327"/>
                  <a:pt x="13511" y="8396"/>
                  <a:pt x="13479" y="8469"/>
                </a:cubicBezTo>
                <a:cubicBezTo>
                  <a:pt x="13465" y="8508"/>
                  <a:pt x="13462" y="8520"/>
                  <a:pt x="13440" y="8538"/>
                </a:cubicBezTo>
              </a:path>
              <a:path w="5626" h="1252">
                <a:moveTo>
                  <a:pt x="13392" y="8259"/>
                </a:moveTo>
                <a:cubicBezTo>
                  <a:pt x="13393" y="8254"/>
                  <a:pt x="13393" y="8250"/>
                  <a:pt x="13394" y="8245"/>
                </a:cubicBezTo>
                <a:cubicBezTo>
                  <a:pt x="13391" y="8257"/>
                  <a:pt x="13395" y="8296"/>
                  <a:pt x="13360" y="8291"/>
                </a:cubicBezTo>
                <a:cubicBezTo>
                  <a:pt x="13346" y="8286"/>
                  <a:pt x="13341" y="8284"/>
                  <a:pt x="13339" y="8272"/>
                </a:cubicBezTo>
                <a:cubicBezTo>
                  <a:pt x="13317" y="8304"/>
                  <a:pt x="13299" y="8332"/>
                  <a:pt x="13273" y="8360"/>
                </a:cubicBezTo>
                <a:cubicBezTo>
                  <a:pt x="13262" y="8341"/>
                  <a:pt x="13259" y="8331"/>
                  <a:pt x="13253" y="8307"/>
                </a:cubicBezTo>
                <a:cubicBezTo>
                  <a:pt x="13247" y="8329"/>
                  <a:pt x="13241" y="8351"/>
                  <a:pt x="13234" y="8373"/>
                </a:cubicBezTo>
                <a:cubicBezTo>
                  <a:pt x="13220" y="8415"/>
                  <a:pt x="13204" y="8461"/>
                  <a:pt x="13179" y="8498"/>
                </a:cubicBezTo>
                <a:cubicBezTo>
                  <a:pt x="13167" y="8513"/>
                  <a:pt x="13165" y="8518"/>
                  <a:pt x="13151" y="8516"/>
                </a:cubicBezTo>
                <a:cubicBezTo>
                  <a:pt x="13138" y="8498"/>
                  <a:pt x="13121" y="8457"/>
                  <a:pt x="13102" y="8445"/>
                </a:cubicBezTo>
                <a:cubicBezTo>
                  <a:pt x="13083" y="8433"/>
                  <a:pt x="13065" y="8433"/>
                  <a:pt x="13045" y="8444"/>
                </a:cubicBezTo>
                <a:cubicBezTo>
                  <a:pt x="13018" y="8459"/>
                  <a:pt x="12996" y="8485"/>
                  <a:pt x="12973" y="8504"/>
                </a:cubicBezTo>
                <a:cubicBezTo>
                  <a:pt x="12935" y="8536"/>
                  <a:pt x="12896" y="8565"/>
                  <a:pt x="12854" y="8590"/>
                </a:cubicBezTo>
                <a:cubicBezTo>
                  <a:pt x="12811" y="8615"/>
                  <a:pt x="12770" y="8642"/>
                  <a:pt x="12728" y="8668"/>
                </a:cubicBezTo>
              </a:path>
              <a:path w="5626" h="1252">
                <a:moveTo>
                  <a:pt x="13187" y="7986"/>
                </a:moveTo>
                <a:cubicBezTo>
                  <a:pt x="13219" y="7963"/>
                  <a:pt x="13252" y="7949"/>
                  <a:pt x="13291" y="7940"/>
                </a:cubicBezTo>
                <a:cubicBezTo>
                  <a:pt x="13329" y="7931"/>
                  <a:pt x="13398" y="7919"/>
                  <a:pt x="13435" y="7930"/>
                </a:cubicBezTo>
                <a:cubicBezTo>
                  <a:pt x="13442" y="7935"/>
                  <a:pt x="13449" y="7939"/>
                  <a:pt x="13456" y="7944"/>
                </a:cubicBezTo>
              </a:path>
              <a:path w="5626" h="1252">
                <a:moveTo>
                  <a:pt x="12927" y="8192"/>
                </a:moveTo>
                <a:cubicBezTo>
                  <a:pt x="12931" y="8165"/>
                  <a:pt x="12933" y="8147"/>
                  <a:pt x="12930" y="8121"/>
                </a:cubicBezTo>
                <a:cubicBezTo>
                  <a:pt x="12940" y="8163"/>
                  <a:pt x="12936" y="8196"/>
                  <a:pt x="12927" y="8239"/>
                </a:cubicBezTo>
                <a:cubicBezTo>
                  <a:pt x="12914" y="8304"/>
                  <a:pt x="12897" y="8361"/>
                  <a:pt x="12874" y="8423"/>
                </a:cubicBezTo>
                <a:cubicBezTo>
                  <a:pt x="12862" y="8463"/>
                  <a:pt x="12859" y="8474"/>
                  <a:pt x="12846" y="8498"/>
                </a:cubicBezTo>
              </a:path>
              <a:path w="5626" h="1252">
                <a:moveTo>
                  <a:pt x="12742" y="8271"/>
                </a:moveTo>
                <a:cubicBezTo>
                  <a:pt x="12742" y="8258"/>
                  <a:pt x="12742" y="8254"/>
                  <a:pt x="12742" y="8245"/>
                </a:cubicBezTo>
                <a:cubicBezTo>
                  <a:pt x="12721" y="8260"/>
                  <a:pt x="12703" y="8279"/>
                  <a:pt x="12683" y="8295"/>
                </a:cubicBezTo>
                <a:cubicBezTo>
                  <a:pt x="12661" y="8312"/>
                  <a:pt x="12639" y="8329"/>
                  <a:pt x="12619" y="8348"/>
                </a:cubicBezTo>
                <a:cubicBezTo>
                  <a:pt x="12596" y="8369"/>
                  <a:pt x="12586" y="8390"/>
                  <a:pt x="12584" y="8421"/>
                </a:cubicBezTo>
                <a:cubicBezTo>
                  <a:pt x="12583" y="8444"/>
                  <a:pt x="12589" y="8468"/>
                  <a:pt x="12583" y="8491"/>
                </a:cubicBezTo>
                <a:cubicBezTo>
                  <a:pt x="12578" y="8512"/>
                  <a:pt x="12562" y="8529"/>
                  <a:pt x="12548" y="8544"/>
                </a:cubicBezTo>
                <a:cubicBezTo>
                  <a:pt x="12527" y="8566"/>
                  <a:pt x="12503" y="8586"/>
                  <a:pt x="12479" y="8604"/>
                </a:cubicBezTo>
                <a:cubicBezTo>
                  <a:pt x="12450" y="8625"/>
                  <a:pt x="12418" y="8636"/>
                  <a:pt x="12384" y="8641"/>
                </a:cubicBezTo>
              </a:path>
              <a:path w="5626" h="1252">
                <a:moveTo>
                  <a:pt x="12880" y="7614"/>
                </a:moveTo>
                <a:cubicBezTo>
                  <a:pt x="12922" y="7600"/>
                  <a:pt x="12960" y="7588"/>
                  <a:pt x="13005" y="7577"/>
                </a:cubicBezTo>
                <a:cubicBezTo>
                  <a:pt x="13056" y="7565"/>
                  <a:pt x="13101" y="7561"/>
                  <a:pt x="13151" y="7568"/>
                </a:cubicBezTo>
              </a:path>
              <a:path w="5626" h="1252">
                <a:moveTo>
                  <a:pt x="12685" y="7886"/>
                </a:moveTo>
                <a:cubicBezTo>
                  <a:pt x="12700" y="7870"/>
                  <a:pt x="12706" y="7849"/>
                  <a:pt x="12731" y="7842"/>
                </a:cubicBezTo>
                <a:cubicBezTo>
                  <a:pt x="12736" y="7842"/>
                  <a:pt x="12740" y="7842"/>
                  <a:pt x="12745" y="7842"/>
                </a:cubicBezTo>
                <a:cubicBezTo>
                  <a:pt x="12757" y="7875"/>
                  <a:pt x="12754" y="7891"/>
                  <a:pt x="12740" y="7923"/>
                </a:cubicBezTo>
                <a:cubicBezTo>
                  <a:pt x="12728" y="7951"/>
                  <a:pt x="12713" y="7968"/>
                  <a:pt x="12690" y="7987"/>
                </a:cubicBezTo>
                <a:cubicBezTo>
                  <a:pt x="12673" y="8001"/>
                  <a:pt x="12651" y="8007"/>
                  <a:pt x="12630" y="7993"/>
                </a:cubicBezTo>
                <a:cubicBezTo>
                  <a:pt x="12608" y="7978"/>
                  <a:pt x="12585" y="7950"/>
                  <a:pt x="12582" y="7922"/>
                </a:cubicBezTo>
                <a:cubicBezTo>
                  <a:pt x="12579" y="7892"/>
                  <a:pt x="12593" y="7866"/>
                  <a:pt x="12621" y="7855"/>
                </a:cubicBezTo>
                <a:cubicBezTo>
                  <a:pt x="12630" y="7853"/>
                  <a:pt x="12638" y="7850"/>
                  <a:pt x="12647" y="7848"/>
                </a:cubicBezTo>
              </a:path>
              <a:path w="5626" h="1252">
                <a:moveTo>
                  <a:pt x="12482" y="8203"/>
                </a:moveTo>
                <a:cubicBezTo>
                  <a:pt x="12491" y="8182"/>
                  <a:pt x="12493" y="8178"/>
                  <a:pt x="12497" y="8165"/>
                </a:cubicBezTo>
                <a:cubicBezTo>
                  <a:pt x="12472" y="8151"/>
                  <a:pt x="12459" y="8156"/>
                  <a:pt x="12431" y="8168"/>
                </a:cubicBezTo>
                <a:cubicBezTo>
                  <a:pt x="12407" y="8178"/>
                  <a:pt x="12384" y="8193"/>
                  <a:pt x="12363" y="8208"/>
                </a:cubicBezTo>
                <a:cubicBezTo>
                  <a:pt x="12339" y="8224"/>
                  <a:pt x="12323" y="8238"/>
                  <a:pt x="12319" y="8263"/>
                </a:cubicBezTo>
                <a:cubicBezTo>
                  <a:pt x="12343" y="8273"/>
                  <a:pt x="12371" y="8278"/>
                  <a:pt x="12387" y="8300"/>
                </a:cubicBezTo>
                <a:cubicBezTo>
                  <a:pt x="12403" y="8322"/>
                  <a:pt x="12410" y="8353"/>
                  <a:pt x="12409" y="8380"/>
                </a:cubicBezTo>
                <a:cubicBezTo>
                  <a:pt x="12408" y="8405"/>
                  <a:pt x="12405" y="8432"/>
                  <a:pt x="12397" y="8456"/>
                </a:cubicBezTo>
                <a:cubicBezTo>
                  <a:pt x="12389" y="8481"/>
                  <a:pt x="12372" y="8502"/>
                  <a:pt x="12352" y="8519"/>
                </a:cubicBezTo>
                <a:cubicBezTo>
                  <a:pt x="12326" y="8540"/>
                  <a:pt x="12295" y="8555"/>
                  <a:pt x="12264" y="8566"/>
                </a:cubicBezTo>
                <a:cubicBezTo>
                  <a:pt x="12227" y="8579"/>
                  <a:pt x="12189" y="8586"/>
                  <a:pt x="12150" y="8587"/>
                </a:cubicBezTo>
                <a:cubicBezTo>
                  <a:pt x="12116" y="8588"/>
                  <a:pt x="12084" y="8586"/>
                  <a:pt x="12051" y="8577"/>
                </a:cubicBezTo>
                <a:cubicBezTo>
                  <a:pt x="12023" y="8570"/>
                  <a:pt x="11989" y="8559"/>
                  <a:pt x="11982" y="8526"/>
                </a:cubicBezTo>
                <a:cubicBezTo>
                  <a:pt x="11976" y="8497"/>
                  <a:pt x="11992" y="8469"/>
                  <a:pt x="12006" y="8445"/>
                </a:cubicBezTo>
                <a:cubicBezTo>
                  <a:pt x="12026" y="8409"/>
                  <a:pt x="12060" y="8378"/>
                  <a:pt x="12089" y="8349"/>
                </a:cubicBezTo>
                <a:cubicBezTo>
                  <a:pt x="12109" y="8331"/>
                  <a:pt x="12115" y="8327"/>
                  <a:pt x="12122" y="8311"/>
                </a:cubicBezTo>
              </a:path>
              <a:path w="5626" h="1252">
                <a:moveTo>
                  <a:pt x="11958" y="8128"/>
                </a:moveTo>
                <a:cubicBezTo>
                  <a:pt x="11949" y="8097"/>
                  <a:pt x="11957" y="8081"/>
                  <a:pt x="11986" y="8061"/>
                </a:cubicBezTo>
                <a:cubicBezTo>
                  <a:pt x="12012" y="8043"/>
                  <a:pt x="12043" y="8028"/>
                  <a:pt x="12074" y="8019"/>
                </a:cubicBezTo>
                <a:cubicBezTo>
                  <a:pt x="12096" y="8013"/>
                  <a:pt x="12139" y="7998"/>
                  <a:pt x="12161" y="8009"/>
                </a:cubicBezTo>
                <a:cubicBezTo>
                  <a:pt x="12168" y="8014"/>
                  <a:pt x="12174" y="8020"/>
                  <a:pt x="12181" y="8025"/>
                </a:cubicBezTo>
                <a:cubicBezTo>
                  <a:pt x="12180" y="8057"/>
                  <a:pt x="12169" y="8078"/>
                  <a:pt x="12149" y="8104"/>
                </a:cubicBezTo>
                <a:cubicBezTo>
                  <a:pt x="12118" y="8146"/>
                  <a:pt x="12075" y="8180"/>
                  <a:pt x="12031" y="8208"/>
                </a:cubicBezTo>
                <a:cubicBezTo>
                  <a:pt x="11987" y="8237"/>
                  <a:pt x="11936" y="8258"/>
                  <a:pt x="11886" y="8272"/>
                </a:cubicBezTo>
                <a:cubicBezTo>
                  <a:pt x="11861" y="8279"/>
                  <a:pt x="11844" y="8281"/>
                  <a:pt x="11819" y="8278"/>
                </a:cubicBezTo>
                <a:cubicBezTo>
                  <a:pt x="11810" y="8248"/>
                  <a:pt x="11813" y="8236"/>
                  <a:pt x="11834" y="8208"/>
                </a:cubicBezTo>
                <a:cubicBezTo>
                  <a:pt x="11851" y="8186"/>
                  <a:pt x="11875" y="8161"/>
                  <a:pt x="11900" y="8149"/>
                </a:cubicBezTo>
                <a:cubicBezTo>
                  <a:pt x="11921" y="8139"/>
                  <a:pt x="11920" y="8142"/>
                  <a:pt x="11943" y="8143"/>
                </a:cubicBezTo>
                <a:cubicBezTo>
                  <a:pt x="11949" y="8169"/>
                  <a:pt x="11953" y="8185"/>
                  <a:pt x="11946" y="8213"/>
                </a:cubicBezTo>
                <a:cubicBezTo>
                  <a:pt x="11935" y="8256"/>
                  <a:pt x="11912" y="8298"/>
                  <a:pt x="11883" y="8331"/>
                </a:cubicBezTo>
                <a:cubicBezTo>
                  <a:pt x="11847" y="8373"/>
                  <a:pt x="11807" y="8400"/>
                  <a:pt x="11752" y="8402"/>
                </a:cubicBezTo>
                <a:cubicBezTo>
                  <a:pt x="11725" y="8403"/>
                  <a:pt x="11695" y="8391"/>
                  <a:pt x="11680" y="8367"/>
                </a:cubicBezTo>
                <a:cubicBezTo>
                  <a:pt x="11662" y="8338"/>
                  <a:pt x="11660" y="8293"/>
                  <a:pt x="11663" y="8261"/>
                </a:cubicBezTo>
                <a:cubicBezTo>
                  <a:pt x="11670" y="8181"/>
                  <a:pt x="11704" y="8091"/>
                  <a:pt x="11729" y="8015"/>
                </a:cubicBezTo>
                <a:cubicBezTo>
                  <a:pt x="11737" y="7991"/>
                  <a:pt x="11744" y="7967"/>
                  <a:pt x="11752" y="7943"/>
                </a:cubicBezTo>
              </a:path>
              <a:path w="5626" h="1252">
                <a:moveTo>
                  <a:pt x="11474" y="8529"/>
                </a:moveTo>
                <a:cubicBezTo>
                  <a:pt x="11443" y="8535"/>
                  <a:pt x="11413" y="8547"/>
                  <a:pt x="11383" y="8552"/>
                </a:cubicBezTo>
                <a:cubicBezTo>
                  <a:pt x="11379" y="8552"/>
                  <a:pt x="11375" y="8552"/>
                  <a:pt x="11371" y="8552"/>
                </a:cubicBezTo>
                <a:cubicBezTo>
                  <a:pt x="11390" y="8549"/>
                  <a:pt x="11425" y="8539"/>
                  <a:pt x="11443" y="8541"/>
                </a:cubicBezTo>
                <a:cubicBezTo>
                  <a:pt x="11466" y="8548"/>
                  <a:pt x="11474" y="8550"/>
                  <a:pt x="11486" y="8562"/>
                </a:cubicBezTo>
              </a:path>
              <a:path w="5626" h="1252">
                <a:moveTo>
                  <a:pt x="11546" y="8501"/>
                </a:moveTo>
                <a:cubicBezTo>
                  <a:pt x="11523" y="8504"/>
                  <a:pt x="11501" y="8508"/>
                  <a:pt x="11479" y="8513"/>
                </a:cubicBezTo>
                <a:cubicBezTo>
                  <a:pt x="11448" y="8519"/>
                  <a:pt x="11419" y="8530"/>
                  <a:pt x="11388" y="8537"/>
                </a:cubicBezTo>
                <a:cubicBezTo>
                  <a:pt x="11354" y="8544"/>
                  <a:pt x="11335" y="8533"/>
                  <a:pt x="11354" y="8565"/>
                </a:cubicBezTo>
              </a:path>
              <a:path w="5626" h="1252">
                <a:moveTo>
                  <a:pt x="11120" y="8254"/>
                </a:moveTo>
                <a:cubicBezTo>
                  <a:pt x="11116" y="8237"/>
                  <a:pt x="11115" y="8233"/>
                  <a:pt x="11112" y="8222"/>
                </a:cubicBezTo>
                <a:cubicBezTo>
                  <a:pt x="11116" y="8250"/>
                  <a:pt x="11120" y="8278"/>
                  <a:pt x="11122" y="8306"/>
                </a:cubicBezTo>
                <a:cubicBezTo>
                  <a:pt x="11125" y="8350"/>
                  <a:pt x="11127" y="8392"/>
                  <a:pt x="11134" y="8435"/>
                </a:cubicBezTo>
                <a:cubicBezTo>
                  <a:pt x="11140" y="8474"/>
                  <a:pt x="11141" y="8509"/>
                  <a:pt x="11134" y="8547"/>
                </a:cubicBezTo>
              </a:path>
              <a:path w="5626" h="1252">
                <a:moveTo>
                  <a:pt x="11001" y="8472"/>
                </a:moveTo>
                <a:cubicBezTo>
                  <a:pt x="10984" y="8453"/>
                  <a:pt x="10971" y="8454"/>
                  <a:pt x="10946" y="8445"/>
                </a:cubicBezTo>
                <a:cubicBezTo>
                  <a:pt x="10922" y="8436"/>
                  <a:pt x="10925" y="8413"/>
                  <a:pt x="10926" y="8391"/>
                </a:cubicBezTo>
                <a:cubicBezTo>
                  <a:pt x="10928" y="8362"/>
                  <a:pt x="10944" y="8347"/>
                  <a:pt x="10966" y="8335"/>
                </a:cubicBezTo>
                <a:cubicBezTo>
                  <a:pt x="10980" y="8362"/>
                  <a:pt x="10983" y="8392"/>
                  <a:pt x="10983" y="8423"/>
                </a:cubicBezTo>
                <a:cubicBezTo>
                  <a:pt x="10982" y="8461"/>
                  <a:pt x="10978" y="8507"/>
                  <a:pt x="10962" y="8541"/>
                </a:cubicBezTo>
                <a:cubicBezTo>
                  <a:pt x="10949" y="8569"/>
                  <a:pt x="10931" y="8584"/>
                  <a:pt x="10901" y="8573"/>
                </a:cubicBezTo>
                <a:cubicBezTo>
                  <a:pt x="10880" y="8565"/>
                  <a:pt x="10858" y="8546"/>
                  <a:pt x="10843" y="8531"/>
                </a:cubicBezTo>
                <a:cubicBezTo>
                  <a:pt x="10826" y="8514"/>
                  <a:pt x="10810" y="8494"/>
                  <a:pt x="10796" y="8474"/>
                </a:cubicBezTo>
                <a:cubicBezTo>
                  <a:pt x="10784" y="8456"/>
                  <a:pt x="10781" y="8453"/>
                  <a:pt x="10777" y="8441"/>
                </a:cubicBezTo>
                <a:cubicBezTo>
                  <a:pt x="10787" y="8472"/>
                  <a:pt x="10792" y="8497"/>
                  <a:pt x="10784" y="8529"/>
                </a:cubicBezTo>
                <a:cubicBezTo>
                  <a:pt x="10774" y="8569"/>
                  <a:pt x="10752" y="8606"/>
                  <a:pt x="10731" y="8641"/>
                </a:cubicBezTo>
                <a:cubicBezTo>
                  <a:pt x="10713" y="8671"/>
                  <a:pt x="10684" y="8704"/>
                  <a:pt x="10656" y="8726"/>
                </a:cubicBezTo>
                <a:cubicBezTo>
                  <a:pt x="10636" y="8739"/>
                  <a:pt x="10629" y="8742"/>
                  <a:pt x="10618" y="8753"/>
                </a:cubicBezTo>
              </a:path>
              <a:path w="5626" h="1252">
                <a:moveTo>
                  <a:pt x="10860" y="7886"/>
                </a:moveTo>
                <a:cubicBezTo>
                  <a:pt x="10892" y="7862"/>
                  <a:pt x="10916" y="7853"/>
                  <a:pt x="10953" y="7836"/>
                </a:cubicBezTo>
                <a:cubicBezTo>
                  <a:pt x="10995" y="7817"/>
                  <a:pt x="11022" y="7815"/>
                  <a:pt x="11065" y="7826"/>
                </a:cubicBezTo>
              </a:path>
              <a:path w="5626" h="1252">
                <a:moveTo>
                  <a:pt x="10638" y="8298"/>
                </a:moveTo>
                <a:cubicBezTo>
                  <a:pt x="10630" y="8273"/>
                  <a:pt x="10627" y="8250"/>
                  <a:pt x="10624" y="8224"/>
                </a:cubicBezTo>
                <a:cubicBezTo>
                  <a:pt x="10633" y="8258"/>
                  <a:pt x="10636" y="8290"/>
                  <a:pt x="10638" y="8325"/>
                </a:cubicBezTo>
                <a:cubicBezTo>
                  <a:pt x="10641" y="8378"/>
                  <a:pt x="10643" y="8430"/>
                  <a:pt x="10646" y="8483"/>
                </a:cubicBezTo>
                <a:cubicBezTo>
                  <a:pt x="10649" y="8523"/>
                  <a:pt x="10650" y="8536"/>
                  <a:pt x="10642" y="8562"/>
                </a:cubicBezTo>
              </a:path>
              <a:path w="5626" h="1252">
                <a:moveTo>
                  <a:pt x="10468" y="8510"/>
                </a:moveTo>
                <a:cubicBezTo>
                  <a:pt x="10491" y="8501"/>
                  <a:pt x="10518" y="8506"/>
                  <a:pt x="10540" y="8497"/>
                </a:cubicBezTo>
                <a:cubicBezTo>
                  <a:pt x="10544" y="8494"/>
                  <a:pt x="10549" y="8490"/>
                  <a:pt x="10553" y="8487"/>
                </a:cubicBezTo>
                <a:cubicBezTo>
                  <a:pt x="10535" y="8469"/>
                  <a:pt x="10516" y="8455"/>
                  <a:pt x="10494" y="8441"/>
                </a:cubicBezTo>
                <a:cubicBezTo>
                  <a:pt x="10477" y="8430"/>
                  <a:pt x="10461" y="8418"/>
                  <a:pt x="10445" y="8405"/>
                </a:cubicBezTo>
                <a:cubicBezTo>
                  <a:pt x="10439" y="8433"/>
                  <a:pt x="10442" y="8455"/>
                  <a:pt x="10440" y="8484"/>
                </a:cubicBezTo>
                <a:cubicBezTo>
                  <a:pt x="10437" y="8529"/>
                  <a:pt x="10425" y="8569"/>
                  <a:pt x="10406" y="8608"/>
                </a:cubicBezTo>
                <a:cubicBezTo>
                  <a:pt x="10395" y="8630"/>
                  <a:pt x="10383" y="8653"/>
                  <a:pt x="10359" y="8662"/>
                </a:cubicBezTo>
                <a:cubicBezTo>
                  <a:pt x="10330" y="8673"/>
                  <a:pt x="10302" y="8670"/>
                  <a:pt x="10280" y="8648"/>
                </a:cubicBezTo>
                <a:cubicBezTo>
                  <a:pt x="10256" y="8625"/>
                  <a:pt x="10242" y="8600"/>
                  <a:pt x="10234" y="8568"/>
                </a:cubicBezTo>
                <a:cubicBezTo>
                  <a:pt x="10218" y="8502"/>
                  <a:pt x="10238" y="8438"/>
                  <a:pt x="10252" y="8374"/>
                </a:cubicBezTo>
                <a:cubicBezTo>
                  <a:pt x="10255" y="8360"/>
                  <a:pt x="10278" y="8296"/>
                  <a:pt x="10256" y="8332"/>
                </a:cubicBezTo>
              </a:path>
              <a:path w="5626" h="1252">
                <a:moveTo>
                  <a:pt x="10308" y="7945"/>
                </a:moveTo>
                <a:cubicBezTo>
                  <a:pt x="10318" y="7927"/>
                  <a:pt x="10321" y="7922"/>
                  <a:pt x="10323" y="7908"/>
                </a:cubicBezTo>
                <a:cubicBezTo>
                  <a:pt x="10309" y="7936"/>
                  <a:pt x="10288" y="7956"/>
                  <a:pt x="10267" y="7979"/>
                </a:cubicBezTo>
                <a:cubicBezTo>
                  <a:pt x="10220" y="8031"/>
                  <a:pt x="10168" y="8072"/>
                  <a:pt x="10111" y="8111"/>
                </a:cubicBezTo>
                <a:cubicBezTo>
                  <a:pt x="10045" y="8156"/>
                  <a:pt x="9974" y="8191"/>
                  <a:pt x="9900" y="8220"/>
                </a:cubicBezTo>
                <a:cubicBezTo>
                  <a:pt x="9856" y="8237"/>
                  <a:pt x="9807" y="8252"/>
                  <a:pt x="9759" y="8252"/>
                </a:cubicBezTo>
                <a:cubicBezTo>
                  <a:pt x="9744" y="8250"/>
                  <a:pt x="9739" y="8249"/>
                  <a:pt x="9730" y="8246"/>
                </a:cubicBezTo>
                <a:cubicBezTo>
                  <a:pt x="9759" y="8246"/>
                  <a:pt x="9759" y="8249"/>
                  <a:pt x="9783" y="8267"/>
                </a:cubicBezTo>
              </a:path>
              <a:path w="5626" h="1252">
                <a:moveTo>
                  <a:pt x="9893" y="7833"/>
                </a:moveTo>
                <a:cubicBezTo>
                  <a:pt x="9930" y="7815"/>
                  <a:pt x="9965" y="7803"/>
                  <a:pt x="10006" y="7795"/>
                </a:cubicBezTo>
                <a:cubicBezTo>
                  <a:pt x="10079" y="7780"/>
                  <a:pt x="10149" y="7765"/>
                  <a:pt x="10220" y="774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7" name="Ink 62"/>
          <p:cNvSpPr/>
          <p:nvPr/>
        </p:nvSpPr>
        <p:spPr>
          <a:xfrm>
            <a:off x="3654360" y="3670200"/>
            <a:ext cx="1589040" cy="436680"/>
          </a:xfrm>
          <a:custGeom>
            <a:avLst/>
            <a:gdLst/>
            <a:ahLst/>
            <a:rect l="l" t="t" r="r" b="b"/>
            <a:pathLst>
              <a:path w="4417" h="1211">
                <a:moveTo>
                  <a:pt x="14544" y="11120"/>
                </a:moveTo>
                <a:cubicBezTo>
                  <a:pt x="14549" y="11103"/>
                  <a:pt x="14554" y="11090"/>
                  <a:pt x="14561" y="11075"/>
                </a:cubicBezTo>
                <a:cubicBezTo>
                  <a:pt x="14565" y="11095"/>
                  <a:pt x="14567" y="11116"/>
                  <a:pt x="14565" y="11137"/>
                </a:cubicBezTo>
                <a:cubicBezTo>
                  <a:pt x="14563" y="11166"/>
                  <a:pt x="14554" y="11193"/>
                  <a:pt x="14548" y="11221"/>
                </a:cubicBezTo>
                <a:cubicBezTo>
                  <a:pt x="14541" y="11252"/>
                  <a:pt x="14530" y="11288"/>
                  <a:pt x="14519" y="11316"/>
                </a:cubicBezTo>
                <a:cubicBezTo>
                  <a:pt x="14516" y="11321"/>
                  <a:pt x="14512" y="11325"/>
                  <a:pt x="14509" y="11330"/>
                </a:cubicBezTo>
              </a:path>
              <a:path w="4417" h="1211">
                <a:moveTo>
                  <a:pt x="14200" y="11150"/>
                </a:moveTo>
                <a:cubicBezTo>
                  <a:pt x="14222" y="11145"/>
                  <a:pt x="14238" y="11135"/>
                  <a:pt x="14264" y="11128"/>
                </a:cubicBezTo>
                <a:cubicBezTo>
                  <a:pt x="14293" y="11121"/>
                  <a:pt x="14322" y="11112"/>
                  <a:pt x="14351" y="11107"/>
                </a:cubicBezTo>
                <a:cubicBezTo>
                  <a:pt x="14385" y="11101"/>
                  <a:pt x="14424" y="11101"/>
                  <a:pt x="14434" y="11139"/>
                </a:cubicBezTo>
                <a:cubicBezTo>
                  <a:pt x="14438" y="11155"/>
                  <a:pt x="14422" y="11182"/>
                  <a:pt x="14413" y="11194"/>
                </a:cubicBezTo>
                <a:cubicBezTo>
                  <a:pt x="14397" y="11217"/>
                  <a:pt x="14372" y="11234"/>
                  <a:pt x="14346" y="11245"/>
                </a:cubicBezTo>
                <a:cubicBezTo>
                  <a:pt x="14321" y="11256"/>
                  <a:pt x="14291" y="11261"/>
                  <a:pt x="14264" y="11255"/>
                </a:cubicBezTo>
                <a:cubicBezTo>
                  <a:pt x="14235" y="11249"/>
                  <a:pt x="14212" y="11233"/>
                  <a:pt x="14209" y="11202"/>
                </a:cubicBezTo>
                <a:cubicBezTo>
                  <a:pt x="14207" y="11182"/>
                  <a:pt x="14222" y="11158"/>
                  <a:pt x="14235" y="11144"/>
                </a:cubicBezTo>
                <a:cubicBezTo>
                  <a:pt x="14253" y="11124"/>
                  <a:pt x="14282" y="11109"/>
                  <a:pt x="14310" y="11116"/>
                </a:cubicBezTo>
                <a:cubicBezTo>
                  <a:pt x="14345" y="11125"/>
                  <a:pt x="14346" y="11168"/>
                  <a:pt x="14337" y="11195"/>
                </a:cubicBezTo>
                <a:cubicBezTo>
                  <a:pt x="14327" y="11226"/>
                  <a:pt x="14307" y="11259"/>
                  <a:pt x="14285" y="11283"/>
                </a:cubicBezTo>
                <a:cubicBezTo>
                  <a:pt x="14266" y="11304"/>
                  <a:pt x="14235" y="11334"/>
                  <a:pt x="14207" y="11343"/>
                </a:cubicBezTo>
                <a:cubicBezTo>
                  <a:pt x="14188" y="11349"/>
                  <a:pt x="14159" y="11351"/>
                  <a:pt x="14142" y="11338"/>
                </a:cubicBezTo>
                <a:cubicBezTo>
                  <a:pt x="14118" y="11320"/>
                  <a:pt x="14105" y="11293"/>
                  <a:pt x="14096" y="11265"/>
                </a:cubicBezTo>
                <a:cubicBezTo>
                  <a:pt x="14090" y="11245"/>
                  <a:pt x="14088" y="11226"/>
                  <a:pt x="14086" y="11205"/>
                </a:cubicBezTo>
                <a:cubicBezTo>
                  <a:pt x="14093" y="11233"/>
                  <a:pt x="14087" y="11245"/>
                  <a:pt x="14062" y="11263"/>
                </a:cubicBezTo>
                <a:cubicBezTo>
                  <a:pt x="14016" y="11296"/>
                  <a:pt x="13983" y="11310"/>
                  <a:pt x="13929" y="11323"/>
                </a:cubicBezTo>
                <a:cubicBezTo>
                  <a:pt x="13885" y="11334"/>
                  <a:pt x="13869" y="11338"/>
                  <a:pt x="13838" y="11334"/>
                </a:cubicBezTo>
              </a:path>
              <a:path w="4417" h="1211">
                <a:moveTo>
                  <a:pt x="13980" y="10938"/>
                </a:moveTo>
                <a:cubicBezTo>
                  <a:pt x="13981" y="10917"/>
                  <a:pt x="13982" y="10901"/>
                  <a:pt x="13986" y="10880"/>
                </a:cubicBezTo>
                <a:cubicBezTo>
                  <a:pt x="14008" y="10891"/>
                  <a:pt x="14006" y="10912"/>
                  <a:pt x="14005" y="10940"/>
                </a:cubicBezTo>
                <a:cubicBezTo>
                  <a:pt x="14003" y="10984"/>
                  <a:pt x="13990" y="11033"/>
                  <a:pt x="13975" y="11074"/>
                </a:cubicBezTo>
                <a:cubicBezTo>
                  <a:pt x="13958" y="11121"/>
                  <a:pt x="13927" y="11160"/>
                  <a:pt x="13893" y="11194"/>
                </a:cubicBezTo>
              </a:path>
              <a:path w="4417" h="1211">
                <a:moveTo>
                  <a:pt x="13805" y="11085"/>
                </a:moveTo>
                <a:cubicBezTo>
                  <a:pt x="13821" y="11076"/>
                  <a:pt x="13826" y="11073"/>
                  <a:pt x="13836" y="11067"/>
                </a:cubicBezTo>
                <a:cubicBezTo>
                  <a:pt x="13814" y="11060"/>
                  <a:pt x="13779" y="11056"/>
                  <a:pt x="13795" y="11025"/>
                </a:cubicBezTo>
                <a:cubicBezTo>
                  <a:pt x="13803" y="11009"/>
                  <a:pt x="13839" y="10994"/>
                  <a:pt x="13855" y="11006"/>
                </a:cubicBezTo>
                <a:cubicBezTo>
                  <a:pt x="13874" y="11021"/>
                  <a:pt x="13858" y="11054"/>
                  <a:pt x="13851" y="11071"/>
                </a:cubicBezTo>
                <a:cubicBezTo>
                  <a:pt x="13840" y="11097"/>
                  <a:pt x="13829" y="11116"/>
                  <a:pt x="13811" y="11137"/>
                </a:cubicBezTo>
                <a:cubicBezTo>
                  <a:pt x="13792" y="11160"/>
                  <a:pt x="13770" y="11174"/>
                  <a:pt x="13745" y="11189"/>
                </a:cubicBezTo>
                <a:cubicBezTo>
                  <a:pt x="13712" y="11209"/>
                  <a:pt x="13676" y="11217"/>
                  <a:pt x="13638" y="11226"/>
                </a:cubicBezTo>
                <a:cubicBezTo>
                  <a:pt x="13594" y="11236"/>
                  <a:pt x="13551" y="11237"/>
                  <a:pt x="13507" y="11233"/>
                </a:cubicBezTo>
                <a:cubicBezTo>
                  <a:pt x="13473" y="11230"/>
                  <a:pt x="13439" y="11222"/>
                  <a:pt x="13408" y="11209"/>
                </a:cubicBezTo>
                <a:cubicBezTo>
                  <a:pt x="13391" y="11202"/>
                  <a:pt x="13382" y="11193"/>
                  <a:pt x="13368" y="11181"/>
                </a:cubicBezTo>
                <a:cubicBezTo>
                  <a:pt x="13379" y="11158"/>
                  <a:pt x="13379" y="11165"/>
                  <a:pt x="13400" y="11146"/>
                </a:cubicBezTo>
              </a:path>
              <a:path w="4417" h="1211">
                <a:moveTo>
                  <a:pt x="13741" y="10755"/>
                </a:moveTo>
                <a:cubicBezTo>
                  <a:pt x="13745" y="10725"/>
                  <a:pt x="13740" y="10707"/>
                  <a:pt x="13765" y="10726"/>
                </a:cubicBezTo>
              </a:path>
              <a:path w="4417" h="1211">
                <a:moveTo>
                  <a:pt x="13091" y="11152"/>
                </a:moveTo>
                <a:cubicBezTo>
                  <a:pt x="13050" y="11148"/>
                  <a:pt x="13133" y="11150"/>
                  <a:pt x="13137" y="11150"/>
                </a:cubicBezTo>
                <a:cubicBezTo>
                  <a:pt x="13173" y="11153"/>
                  <a:pt x="13210" y="11156"/>
                  <a:pt x="13246" y="11159"/>
                </a:cubicBezTo>
              </a:path>
              <a:path w="4417" h="1211">
                <a:moveTo>
                  <a:pt x="12952" y="10907"/>
                </a:moveTo>
                <a:cubicBezTo>
                  <a:pt x="12952" y="10893"/>
                  <a:pt x="12952" y="10888"/>
                  <a:pt x="12955" y="10879"/>
                </a:cubicBezTo>
                <a:cubicBezTo>
                  <a:pt x="12973" y="10897"/>
                  <a:pt x="12979" y="10919"/>
                  <a:pt x="12984" y="10946"/>
                </a:cubicBezTo>
                <a:cubicBezTo>
                  <a:pt x="12991" y="10983"/>
                  <a:pt x="12990" y="11027"/>
                  <a:pt x="12981" y="11064"/>
                </a:cubicBezTo>
                <a:cubicBezTo>
                  <a:pt x="12972" y="11100"/>
                  <a:pt x="12949" y="11150"/>
                  <a:pt x="12924" y="11178"/>
                </a:cubicBezTo>
                <a:cubicBezTo>
                  <a:pt x="12901" y="11197"/>
                  <a:pt x="12894" y="11202"/>
                  <a:pt x="12884" y="11219"/>
                </a:cubicBezTo>
              </a:path>
              <a:path w="4417" h="1211">
                <a:moveTo>
                  <a:pt x="12817" y="10993"/>
                </a:moveTo>
                <a:cubicBezTo>
                  <a:pt x="12817" y="10988"/>
                  <a:pt x="12818" y="10984"/>
                  <a:pt x="12818" y="10979"/>
                </a:cubicBezTo>
                <a:cubicBezTo>
                  <a:pt x="12814" y="10996"/>
                  <a:pt x="12814" y="11030"/>
                  <a:pt x="12786" y="11038"/>
                </a:cubicBezTo>
                <a:cubicBezTo>
                  <a:pt x="12754" y="11046"/>
                  <a:pt x="12762" y="11028"/>
                  <a:pt x="12756" y="11004"/>
                </a:cubicBezTo>
                <a:cubicBezTo>
                  <a:pt x="12755" y="10999"/>
                  <a:pt x="12755" y="10994"/>
                  <a:pt x="12754" y="10989"/>
                </a:cubicBezTo>
                <a:cubicBezTo>
                  <a:pt x="12752" y="11017"/>
                  <a:pt x="12746" y="11036"/>
                  <a:pt x="12732" y="11061"/>
                </a:cubicBezTo>
                <a:cubicBezTo>
                  <a:pt x="12722" y="11074"/>
                  <a:pt x="12719" y="11079"/>
                  <a:pt x="12707" y="11079"/>
                </a:cubicBezTo>
                <a:cubicBezTo>
                  <a:pt x="12688" y="11057"/>
                  <a:pt x="12683" y="11043"/>
                  <a:pt x="12681" y="11014"/>
                </a:cubicBezTo>
                <a:cubicBezTo>
                  <a:pt x="12678" y="11037"/>
                  <a:pt x="12677" y="11059"/>
                  <a:pt x="12672" y="11082"/>
                </a:cubicBezTo>
                <a:cubicBezTo>
                  <a:pt x="12665" y="11117"/>
                  <a:pt x="12655" y="11160"/>
                  <a:pt x="12639" y="11192"/>
                </a:cubicBezTo>
                <a:cubicBezTo>
                  <a:pt x="12635" y="11197"/>
                  <a:pt x="12632" y="11201"/>
                  <a:pt x="12628" y="11206"/>
                </a:cubicBezTo>
                <a:cubicBezTo>
                  <a:pt x="12605" y="11185"/>
                  <a:pt x="12594" y="11155"/>
                  <a:pt x="12573" y="11132"/>
                </a:cubicBezTo>
                <a:cubicBezTo>
                  <a:pt x="12551" y="11108"/>
                  <a:pt x="12534" y="11124"/>
                  <a:pt x="12515" y="11141"/>
                </a:cubicBezTo>
                <a:cubicBezTo>
                  <a:pt x="12487" y="11166"/>
                  <a:pt x="12459" y="11191"/>
                  <a:pt x="12431" y="11216"/>
                </a:cubicBezTo>
                <a:cubicBezTo>
                  <a:pt x="12393" y="11249"/>
                  <a:pt x="12354" y="11287"/>
                  <a:pt x="12312" y="11313"/>
                </a:cubicBezTo>
                <a:cubicBezTo>
                  <a:pt x="12285" y="11329"/>
                  <a:pt x="12256" y="11344"/>
                  <a:pt x="12228" y="11358"/>
                </a:cubicBezTo>
              </a:path>
              <a:path w="4417" h="1211">
                <a:moveTo>
                  <a:pt x="12633" y="10638"/>
                </a:moveTo>
                <a:cubicBezTo>
                  <a:pt x="12661" y="10618"/>
                  <a:pt x="12689" y="10608"/>
                  <a:pt x="12724" y="10599"/>
                </a:cubicBezTo>
                <a:cubicBezTo>
                  <a:pt x="12778" y="10585"/>
                  <a:pt x="12837" y="10569"/>
                  <a:pt x="12893" y="10580"/>
                </a:cubicBezTo>
                <a:cubicBezTo>
                  <a:pt x="12904" y="10584"/>
                  <a:pt x="12914" y="10588"/>
                  <a:pt x="12925" y="10592"/>
                </a:cubicBezTo>
              </a:path>
              <a:path w="4417" h="1211">
                <a:moveTo>
                  <a:pt x="12399" y="10853"/>
                </a:moveTo>
                <a:cubicBezTo>
                  <a:pt x="12396" y="10833"/>
                  <a:pt x="12394" y="10824"/>
                  <a:pt x="12385" y="10807"/>
                </a:cubicBezTo>
                <a:cubicBezTo>
                  <a:pt x="12390" y="10834"/>
                  <a:pt x="12390" y="10858"/>
                  <a:pt x="12387" y="10885"/>
                </a:cubicBezTo>
                <a:cubicBezTo>
                  <a:pt x="12383" y="10932"/>
                  <a:pt x="12373" y="10987"/>
                  <a:pt x="12359" y="11032"/>
                </a:cubicBezTo>
                <a:cubicBezTo>
                  <a:pt x="12345" y="11068"/>
                  <a:pt x="12340" y="11080"/>
                  <a:pt x="12334" y="11106"/>
                </a:cubicBezTo>
              </a:path>
              <a:path w="4417" h="1211">
                <a:moveTo>
                  <a:pt x="12221" y="11004"/>
                </a:moveTo>
                <a:cubicBezTo>
                  <a:pt x="12225" y="10988"/>
                  <a:pt x="12226" y="10982"/>
                  <a:pt x="12224" y="10971"/>
                </a:cubicBezTo>
                <a:cubicBezTo>
                  <a:pt x="12189" y="10995"/>
                  <a:pt x="12160" y="11024"/>
                  <a:pt x="12128" y="11052"/>
                </a:cubicBezTo>
                <a:cubicBezTo>
                  <a:pt x="12108" y="11069"/>
                  <a:pt x="12087" y="11086"/>
                  <a:pt x="12071" y="11107"/>
                </a:cubicBezTo>
                <a:cubicBezTo>
                  <a:pt x="12047" y="11137"/>
                  <a:pt x="12054" y="11164"/>
                  <a:pt x="12061" y="11198"/>
                </a:cubicBezTo>
                <a:cubicBezTo>
                  <a:pt x="12068" y="11233"/>
                  <a:pt x="12050" y="11251"/>
                  <a:pt x="12022" y="11270"/>
                </a:cubicBezTo>
                <a:cubicBezTo>
                  <a:pt x="11984" y="11296"/>
                  <a:pt x="11949" y="11308"/>
                  <a:pt x="11905" y="11322"/>
                </a:cubicBezTo>
                <a:cubicBezTo>
                  <a:pt x="11881" y="11331"/>
                  <a:pt x="11874" y="11334"/>
                  <a:pt x="11857" y="11330"/>
                </a:cubicBezTo>
              </a:path>
              <a:path w="4417" h="1211">
                <a:moveTo>
                  <a:pt x="12370" y="10270"/>
                </a:moveTo>
                <a:cubicBezTo>
                  <a:pt x="12406" y="10252"/>
                  <a:pt x="12437" y="10243"/>
                  <a:pt x="12479" y="10231"/>
                </a:cubicBezTo>
                <a:cubicBezTo>
                  <a:pt x="12549" y="10212"/>
                  <a:pt x="12618" y="10203"/>
                  <a:pt x="12690" y="10199"/>
                </a:cubicBezTo>
                <a:cubicBezTo>
                  <a:pt x="12700" y="10198"/>
                  <a:pt x="12709" y="10198"/>
                  <a:pt x="12719" y="10197"/>
                </a:cubicBezTo>
              </a:path>
              <a:path w="4417" h="1211">
                <a:moveTo>
                  <a:pt x="12149" y="10562"/>
                </a:moveTo>
                <a:cubicBezTo>
                  <a:pt x="12163" y="10550"/>
                  <a:pt x="12166" y="10533"/>
                  <a:pt x="12192" y="10531"/>
                </a:cubicBezTo>
                <a:cubicBezTo>
                  <a:pt x="12196" y="10532"/>
                  <a:pt x="12201" y="10534"/>
                  <a:pt x="12205" y="10535"/>
                </a:cubicBezTo>
                <a:cubicBezTo>
                  <a:pt x="12209" y="10562"/>
                  <a:pt x="12208" y="10577"/>
                  <a:pt x="12193" y="10601"/>
                </a:cubicBezTo>
                <a:cubicBezTo>
                  <a:pt x="12178" y="10625"/>
                  <a:pt x="12160" y="10647"/>
                  <a:pt x="12135" y="10662"/>
                </a:cubicBezTo>
                <a:cubicBezTo>
                  <a:pt x="12117" y="10673"/>
                  <a:pt x="12087" y="10686"/>
                  <a:pt x="12065" y="10684"/>
                </a:cubicBezTo>
                <a:cubicBezTo>
                  <a:pt x="12043" y="10682"/>
                  <a:pt x="12029" y="10663"/>
                  <a:pt x="12025" y="10643"/>
                </a:cubicBezTo>
                <a:cubicBezTo>
                  <a:pt x="12019" y="10616"/>
                  <a:pt x="12031" y="10590"/>
                  <a:pt x="12043" y="10567"/>
                </a:cubicBezTo>
                <a:cubicBezTo>
                  <a:pt x="12055" y="10545"/>
                  <a:pt x="12064" y="10542"/>
                  <a:pt x="12085" y="10531"/>
                </a:cubicBezTo>
              </a:path>
              <a:path w="4417" h="1211">
                <a:moveTo>
                  <a:pt x="11986" y="10875"/>
                </a:moveTo>
                <a:cubicBezTo>
                  <a:pt x="12003" y="10857"/>
                  <a:pt x="12007" y="10842"/>
                  <a:pt x="12004" y="10816"/>
                </a:cubicBezTo>
                <a:cubicBezTo>
                  <a:pt x="11977" y="10828"/>
                  <a:pt x="11955" y="10842"/>
                  <a:pt x="11933" y="10862"/>
                </a:cubicBezTo>
                <a:cubicBezTo>
                  <a:pt x="11907" y="10885"/>
                  <a:pt x="11868" y="10912"/>
                  <a:pt x="11851" y="10943"/>
                </a:cubicBezTo>
                <a:cubicBezTo>
                  <a:pt x="11850" y="10948"/>
                  <a:pt x="11849" y="10952"/>
                  <a:pt x="11848" y="10957"/>
                </a:cubicBezTo>
                <a:cubicBezTo>
                  <a:pt x="11876" y="10968"/>
                  <a:pt x="11913" y="10979"/>
                  <a:pt x="11932" y="11004"/>
                </a:cubicBezTo>
                <a:cubicBezTo>
                  <a:pt x="11945" y="11022"/>
                  <a:pt x="11949" y="11041"/>
                  <a:pt x="11947" y="11063"/>
                </a:cubicBezTo>
                <a:cubicBezTo>
                  <a:pt x="11944" y="11090"/>
                  <a:pt x="11933" y="11121"/>
                  <a:pt x="11915" y="11141"/>
                </a:cubicBezTo>
                <a:cubicBezTo>
                  <a:pt x="11897" y="11161"/>
                  <a:pt x="11878" y="11177"/>
                  <a:pt x="11855" y="11191"/>
                </a:cubicBezTo>
                <a:cubicBezTo>
                  <a:pt x="11820" y="11212"/>
                  <a:pt x="11781" y="11224"/>
                  <a:pt x="11740" y="11224"/>
                </a:cubicBezTo>
                <a:cubicBezTo>
                  <a:pt x="11711" y="11224"/>
                  <a:pt x="11686" y="11214"/>
                  <a:pt x="11662" y="11199"/>
                </a:cubicBezTo>
                <a:cubicBezTo>
                  <a:pt x="11642" y="11186"/>
                  <a:pt x="11631" y="11163"/>
                  <a:pt x="11631" y="11139"/>
                </a:cubicBezTo>
                <a:cubicBezTo>
                  <a:pt x="11631" y="11109"/>
                  <a:pt x="11650" y="11073"/>
                  <a:pt x="11663" y="11047"/>
                </a:cubicBezTo>
                <a:cubicBezTo>
                  <a:pt x="11678" y="11018"/>
                  <a:pt x="11699" y="10992"/>
                  <a:pt x="11717" y="10964"/>
                </a:cubicBezTo>
              </a:path>
              <a:path w="4417" h="1211">
                <a:moveTo>
                  <a:pt x="11322" y="11196"/>
                </a:moveTo>
                <a:cubicBezTo>
                  <a:pt x="11316" y="11198"/>
                  <a:pt x="11310" y="11199"/>
                  <a:pt x="11304" y="11201"/>
                </a:cubicBezTo>
                <a:cubicBezTo>
                  <a:pt x="11332" y="11193"/>
                  <a:pt x="11368" y="11179"/>
                  <a:pt x="11397" y="11178"/>
                </a:cubicBezTo>
                <a:cubicBezTo>
                  <a:pt x="11424" y="11177"/>
                  <a:pt x="11451" y="11180"/>
                  <a:pt x="11477" y="11182"/>
                </a:cubicBezTo>
              </a:path>
              <a:path w="4417" h="1211">
                <a:moveTo>
                  <a:pt x="11218" y="10956"/>
                </a:moveTo>
                <a:cubicBezTo>
                  <a:pt x="11215" y="10936"/>
                  <a:pt x="11213" y="10916"/>
                  <a:pt x="11212" y="10896"/>
                </a:cubicBezTo>
                <a:cubicBezTo>
                  <a:pt x="11221" y="10918"/>
                  <a:pt x="11222" y="10940"/>
                  <a:pt x="11221" y="10965"/>
                </a:cubicBezTo>
                <a:cubicBezTo>
                  <a:pt x="11219" y="11011"/>
                  <a:pt x="11217" y="11061"/>
                  <a:pt x="11211" y="11107"/>
                </a:cubicBezTo>
                <a:cubicBezTo>
                  <a:pt x="11206" y="11149"/>
                  <a:pt x="11193" y="11191"/>
                  <a:pt x="11189" y="11233"/>
                </a:cubicBezTo>
                <a:cubicBezTo>
                  <a:pt x="11189" y="11240"/>
                  <a:pt x="11189" y="11248"/>
                  <a:pt x="11189" y="11255"/>
                </a:cubicBezTo>
              </a:path>
              <a:path w="4417" h="1211">
                <a:moveTo>
                  <a:pt x="11080" y="11138"/>
                </a:moveTo>
                <a:cubicBezTo>
                  <a:pt x="11073" y="11114"/>
                  <a:pt x="11068" y="11146"/>
                  <a:pt x="11040" y="11134"/>
                </a:cubicBezTo>
                <a:cubicBezTo>
                  <a:pt x="11018" y="11125"/>
                  <a:pt x="11036" y="11086"/>
                  <a:pt x="11045" y="11074"/>
                </a:cubicBezTo>
                <a:cubicBezTo>
                  <a:pt x="11060" y="11053"/>
                  <a:pt x="11071" y="11048"/>
                  <a:pt x="11088" y="11035"/>
                </a:cubicBezTo>
                <a:cubicBezTo>
                  <a:pt x="11096" y="11069"/>
                  <a:pt x="11090" y="11102"/>
                  <a:pt x="11084" y="11137"/>
                </a:cubicBezTo>
                <a:cubicBezTo>
                  <a:pt x="11079" y="11166"/>
                  <a:pt x="11070" y="11196"/>
                  <a:pt x="11058" y="11223"/>
                </a:cubicBezTo>
                <a:cubicBezTo>
                  <a:pt x="11045" y="11252"/>
                  <a:pt x="11022" y="11276"/>
                  <a:pt x="10988" y="11270"/>
                </a:cubicBezTo>
                <a:cubicBezTo>
                  <a:pt x="10970" y="11267"/>
                  <a:pt x="10946" y="11254"/>
                  <a:pt x="10934" y="11240"/>
                </a:cubicBezTo>
                <a:cubicBezTo>
                  <a:pt x="10914" y="11217"/>
                  <a:pt x="10903" y="11193"/>
                  <a:pt x="10898" y="11164"/>
                </a:cubicBezTo>
                <a:cubicBezTo>
                  <a:pt x="10896" y="11146"/>
                  <a:pt x="10895" y="11141"/>
                  <a:pt x="10898" y="11130"/>
                </a:cubicBezTo>
                <a:cubicBezTo>
                  <a:pt x="10901" y="11154"/>
                  <a:pt x="10898" y="11171"/>
                  <a:pt x="10892" y="11194"/>
                </a:cubicBezTo>
                <a:cubicBezTo>
                  <a:pt x="10883" y="11229"/>
                  <a:pt x="10863" y="11254"/>
                  <a:pt x="10837" y="11279"/>
                </a:cubicBezTo>
                <a:cubicBezTo>
                  <a:pt x="10803" y="11311"/>
                  <a:pt x="10761" y="11333"/>
                  <a:pt x="10722" y="11358"/>
                </a:cubicBezTo>
                <a:cubicBezTo>
                  <a:pt x="10683" y="11383"/>
                  <a:pt x="10642" y="11399"/>
                  <a:pt x="10597" y="11407"/>
                </a:cubicBezTo>
              </a:path>
              <a:path w="4417" h="1211">
                <a:moveTo>
                  <a:pt x="11013" y="10712"/>
                </a:moveTo>
                <a:cubicBezTo>
                  <a:pt x="11040" y="10701"/>
                  <a:pt x="11065" y="10694"/>
                  <a:pt x="11094" y="10683"/>
                </a:cubicBezTo>
                <a:cubicBezTo>
                  <a:pt x="11144" y="10664"/>
                  <a:pt x="11185" y="10661"/>
                  <a:pt x="11236" y="10670"/>
                </a:cubicBezTo>
              </a:path>
              <a:path w="4417" h="1211">
                <a:moveTo>
                  <a:pt x="10791" y="10970"/>
                </a:moveTo>
                <a:cubicBezTo>
                  <a:pt x="10799" y="10944"/>
                  <a:pt x="10804" y="10932"/>
                  <a:pt x="10802" y="10907"/>
                </a:cubicBezTo>
                <a:cubicBezTo>
                  <a:pt x="10816" y="10932"/>
                  <a:pt x="10824" y="10949"/>
                  <a:pt x="10824" y="10979"/>
                </a:cubicBezTo>
                <a:cubicBezTo>
                  <a:pt x="10825" y="11030"/>
                  <a:pt x="10811" y="11072"/>
                  <a:pt x="10802" y="11121"/>
                </a:cubicBezTo>
                <a:cubicBezTo>
                  <a:pt x="10795" y="11160"/>
                  <a:pt x="10786" y="11189"/>
                  <a:pt x="10775" y="11227"/>
                </a:cubicBezTo>
              </a:path>
              <a:path w="4417" h="1211">
                <a:moveTo>
                  <a:pt x="10639" y="11148"/>
                </a:moveTo>
                <a:cubicBezTo>
                  <a:pt x="10655" y="11121"/>
                  <a:pt x="10662" y="11131"/>
                  <a:pt x="10690" y="11121"/>
                </a:cubicBezTo>
                <a:cubicBezTo>
                  <a:pt x="10694" y="11119"/>
                  <a:pt x="10699" y="11116"/>
                  <a:pt x="10703" y="11114"/>
                </a:cubicBezTo>
                <a:cubicBezTo>
                  <a:pt x="10698" y="11090"/>
                  <a:pt x="10687" y="11066"/>
                  <a:pt x="10675" y="11043"/>
                </a:cubicBezTo>
                <a:cubicBezTo>
                  <a:pt x="10663" y="11023"/>
                  <a:pt x="10660" y="11019"/>
                  <a:pt x="10653" y="11006"/>
                </a:cubicBezTo>
                <a:cubicBezTo>
                  <a:pt x="10645" y="11029"/>
                  <a:pt x="10651" y="11044"/>
                  <a:pt x="10649" y="11068"/>
                </a:cubicBezTo>
                <a:cubicBezTo>
                  <a:pt x="10647" y="11097"/>
                  <a:pt x="10644" y="11132"/>
                  <a:pt x="10635" y="11159"/>
                </a:cubicBezTo>
                <a:cubicBezTo>
                  <a:pt x="10627" y="11183"/>
                  <a:pt x="10611" y="11207"/>
                  <a:pt x="10590" y="11221"/>
                </a:cubicBezTo>
                <a:cubicBezTo>
                  <a:pt x="10573" y="11233"/>
                  <a:pt x="10550" y="11238"/>
                  <a:pt x="10529" y="11233"/>
                </a:cubicBezTo>
                <a:cubicBezTo>
                  <a:pt x="10502" y="11226"/>
                  <a:pt x="10481" y="11207"/>
                  <a:pt x="10465" y="11185"/>
                </a:cubicBezTo>
                <a:cubicBezTo>
                  <a:pt x="10448" y="11163"/>
                  <a:pt x="10446" y="11138"/>
                  <a:pt x="10447" y="11112"/>
                </a:cubicBezTo>
                <a:cubicBezTo>
                  <a:pt x="10449" y="11072"/>
                  <a:pt x="10461" y="11040"/>
                  <a:pt x="10480" y="11006"/>
                </a:cubicBezTo>
                <a:cubicBezTo>
                  <a:pt x="10492" y="10985"/>
                  <a:pt x="10502" y="10965"/>
                  <a:pt x="10515" y="10945"/>
                </a:cubicBezTo>
              </a:path>
              <a:path w="4417" h="1211">
                <a:moveTo>
                  <a:pt x="10760" y="10555"/>
                </a:moveTo>
                <a:cubicBezTo>
                  <a:pt x="10768" y="10531"/>
                  <a:pt x="10770" y="10536"/>
                  <a:pt x="10786" y="10521"/>
                </a:cubicBezTo>
                <a:cubicBezTo>
                  <a:pt x="10783" y="10547"/>
                  <a:pt x="10781" y="10569"/>
                  <a:pt x="10768" y="10594"/>
                </a:cubicBezTo>
                <a:cubicBezTo>
                  <a:pt x="10744" y="10640"/>
                  <a:pt x="10715" y="10689"/>
                  <a:pt x="10678" y="10726"/>
                </a:cubicBezTo>
                <a:cubicBezTo>
                  <a:pt x="10630" y="10775"/>
                  <a:pt x="10571" y="10818"/>
                  <a:pt x="10508" y="10847"/>
                </a:cubicBezTo>
                <a:cubicBezTo>
                  <a:pt x="10445" y="10876"/>
                  <a:pt x="10376" y="10892"/>
                  <a:pt x="10308" y="10900"/>
                </a:cubicBezTo>
                <a:cubicBezTo>
                  <a:pt x="10256" y="10906"/>
                  <a:pt x="10187" y="10914"/>
                  <a:pt x="10150" y="10875"/>
                </a:cubicBezTo>
                <a:cubicBezTo>
                  <a:pt x="10170" y="10868"/>
                  <a:pt x="10177" y="10865"/>
                  <a:pt x="10191" y="10860"/>
                </a:cubicBezTo>
              </a:path>
              <a:path w="4417" h="1211">
                <a:moveTo>
                  <a:pt x="10381" y="10463"/>
                </a:moveTo>
                <a:cubicBezTo>
                  <a:pt x="10422" y="10441"/>
                  <a:pt x="10467" y="10437"/>
                  <a:pt x="10515" y="10430"/>
                </a:cubicBezTo>
                <a:cubicBezTo>
                  <a:pt x="10609" y="10416"/>
                  <a:pt x="10707" y="10410"/>
                  <a:pt x="10798" y="10377"/>
                </a:cubicBezTo>
                <a:cubicBezTo>
                  <a:pt x="10821" y="10366"/>
                  <a:pt x="10843" y="10356"/>
                  <a:pt x="10866" y="10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8" name="Ink 72"/>
          <p:cNvSpPr/>
          <p:nvPr/>
        </p:nvSpPr>
        <p:spPr>
          <a:xfrm>
            <a:off x="1606680" y="6329520"/>
            <a:ext cx="1130040" cy="307800"/>
          </a:xfrm>
          <a:custGeom>
            <a:avLst/>
            <a:gdLst/>
            <a:ahLst/>
            <a:rect l="l" t="t" r="r" b="b"/>
            <a:pathLst>
              <a:path w="3138" h="858">
                <a:moveTo>
                  <a:pt x="7556" y="18089"/>
                </a:moveTo>
                <a:cubicBezTo>
                  <a:pt x="7546" y="18071"/>
                  <a:pt x="7547" y="18078"/>
                  <a:pt x="7524" y="18071"/>
                </a:cubicBezTo>
                <a:cubicBezTo>
                  <a:pt x="7524" y="18045"/>
                  <a:pt x="7532" y="18031"/>
                  <a:pt x="7556" y="18016"/>
                </a:cubicBezTo>
                <a:cubicBezTo>
                  <a:pt x="7576" y="18003"/>
                  <a:pt x="7601" y="18022"/>
                  <a:pt x="7601" y="18045"/>
                </a:cubicBezTo>
                <a:cubicBezTo>
                  <a:pt x="7601" y="18072"/>
                  <a:pt x="7575" y="18108"/>
                  <a:pt x="7559" y="18128"/>
                </a:cubicBezTo>
                <a:cubicBezTo>
                  <a:pt x="7535" y="18158"/>
                  <a:pt x="7502" y="18185"/>
                  <a:pt x="7471" y="18208"/>
                </a:cubicBezTo>
                <a:cubicBezTo>
                  <a:pt x="7419" y="18246"/>
                  <a:pt x="7372" y="18260"/>
                  <a:pt x="7313" y="18281"/>
                </a:cubicBezTo>
                <a:cubicBezTo>
                  <a:pt x="7275" y="18295"/>
                  <a:pt x="7247" y="18298"/>
                  <a:pt x="7206" y="18301"/>
                </a:cubicBezTo>
              </a:path>
              <a:path w="3138" h="858">
                <a:moveTo>
                  <a:pt x="7296" y="18039"/>
                </a:moveTo>
                <a:cubicBezTo>
                  <a:pt x="7297" y="18017"/>
                  <a:pt x="7294" y="18001"/>
                  <a:pt x="7302" y="17978"/>
                </a:cubicBezTo>
                <a:cubicBezTo>
                  <a:pt x="7310" y="17954"/>
                  <a:pt x="7324" y="17935"/>
                  <a:pt x="7338" y="17914"/>
                </a:cubicBezTo>
                <a:cubicBezTo>
                  <a:pt x="7355" y="17887"/>
                  <a:pt x="7379" y="17851"/>
                  <a:pt x="7407" y="17835"/>
                </a:cubicBezTo>
                <a:cubicBezTo>
                  <a:pt x="7426" y="17825"/>
                  <a:pt x="7430" y="17822"/>
                  <a:pt x="7444" y="17821"/>
                </a:cubicBezTo>
                <a:cubicBezTo>
                  <a:pt x="7447" y="17845"/>
                  <a:pt x="7456" y="17860"/>
                  <a:pt x="7444" y="17890"/>
                </a:cubicBezTo>
                <a:cubicBezTo>
                  <a:pt x="7431" y="17923"/>
                  <a:pt x="7408" y="17953"/>
                  <a:pt x="7382" y="17977"/>
                </a:cubicBezTo>
                <a:cubicBezTo>
                  <a:pt x="7357" y="18000"/>
                  <a:pt x="7336" y="18018"/>
                  <a:pt x="7303" y="18027"/>
                </a:cubicBezTo>
                <a:cubicBezTo>
                  <a:pt x="7281" y="18033"/>
                  <a:pt x="7263" y="18029"/>
                  <a:pt x="7245" y="18016"/>
                </a:cubicBezTo>
                <a:cubicBezTo>
                  <a:pt x="7221" y="17998"/>
                  <a:pt x="7223" y="17970"/>
                  <a:pt x="7203" y="17950"/>
                </a:cubicBezTo>
                <a:cubicBezTo>
                  <a:pt x="7197" y="17947"/>
                  <a:pt x="7191" y="17945"/>
                  <a:pt x="7185" y="17942"/>
                </a:cubicBezTo>
                <a:cubicBezTo>
                  <a:pt x="7164" y="17957"/>
                  <a:pt x="7143" y="17974"/>
                  <a:pt x="7121" y="17988"/>
                </a:cubicBezTo>
                <a:cubicBezTo>
                  <a:pt x="7102" y="18000"/>
                  <a:pt x="7084" y="18010"/>
                  <a:pt x="7061" y="18014"/>
                </a:cubicBezTo>
                <a:cubicBezTo>
                  <a:pt x="7042" y="18018"/>
                  <a:pt x="7021" y="18017"/>
                  <a:pt x="7004" y="18006"/>
                </a:cubicBezTo>
                <a:cubicBezTo>
                  <a:pt x="6981" y="17991"/>
                  <a:pt x="6967" y="17972"/>
                  <a:pt x="6952" y="17950"/>
                </a:cubicBezTo>
                <a:cubicBezTo>
                  <a:pt x="6933" y="17922"/>
                  <a:pt x="6923" y="17905"/>
                  <a:pt x="6892" y="17893"/>
                </a:cubicBezTo>
                <a:cubicBezTo>
                  <a:pt x="6877" y="17890"/>
                  <a:pt x="6872" y="17889"/>
                  <a:pt x="6862" y="17890"/>
                </a:cubicBezTo>
                <a:cubicBezTo>
                  <a:pt x="6884" y="17879"/>
                  <a:pt x="6902" y="17868"/>
                  <a:pt x="6927" y="17862"/>
                </a:cubicBezTo>
                <a:cubicBezTo>
                  <a:pt x="6944" y="17858"/>
                  <a:pt x="6984" y="17847"/>
                  <a:pt x="7001" y="17856"/>
                </a:cubicBezTo>
                <a:cubicBezTo>
                  <a:pt x="7032" y="17873"/>
                  <a:pt x="7031" y="17888"/>
                  <a:pt x="7023" y="17922"/>
                </a:cubicBezTo>
                <a:cubicBezTo>
                  <a:pt x="7004" y="18003"/>
                  <a:pt x="6929" y="18067"/>
                  <a:pt x="6852" y="18089"/>
                </a:cubicBezTo>
                <a:cubicBezTo>
                  <a:pt x="6810" y="18101"/>
                  <a:pt x="6768" y="18096"/>
                  <a:pt x="6745" y="18055"/>
                </a:cubicBezTo>
                <a:cubicBezTo>
                  <a:pt x="6737" y="18040"/>
                  <a:pt x="6740" y="18019"/>
                  <a:pt x="6737" y="18003"/>
                </a:cubicBezTo>
                <a:cubicBezTo>
                  <a:pt x="6716" y="18023"/>
                  <a:pt x="6695" y="18048"/>
                  <a:pt x="6671" y="18066"/>
                </a:cubicBezTo>
                <a:cubicBezTo>
                  <a:pt x="6657" y="18077"/>
                  <a:pt x="6636" y="18090"/>
                  <a:pt x="6617" y="18089"/>
                </a:cubicBezTo>
                <a:cubicBezTo>
                  <a:pt x="6579" y="18087"/>
                  <a:pt x="6581" y="18051"/>
                  <a:pt x="6579" y="18023"/>
                </a:cubicBezTo>
                <a:cubicBezTo>
                  <a:pt x="6577" y="17998"/>
                  <a:pt x="6589" y="17978"/>
                  <a:pt x="6597" y="17956"/>
                </a:cubicBezTo>
                <a:cubicBezTo>
                  <a:pt x="6581" y="17977"/>
                  <a:pt x="6570" y="17997"/>
                  <a:pt x="6550" y="18014"/>
                </a:cubicBezTo>
                <a:cubicBezTo>
                  <a:pt x="6515" y="18043"/>
                  <a:pt x="6477" y="18063"/>
                  <a:pt x="6435" y="18080"/>
                </a:cubicBezTo>
                <a:cubicBezTo>
                  <a:pt x="6341" y="18117"/>
                  <a:pt x="6241" y="18122"/>
                  <a:pt x="6142" y="18121"/>
                </a:cubicBezTo>
                <a:cubicBezTo>
                  <a:pt x="6095" y="18120"/>
                  <a:pt x="6048" y="18118"/>
                  <a:pt x="6002" y="18106"/>
                </a:cubicBezTo>
                <a:cubicBezTo>
                  <a:pt x="5982" y="18101"/>
                  <a:pt x="5945" y="18095"/>
                  <a:pt x="5971" y="18082"/>
                </a:cubicBezTo>
                <a:cubicBezTo>
                  <a:pt x="5976" y="18084"/>
                  <a:pt x="5980" y="18085"/>
                  <a:pt x="5985" y="18087"/>
                </a:cubicBezTo>
              </a:path>
              <a:path w="3138" h="858">
                <a:moveTo>
                  <a:pt x="6368" y="18355"/>
                </a:moveTo>
                <a:cubicBezTo>
                  <a:pt x="6341" y="18362"/>
                  <a:pt x="6335" y="18363"/>
                  <a:pt x="6320" y="18370"/>
                </a:cubicBezTo>
                <a:cubicBezTo>
                  <a:pt x="6347" y="18354"/>
                  <a:pt x="6368" y="18350"/>
                  <a:pt x="6398" y="18344"/>
                </a:cubicBezTo>
                <a:cubicBezTo>
                  <a:pt x="6437" y="18336"/>
                  <a:pt x="6478" y="18337"/>
                  <a:pt x="6517" y="18336"/>
                </a:cubicBezTo>
                <a:cubicBezTo>
                  <a:pt x="6544" y="18337"/>
                  <a:pt x="6549" y="18338"/>
                  <a:pt x="6565" y="18333"/>
                </a:cubicBezTo>
              </a:path>
              <a:path w="3138" h="858">
                <a:moveTo>
                  <a:pt x="6201" y="17780"/>
                </a:moveTo>
                <a:cubicBezTo>
                  <a:pt x="6196" y="17777"/>
                  <a:pt x="6190" y="17775"/>
                  <a:pt x="6185" y="17772"/>
                </a:cubicBezTo>
                <a:cubicBezTo>
                  <a:pt x="6212" y="17746"/>
                  <a:pt x="6235" y="17748"/>
                  <a:pt x="6272" y="17740"/>
                </a:cubicBezTo>
                <a:cubicBezTo>
                  <a:pt x="6338" y="17726"/>
                  <a:pt x="6389" y="17733"/>
                  <a:pt x="6455" y="17736"/>
                </a:cubicBezTo>
                <a:cubicBezTo>
                  <a:pt x="6498" y="17738"/>
                  <a:pt x="6536" y="17744"/>
                  <a:pt x="6579" y="17751"/>
                </a:cubicBezTo>
              </a:path>
              <a:path w="3138" h="858">
                <a:moveTo>
                  <a:pt x="7156" y="17595"/>
                </a:moveTo>
                <a:cubicBezTo>
                  <a:pt x="7169" y="17557"/>
                  <a:pt x="7156" y="17601"/>
                  <a:pt x="7154" y="17606"/>
                </a:cubicBezTo>
              </a:path>
              <a:path w="3138" h="858">
                <a:moveTo>
                  <a:pt x="5654" y="17826"/>
                </a:moveTo>
                <a:cubicBezTo>
                  <a:pt x="5675" y="17834"/>
                  <a:pt x="5696" y="17841"/>
                  <a:pt x="5718" y="17847"/>
                </a:cubicBezTo>
                <a:cubicBezTo>
                  <a:pt x="5722" y="17848"/>
                  <a:pt x="5726" y="17848"/>
                  <a:pt x="5730" y="17849"/>
                </a:cubicBezTo>
                <a:cubicBezTo>
                  <a:pt x="5725" y="17826"/>
                  <a:pt x="5722" y="17803"/>
                  <a:pt x="5701" y="17786"/>
                </a:cubicBezTo>
                <a:cubicBezTo>
                  <a:pt x="5676" y="17766"/>
                  <a:pt x="5659" y="17788"/>
                  <a:pt x="5648" y="17810"/>
                </a:cubicBezTo>
                <a:cubicBezTo>
                  <a:pt x="5633" y="17839"/>
                  <a:pt x="5625" y="17874"/>
                  <a:pt x="5612" y="17904"/>
                </a:cubicBezTo>
                <a:cubicBezTo>
                  <a:pt x="5600" y="17931"/>
                  <a:pt x="5585" y="17961"/>
                  <a:pt x="5568" y="17985"/>
                </a:cubicBezTo>
                <a:cubicBezTo>
                  <a:pt x="5550" y="18011"/>
                  <a:pt x="5523" y="18032"/>
                  <a:pt x="5492" y="18039"/>
                </a:cubicBezTo>
                <a:cubicBezTo>
                  <a:pt x="5461" y="18046"/>
                  <a:pt x="5400" y="18055"/>
                  <a:pt x="5384" y="18018"/>
                </a:cubicBezTo>
                <a:cubicBezTo>
                  <a:pt x="5373" y="17994"/>
                  <a:pt x="5400" y="17942"/>
                  <a:pt x="5430" y="17947"/>
                </a:cubicBezTo>
                <a:cubicBezTo>
                  <a:pt x="5457" y="17952"/>
                  <a:pt x="5461" y="17982"/>
                  <a:pt x="5465" y="18004"/>
                </a:cubicBezTo>
                <a:cubicBezTo>
                  <a:pt x="5470" y="18027"/>
                  <a:pt x="5462" y="18052"/>
                  <a:pt x="5452" y="18073"/>
                </a:cubicBezTo>
                <a:cubicBezTo>
                  <a:pt x="5437" y="18104"/>
                  <a:pt x="5412" y="18134"/>
                  <a:pt x="5384" y="18155"/>
                </a:cubicBezTo>
                <a:cubicBezTo>
                  <a:pt x="5344" y="18185"/>
                  <a:pt x="5280" y="18214"/>
                  <a:pt x="5232" y="18224"/>
                </a:cubicBezTo>
                <a:cubicBezTo>
                  <a:pt x="5186" y="18227"/>
                  <a:pt x="5173" y="18227"/>
                  <a:pt x="5145" y="18235"/>
                </a:cubicBezTo>
              </a:path>
              <a:path w="3138" h="858">
                <a:moveTo>
                  <a:pt x="5133" y="17885"/>
                </a:moveTo>
                <a:cubicBezTo>
                  <a:pt x="5132" y="17858"/>
                  <a:pt x="5132" y="17829"/>
                  <a:pt x="5139" y="17801"/>
                </a:cubicBezTo>
                <a:cubicBezTo>
                  <a:pt x="5147" y="17772"/>
                  <a:pt x="5161" y="17738"/>
                  <a:pt x="5190" y="17723"/>
                </a:cubicBezTo>
                <a:cubicBezTo>
                  <a:pt x="5207" y="17714"/>
                  <a:pt x="5237" y="17713"/>
                  <a:pt x="5256" y="17712"/>
                </a:cubicBezTo>
                <a:cubicBezTo>
                  <a:pt x="5280" y="17711"/>
                  <a:pt x="5305" y="17714"/>
                  <a:pt x="5328" y="17718"/>
                </a:cubicBezTo>
                <a:cubicBezTo>
                  <a:pt x="5351" y="17722"/>
                  <a:pt x="5357" y="17723"/>
                  <a:pt x="5371" y="17727"/>
                </a:cubicBezTo>
                <a:cubicBezTo>
                  <a:pt x="5352" y="17749"/>
                  <a:pt x="5337" y="17772"/>
                  <a:pt x="5320" y="17796"/>
                </a:cubicBezTo>
                <a:cubicBezTo>
                  <a:pt x="5301" y="17823"/>
                  <a:pt x="5287" y="17852"/>
                  <a:pt x="5267" y="17878"/>
                </a:cubicBezTo>
                <a:cubicBezTo>
                  <a:pt x="5240" y="17912"/>
                  <a:pt x="5213" y="17942"/>
                  <a:pt x="5178" y="17967"/>
                </a:cubicBezTo>
                <a:cubicBezTo>
                  <a:pt x="5138" y="17995"/>
                  <a:pt x="5095" y="18021"/>
                  <a:pt x="5051" y="18042"/>
                </a:cubicBezTo>
                <a:cubicBezTo>
                  <a:pt x="5019" y="18057"/>
                  <a:pt x="4982" y="18075"/>
                  <a:pt x="4947" y="18080"/>
                </a:cubicBezTo>
                <a:cubicBezTo>
                  <a:pt x="4923" y="18083"/>
                  <a:pt x="4891" y="18068"/>
                  <a:pt x="4902" y="18038"/>
                </a:cubicBezTo>
                <a:cubicBezTo>
                  <a:pt x="4910" y="18016"/>
                  <a:pt x="4941" y="17996"/>
                  <a:pt x="4964" y="17995"/>
                </a:cubicBezTo>
                <a:cubicBezTo>
                  <a:pt x="4989" y="17994"/>
                  <a:pt x="5001" y="18040"/>
                  <a:pt x="5001" y="18057"/>
                </a:cubicBezTo>
                <a:cubicBezTo>
                  <a:pt x="5002" y="18093"/>
                  <a:pt x="4975" y="18119"/>
                  <a:pt x="4950" y="18141"/>
                </a:cubicBezTo>
                <a:cubicBezTo>
                  <a:pt x="4917" y="18170"/>
                  <a:pt x="4878" y="18197"/>
                  <a:pt x="4838" y="18215"/>
                </a:cubicBezTo>
                <a:cubicBezTo>
                  <a:pt x="4799" y="18232"/>
                  <a:pt x="4761" y="18246"/>
                  <a:pt x="4726" y="18265"/>
                </a:cubicBezTo>
              </a:path>
              <a:path w="3138" h="858">
                <a:moveTo>
                  <a:pt x="4932" y="18401"/>
                </a:moveTo>
                <a:cubicBezTo>
                  <a:pt x="4964" y="18388"/>
                  <a:pt x="4941" y="18423"/>
                  <a:pt x="4933" y="18437"/>
                </a:cubicBezTo>
              </a:path>
              <a:path w="3138" h="858">
                <a:moveTo>
                  <a:pt x="4748" y="17772"/>
                </a:moveTo>
                <a:cubicBezTo>
                  <a:pt x="4767" y="17795"/>
                  <a:pt x="4780" y="17816"/>
                  <a:pt x="4791" y="17843"/>
                </a:cubicBezTo>
                <a:cubicBezTo>
                  <a:pt x="4800" y="17865"/>
                  <a:pt x="4804" y="17886"/>
                  <a:pt x="4805" y="17910"/>
                </a:cubicBezTo>
                <a:cubicBezTo>
                  <a:pt x="4806" y="17937"/>
                  <a:pt x="4808" y="17971"/>
                  <a:pt x="4799" y="17997"/>
                </a:cubicBezTo>
                <a:cubicBezTo>
                  <a:pt x="4792" y="18020"/>
                  <a:pt x="4772" y="18043"/>
                  <a:pt x="4753" y="18056"/>
                </a:cubicBezTo>
                <a:cubicBezTo>
                  <a:pt x="4704" y="18090"/>
                  <a:pt x="4634" y="18117"/>
                  <a:pt x="4579" y="18137"/>
                </a:cubicBezTo>
                <a:cubicBezTo>
                  <a:pt x="4519" y="18154"/>
                  <a:pt x="4501" y="18159"/>
                  <a:pt x="4464" y="18177"/>
                </a:cubicBezTo>
              </a:path>
            </a:pathLst>
          </a:custGeom>
          <a:noFill/>
          <a:ln cap="rnd"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79" name="Ink 73"/>
          <p:cNvSpPr/>
          <p:nvPr/>
        </p:nvSpPr>
        <p:spPr>
          <a:xfrm>
            <a:off x="6783480" y="6300720"/>
            <a:ext cx="1136520" cy="309600"/>
          </a:xfrm>
          <a:custGeom>
            <a:avLst/>
            <a:gdLst/>
            <a:ahLst/>
            <a:rect l="l" t="t" r="r" b="b"/>
            <a:pathLst>
              <a:path w="3155" h="860">
                <a:moveTo>
                  <a:pt x="21949" y="18017"/>
                </a:moveTo>
                <a:cubicBezTo>
                  <a:pt x="21931" y="18008"/>
                  <a:pt x="21906" y="18000"/>
                  <a:pt x="21917" y="17974"/>
                </a:cubicBezTo>
                <a:cubicBezTo>
                  <a:pt x="21923" y="17959"/>
                  <a:pt x="21951" y="17937"/>
                  <a:pt x="21969" y="17939"/>
                </a:cubicBezTo>
                <a:cubicBezTo>
                  <a:pt x="22000" y="17942"/>
                  <a:pt x="21998" y="17978"/>
                  <a:pt x="21996" y="17999"/>
                </a:cubicBezTo>
                <a:cubicBezTo>
                  <a:pt x="21993" y="18030"/>
                  <a:pt x="21962" y="18054"/>
                  <a:pt x="21938" y="18071"/>
                </a:cubicBezTo>
                <a:cubicBezTo>
                  <a:pt x="21916" y="18087"/>
                  <a:pt x="21885" y="18104"/>
                  <a:pt x="21859" y="18113"/>
                </a:cubicBezTo>
                <a:cubicBezTo>
                  <a:pt x="21817" y="18127"/>
                  <a:pt x="21773" y="18130"/>
                  <a:pt x="21731" y="18146"/>
                </a:cubicBezTo>
                <a:cubicBezTo>
                  <a:pt x="21723" y="18150"/>
                  <a:pt x="21714" y="18154"/>
                  <a:pt x="21706" y="18158"/>
                </a:cubicBezTo>
              </a:path>
              <a:path w="3155" h="860">
                <a:moveTo>
                  <a:pt x="21630" y="18048"/>
                </a:moveTo>
                <a:cubicBezTo>
                  <a:pt x="21625" y="18021"/>
                  <a:pt x="21621" y="17998"/>
                  <a:pt x="21628" y="17970"/>
                </a:cubicBezTo>
                <a:cubicBezTo>
                  <a:pt x="21635" y="17941"/>
                  <a:pt x="21655" y="17913"/>
                  <a:pt x="21672" y="17888"/>
                </a:cubicBezTo>
                <a:cubicBezTo>
                  <a:pt x="21694" y="17856"/>
                  <a:pt x="21733" y="17812"/>
                  <a:pt x="21771" y="17800"/>
                </a:cubicBezTo>
                <a:cubicBezTo>
                  <a:pt x="21797" y="17792"/>
                  <a:pt x="21809" y="17803"/>
                  <a:pt x="21816" y="17828"/>
                </a:cubicBezTo>
                <a:cubicBezTo>
                  <a:pt x="21824" y="17859"/>
                  <a:pt x="21799" y="17896"/>
                  <a:pt x="21784" y="17920"/>
                </a:cubicBezTo>
                <a:cubicBezTo>
                  <a:pt x="21760" y="17958"/>
                  <a:pt x="21669" y="18033"/>
                  <a:pt x="21618" y="18013"/>
                </a:cubicBezTo>
                <a:cubicBezTo>
                  <a:pt x="21588" y="18001"/>
                  <a:pt x="21590" y="17970"/>
                  <a:pt x="21580" y="17945"/>
                </a:cubicBezTo>
                <a:cubicBezTo>
                  <a:pt x="21570" y="17922"/>
                  <a:pt x="21569" y="17908"/>
                  <a:pt x="21539" y="17917"/>
                </a:cubicBezTo>
                <a:cubicBezTo>
                  <a:pt x="21510" y="17926"/>
                  <a:pt x="21492" y="17963"/>
                  <a:pt x="21465" y="17978"/>
                </a:cubicBezTo>
                <a:cubicBezTo>
                  <a:pt x="21444" y="17990"/>
                  <a:pt x="21420" y="18001"/>
                  <a:pt x="21395" y="17995"/>
                </a:cubicBezTo>
                <a:cubicBezTo>
                  <a:pt x="21371" y="17990"/>
                  <a:pt x="21349" y="17967"/>
                  <a:pt x="21334" y="17949"/>
                </a:cubicBezTo>
                <a:cubicBezTo>
                  <a:pt x="21315" y="17926"/>
                  <a:pt x="21303" y="17898"/>
                  <a:pt x="21274" y="17885"/>
                </a:cubicBezTo>
                <a:cubicBezTo>
                  <a:pt x="21256" y="17877"/>
                  <a:pt x="21241" y="17887"/>
                  <a:pt x="21223" y="17886"/>
                </a:cubicBezTo>
                <a:cubicBezTo>
                  <a:pt x="21242" y="17881"/>
                  <a:pt x="21262" y="17873"/>
                  <a:pt x="21281" y="17868"/>
                </a:cubicBezTo>
                <a:cubicBezTo>
                  <a:pt x="21300" y="17863"/>
                  <a:pt x="21329" y="17855"/>
                  <a:pt x="21349" y="17860"/>
                </a:cubicBezTo>
                <a:cubicBezTo>
                  <a:pt x="21381" y="17868"/>
                  <a:pt x="21378" y="17886"/>
                  <a:pt x="21372" y="17914"/>
                </a:cubicBezTo>
                <a:cubicBezTo>
                  <a:pt x="21362" y="17963"/>
                  <a:pt x="21312" y="18014"/>
                  <a:pt x="21273" y="18042"/>
                </a:cubicBezTo>
                <a:cubicBezTo>
                  <a:pt x="21227" y="18075"/>
                  <a:pt x="21161" y="18096"/>
                  <a:pt x="21124" y="18043"/>
                </a:cubicBezTo>
                <a:cubicBezTo>
                  <a:pt x="21110" y="18024"/>
                  <a:pt x="21107" y="18006"/>
                  <a:pt x="21104" y="17984"/>
                </a:cubicBezTo>
                <a:cubicBezTo>
                  <a:pt x="21102" y="17966"/>
                  <a:pt x="21107" y="17954"/>
                  <a:pt x="21109" y="17936"/>
                </a:cubicBezTo>
                <a:cubicBezTo>
                  <a:pt x="21097" y="17955"/>
                  <a:pt x="21088" y="17978"/>
                  <a:pt x="21074" y="17996"/>
                </a:cubicBezTo>
                <a:cubicBezTo>
                  <a:pt x="21054" y="18022"/>
                  <a:pt x="21017" y="18053"/>
                  <a:pt x="20982" y="18056"/>
                </a:cubicBezTo>
                <a:cubicBezTo>
                  <a:pt x="20949" y="18058"/>
                  <a:pt x="20943" y="18048"/>
                  <a:pt x="20937" y="18018"/>
                </a:cubicBezTo>
                <a:cubicBezTo>
                  <a:pt x="20931" y="17988"/>
                  <a:pt x="20955" y="17948"/>
                  <a:pt x="20965" y="17922"/>
                </a:cubicBezTo>
                <a:cubicBezTo>
                  <a:pt x="20963" y="17962"/>
                  <a:pt x="20968" y="17964"/>
                  <a:pt x="20936" y="18002"/>
                </a:cubicBezTo>
                <a:cubicBezTo>
                  <a:pt x="20893" y="18053"/>
                  <a:pt x="20796" y="18074"/>
                  <a:pt x="20736" y="18089"/>
                </a:cubicBezTo>
                <a:cubicBezTo>
                  <a:pt x="20675" y="18104"/>
                  <a:pt x="20616" y="18109"/>
                  <a:pt x="20553" y="18109"/>
                </a:cubicBezTo>
                <a:cubicBezTo>
                  <a:pt x="20509" y="18109"/>
                  <a:pt x="20470" y="18105"/>
                  <a:pt x="20428" y="18093"/>
                </a:cubicBezTo>
                <a:cubicBezTo>
                  <a:pt x="20408" y="18087"/>
                  <a:pt x="20403" y="18081"/>
                  <a:pt x="20386" y="18071"/>
                </a:cubicBezTo>
                <a:cubicBezTo>
                  <a:pt x="20404" y="18076"/>
                  <a:pt x="20414" y="18080"/>
                  <a:pt x="20431" y="18088"/>
                </a:cubicBezTo>
              </a:path>
              <a:path w="3155" h="860">
                <a:moveTo>
                  <a:pt x="20603" y="18309"/>
                </a:moveTo>
                <a:cubicBezTo>
                  <a:pt x="20569" y="18301"/>
                  <a:pt x="20643" y="18315"/>
                  <a:pt x="20659" y="18316"/>
                </a:cubicBezTo>
                <a:cubicBezTo>
                  <a:pt x="20706" y="18318"/>
                  <a:pt x="20751" y="18316"/>
                  <a:pt x="20797" y="18313"/>
                </a:cubicBezTo>
                <a:cubicBezTo>
                  <a:pt x="20828" y="18313"/>
                  <a:pt x="20836" y="18315"/>
                  <a:pt x="20853" y="18304"/>
                </a:cubicBezTo>
              </a:path>
              <a:path w="3155" h="860">
                <a:moveTo>
                  <a:pt x="20654" y="17687"/>
                </a:moveTo>
                <a:cubicBezTo>
                  <a:pt x="20669" y="17666"/>
                  <a:pt x="20700" y="17671"/>
                  <a:pt x="20731" y="17672"/>
                </a:cubicBezTo>
                <a:cubicBezTo>
                  <a:pt x="20793" y="17673"/>
                  <a:pt x="20856" y="17676"/>
                  <a:pt x="20917" y="17682"/>
                </a:cubicBezTo>
                <a:cubicBezTo>
                  <a:pt x="20970" y="17689"/>
                  <a:pt x="20984" y="17692"/>
                  <a:pt x="21018" y="17691"/>
                </a:cubicBezTo>
              </a:path>
              <a:path w="3155" h="860">
                <a:moveTo>
                  <a:pt x="21515" y="17537"/>
                </a:moveTo>
                <a:cubicBezTo>
                  <a:pt x="21555" y="17517"/>
                  <a:pt x="21507" y="17566"/>
                  <a:pt x="21501" y="17573"/>
                </a:cubicBezTo>
              </a:path>
              <a:path w="3155" h="860">
                <a:moveTo>
                  <a:pt x="20225" y="17928"/>
                </a:moveTo>
                <a:cubicBezTo>
                  <a:pt x="20236" y="17926"/>
                  <a:pt x="20250" y="17922"/>
                  <a:pt x="20282" y="17928"/>
                </a:cubicBezTo>
                <a:cubicBezTo>
                  <a:pt x="20300" y="17933"/>
                  <a:pt x="20305" y="17934"/>
                  <a:pt x="20317" y="17935"/>
                </a:cubicBezTo>
                <a:cubicBezTo>
                  <a:pt x="20304" y="17907"/>
                  <a:pt x="20308" y="17893"/>
                  <a:pt x="20276" y="17872"/>
                </a:cubicBezTo>
                <a:cubicBezTo>
                  <a:pt x="20264" y="17867"/>
                  <a:pt x="20260" y="17865"/>
                  <a:pt x="20251" y="17865"/>
                </a:cubicBezTo>
                <a:cubicBezTo>
                  <a:pt x="20233" y="17889"/>
                  <a:pt x="20217" y="17918"/>
                  <a:pt x="20196" y="17939"/>
                </a:cubicBezTo>
                <a:cubicBezTo>
                  <a:pt x="20174" y="17962"/>
                  <a:pt x="20142" y="17990"/>
                  <a:pt x="20116" y="18007"/>
                </a:cubicBezTo>
                <a:cubicBezTo>
                  <a:pt x="20082" y="18029"/>
                  <a:pt x="20038" y="18050"/>
                  <a:pt x="19999" y="18063"/>
                </a:cubicBezTo>
                <a:cubicBezTo>
                  <a:pt x="19971" y="18072"/>
                  <a:pt x="19925" y="18087"/>
                  <a:pt x="19895" y="18080"/>
                </a:cubicBezTo>
                <a:cubicBezTo>
                  <a:pt x="19860" y="18072"/>
                  <a:pt x="19847" y="18055"/>
                  <a:pt x="19855" y="18021"/>
                </a:cubicBezTo>
                <a:cubicBezTo>
                  <a:pt x="19868" y="17963"/>
                  <a:pt x="19947" y="17928"/>
                  <a:pt x="19998" y="17922"/>
                </a:cubicBezTo>
                <a:cubicBezTo>
                  <a:pt x="20032" y="17918"/>
                  <a:pt x="20071" y="17922"/>
                  <a:pt x="20065" y="17967"/>
                </a:cubicBezTo>
                <a:cubicBezTo>
                  <a:pt x="20061" y="17999"/>
                  <a:pt x="20037" y="18025"/>
                  <a:pt x="20013" y="18046"/>
                </a:cubicBezTo>
                <a:cubicBezTo>
                  <a:pt x="19967" y="18086"/>
                  <a:pt x="19912" y="18113"/>
                  <a:pt x="19849" y="18106"/>
                </a:cubicBezTo>
                <a:cubicBezTo>
                  <a:pt x="19795" y="18100"/>
                  <a:pt x="19780" y="18068"/>
                  <a:pt x="19770" y="18020"/>
                </a:cubicBezTo>
                <a:cubicBezTo>
                  <a:pt x="19764" y="17990"/>
                  <a:pt x="19774" y="17958"/>
                  <a:pt x="19781" y="17929"/>
                </a:cubicBezTo>
                <a:cubicBezTo>
                  <a:pt x="19786" y="17908"/>
                  <a:pt x="19796" y="17884"/>
                  <a:pt x="19798" y="17862"/>
                </a:cubicBezTo>
                <a:cubicBezTo>
                  <a:pt x="19800" y="17845"/>
                  <a:pt x="19801" y="17841"/>
                  <a:pt x="19798" y="17830"/>
                </a:cubicBezTo>
                <a:cubicBezTo>
                  <a:pt x="19796" y="17871"/>
                  <a:pt x="19793" y="17910"/>
                  <a:pt x="19786" y="17950"/>
                </a:cubicBezTo>
                <a:cubicBezTo>
                  <a:pt x="19779" y="17986"/>
                  <a:pt x="19770" y="18023"/>
                  <a:pt x="19753" y="18056"/>
                </a:cubicBezTo>
                <a:cubicBezTo>
                  <a:pt x="19733" y="18094"/>
                  <a:pt x="19708" y="18119"/>
                  <a:pt x="19674" y="18144"/>
                </a:cubicBezTo>
                <a:cubicBezTo>
                  <a:pt x="19651" y="18161"/>
                  <a:pt x="19620" y="18167"/>
                  <a:pt x="19592" y="18171"/>
                </a:cubicBezTo>
                <a:cubicBezTo>
                  <a:pt x="19575" y="18174"/>
                  <a:pt x="19536" y="18177"/>
                  <a:pt x="19525" y="18156"/>
                </a:cubicBezTo>
                <a:cubicBezTo>
                  <a:pt x="19510" y="18126"/>
                  <a:pt x="19546" y="18099"/>
                  <a:pt x="19568" y="18087"/>
                </a:cubicBezTo>
                <a:cubicBezTo>
                  <a:pt x="19572" y="18087"/>
                  <a:pt x="19577" y="18088"/>
                  <a:pt x="19581" y="18088"/>
                </a:cubicBezTo>
                <a:cubicBezTo>
                  <a:pt x="19587" y="18120"/>
                  <a:pt x="19593" y="18142"/>
                  <a:pt x="19586" y="18176"/>
                </a:cubicBezTo>
                <a:cubicBezTo>
                  <a:pt x="19580" y="18206"/>
                  <a:pt x="19568" y="18233"/>
                  <a:pt x="19546" y="18254"/>
                </a:cubicBezTo>
                <a:cubicBezTo>
                  <a:pt x="19518" y="18280"/>
                  <a:pt x="19472" y="18294"/>
                  <a:pt x="19436" y="18301"/>
                </a:cubicBezTo>
                <a:cubicBezTo>
                  <a:pt x="19391" y="18310"/>
                  <a:pt x="19351" y="18316"/>
                  <a:pt x="19305" y="18320"/>
                </a:cubicBezTo>
              </a:path>
              <a:path w="3155" h="860">
                <a:moveTo>
                  <a:pt x="19915" y="17560"/>
                </a:moveTo>
                <a:cubicBezTo>
                  <a:pt x="19926" y="17539"/>
                  <a:pt x="19935" y="17521"/>
                  <a:pt x="19949" y="17502"/>
                </a:cubicBezTo>
                <a:cubicBezTo>
                  <a:pt x="19950" y="17525"/>
                  <a:pt x="19944" y="17547"/>
                  <a:pt x="19940" y="17570"/>
                </a:cubicBezTo>
                <a:cubicBezTo>
                  <a:pt x="19930" y="17626"/>
                  <a:pt x="19924" y="17694"/>
                  <a:pt x="19906" y="17748"/>
                </a:cubicBezTo>
                <a:cubicBezTo>
                  <a:pt x="19886" y="17788"/>
                  <a:pt x="19879" y="17802"/>
                  <a:pt x="19877" y="17833"/>
                </a:cubicBezTo>
              </a:path>
              <a:path w="3155" h="860">
                <a:moveTo>
                  <a:pt x="19532" y="17913"/>
                </a:moveTo>
                <a:cubicBezTo>
                  <a:pt x="19539" y="17898"/>
                  <a:pt x="19541" y="17893"/>
                  <a:pt x="19543" y="17883"/>
                </a:cubicBezTo>
                <a:cubicBezTo>
                  <a:pt x="19525" y="17907"/>
                  <a:pt x="19511" y="17931"/>
                  <a:pt x="19490" y="17952"/>
                </a:cubicBezTo>
                <a:cubicBezTo>
                  <a:pt x="19461" y="17982"/>
                  <a:pt x="19427" y="18000"/>
                  <a:pt x="19390" y="18018"/>
                </a:cubicBezTo>
                <a:cubicBezTo>
                  <a:pt x="19333" y="18047"/>
                  <a:pt x="19272" y="18063"/>
                  <a:pt x="19210" y="18077"/>
                </a:cubicBezTo>
                <a:cubicBezTo>
                  <a:pt x="19141" y="18092"/>
                  <a:pt x="19071" y="18100"/>
                  <a:pt x="19000" y="18102"/>
                </a:cubicBezTo>
                <a:cubicBezTo>
                  <a:pt x="18961" y="18103"/>
                  <a:pt x="18907" y="18104"/>
                  <a:pt x="18869" y="18092"/>
                </a:cubicBezTo>
                <a:cubicBezTo>
                  <a:pt x="18856" y="18088"/>
                  <a:pt x="18851" y="18086"/>
                  <a:pt x="18844" y="18080"/>
                </a:cubicBezTo>
                <a:cubicBezTo>
                  <a:pt x="18875" y="18069"/>
                  <a:pt x="18879" y="18067"/>
                  <a:pt x="18890" y="18099"/>
                </a:cubicBezTo>
              </a:path>
              <a:path w="3155" h="860">
                <a:moveTo>
                  <a:pt x="18879" y="18337"/>
                </a:moveTo>
                <a:cubicBezTo>
                  <a:pt x="18903" y="18344"/>
                  <a:pt x="18926" y="18352"/>
                  <a:pt x="18949" y="18361"/>
                </a:cubicBezTo>
              </a:path>
            </a:pathLst>
          </a:custGeom>
          <a:noFill/>
          <a:ln cap="rnd"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0" name="Ink 76"/>
          <p:cNvSpPr/>
          <p:nvPr/>
        </p:nvSpPr>
        <p:spPr>
          <a:xfrm>
            <a:off x="6651720" y="6443640"/>
            <a:ext cx="58680" cy="114480"/>
          </a:xfrm>
          <a:custGeom>
            <a:avLst/>
            <a:gdLst/>
            <a:ahLst/>
            <a:rect l="l" t="t" r="r" b="b"/>
            <a:pathLst>
              <a:path w="163" h="319">
                <a:moveTo>
                  <a:pt x="18601" y="17927"/>
                </a:moveTo>
                <a:cubicBezTo>
                  <a:pt x="18601" y="17913"/>
                  <a:pt x="18601" y="17907"/>
                  <a:pt x="18598" y="17898"/>
                </a:cubicBezTo>
                <a:cubicBezTo>
                  <a:pt x="18615" y="17914"/>
                  <a:pt x="18623" y="17929"/>
                  <a:pt x="18630" y="17952"/>
                </a:cubicBezTo>
                <a:cubicBezTo>
                  <a:pt x="18639" y="17980"/>
                  <a:pt x="18640" y="18005"/>
                  <a:pt x="18636" y="18034"/>
                </a:cubicBezTo>
                <a:cubicBezTo>
                  <a:pt x="18630" y="18073"/>
                  <a:pt x="18610" y="18101"/>
                  <a:pt x="18590" y="18134"/>
                </a:cubicBezTo>
                <a:cubicBezTo>
                  <a:pt x="18564" y="18176"/>
                  <a:pt x="18520" y="18196"/>
                  <a:pt x="18477" y="18216"/>
                </a:cubicBezTo>
              </a:path>
            </a:pathLst>
          </a:custGeom>
          <a:noFill/>
          <a:ln cap="rnd"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1" name="Ink 78"/>
          <p:cNvSpPr/>
          <p:nvPr/>
        </p:nvSpPr>
        <p:spPr>
          <a:xfrm>
            <a:off x="6453360" y="6308640"/>
            <a:ext cx="263520" cy="285840"/>
          </a:xfrm>
          <a:custGeom>
            <a:avLst/>
            <a:gdLst/>
            <a:ahLst/>
            <a:rect l="l" t="t" r="r" b="b"/>
            <a:pathLst>
              <a:path w="735" h="797">
                <a:moveTo>
                  <a:pt x="18460" y="17853"/>
                </a:moveTo>
                <a:cubicBezTo>
                  <a:pt x="18437" y="17862"/>
                  <a:pt x="18418" y="17872"/>
                  <a:pt x="18398" y="17886"/>
                </a:cubicBezTo>
                <a:cubicBezTo>
                  <a:pt x="18376" y="17901"/>
                  <a:pt x="18353" y="17916"/>
                  <a:pt x="18332" y="17932"/>
                </a:cubicBezTo>
                <a:cubicBezTo>
                  <a:pt x="18304" y="17954"/>
                  <a:pt x="18279" y="17979"/>
                  <a:pt x="18268" y="18013"/>
                </a:cubicBezTo>
                <a:cubicBezTo>
                  <a:pt x="18261" y="18036"/>
                  <a:pt x="18266" y="18050"/>
                  <a:pt x="18265" y="18073"/>
                </a:cubicBezTo>
                <a:cubicBezTo>
                  <a:pt x="18264" y="18103"/>
                  <a:pt x="18236" y="18131"/>
                  <a:pt x="18211" y="18144"/>
                </a:cubicBezTo>
                <a:cubicBezTo>
                  <a:pt x="18182" y="18159"/>
                  <a:pt x="18152" y="18169"/>
                  <a:pt x="18122" y="18181"/>
                </a:cubicBezTo>
                <a:cubicBezTo>
                  <a:pt x="18113" y="18185"/>
                  <a:pt x="18105" y="18190"/>
                  <a:pt x="18096" y="18194"/>
                </a:cubicBezTo>
              </a:path>
              <a:path w="735" h="797">
                <a:moveTo>
                  <a:pt x="18329" y="17545"/>
                </a:moveTo>
                <a:cubicBezTo>
                  <a:pt x="18372" y="17552"/>
                  <a:pt x="18412" y="17546"/>
                  <a:pt x="18456" y="17540"/>
                </a:cubicBezTo>
                <a:cubicBezTo>
                  <a:pt x="18509" y="17533"/>
                  <a:pt x="18578" y="17509"/>
                  <a:pt x="18630" y="17528"/>
                </a:cubicBezTo>
                <a:cubicBezTo>
                  <a:pt x="18639" y="17534"/>
                  <a:pt x="18649" y="17541"/>
                  <a:pt x="18658" y="17547"/>
                </a:cubicBezTo>
              </a:path>
              <a:path w="735" h="797">
                <a:moveTo>
                  <a:pt x="18015" y="17872"/>
                </a:moveTo>
                <a:cubicBezTo>
                  <a:pt x="18022" y="17857"/>
                  <a:pt x="18025" y="17853"/>
                  <a:pt x="18027" y="17843"/>
                </a:cubicBezTo>
                <a:cubicBezTo>
                  <a:pt x="18018" y="17873"/>
                  <a:pt x="18003" y="17897"/>
                  <a:pt x="17990" y="17925"/>
                </a:cubicBezTo>
                <a:cubicBezTo>
                  <a:pt x="17968" y="17971"/>
                  <a:pt x="17942" y="18020"/>
                  <a:pt x="17930" y="18070"/>
                </a:cubicBezTo>
                <a:cubicBezTo>
                  <a:pt x="17918" y="18120"/>
                  <a:pt x="17919" y="18179"/>
                  <a:pt x="17947" y="18224"/>
                </a:cubicBezTo>
                <a:cubicBezTo>
                  <a:pt x="17977" y="18273"/>
                  <a:pt x="18021" y="18291"/>
                  <a:pt x="18068" y="18319"/>
                </a:cubicBezTo>
              </a:path>
            </a:pathLst>
          </a:custGeom>
          <a:noFill/>
          <a:ln cap="rnd"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2" name="Ink 83"/>
          <p:cNvSpPr/>
          <p:nvPr/>
        </p:nvSpPr>
        <p:spPr>
          <a:xfrm>
            <a:off x="1268280" y="3471840"/>
            <a:ext cx="304920" cy="293760"/>
          </a:xfrm>
          <a:custGeom>
            <a:avLst/>
            <a:gdLst/>
            <a:ahLst/>
            <a:rect l="l" t="t" r="r" b="b"/>
            <a:pathLst>
              <a:path w="845" h="816">
                <a:moveTo>
                  <a:pt x="4288" y="9753"/>
                </a:moveTo>
                <a:cubicBezTo>
                  <a:pt x="4296" y="9741"/>
                  <a:pt x="4289" y="9725"/>
                  <a:pt x="4323" y="9722"/>
                </a:cubicBezTo>
                <a:cubicBezTo>
                  <a:pt x="4351" y="9720"/>
                  <a:pt x="4375" y="9741"/>
                  <a:pt x="4367" y="9769"/>
                </a:cubicBezTo>
                <a:cubicBezTo>
                  <a:pt x="4359" y="9800"/>
                  <a:pt x="4310" y="9841"/>
                  <a:pt x="4285" y="9862"/>
                </a:cubicBezTo>
                <a:cubicBezTo>
                  <a:pt x="4252" y="9891"/>
                  <a:pt x="4217" y="9917"/>
                  <a:pt x="4179" y="9939"/>
                </a:cubicBezTo>
                <a:cubicBezTo>
                  <a:pt x="4157" y="9952"/>
                  <a:pt x="4141" y="9965"/>
                  <a:pt x="4122" y="9980"/>
                </a:cubicBezTo>
                <a:cubicBezTo>
                  <a:pt x="4144" y="9983"/>
                  <a:pt x="4166" y="9983"/>
                  <a:pt x="4189" y="9984"/>
                </a:cubicBezTo>
                <a:cubicBezTo>
                  <a:pt x="4213" y="9985"/>
                  <a:pt x="4237" y="9985"/>
                  <a:pt x="4260" y="9994"/>
                </a:cubicBezTo>
                <a:cubicBezTo>
                  <a:pt x="4293" y="10006"/>
                  <a:pt x="4272" y="10036"/>
                  <a:pt x="4258" y="10055"/>
                </a:cubicBezTo>
                <a:cubicBezTo>
                  <a:pt x="4239" y="10081"/>
                  <a:pt x="4218" y="10086"/>
                  <a:pt x="4192" y="10100"/>
                </a:cubicBezTo>
                <a:cubicBezTo>
                  <a:pt x="4162" y="10116"/>
                  <a:pt x="4127" y="10120"/>
                  <a:pt x="4093" y="10124"/>
                </a:cubicBezTo>
                <a:cubicBezTo>
                  <a:pt x="4068" y="10127"/>
                  <a:pt x="4032" y="10130"/>
                  <a:pt x="4009" y="10118"/>
                </a:cubicBezTo>
                <a:cubicBezTo>
                  <a:pt x="3976" y="10100"/>
                  <a:pt x="3986" y="10093"/>
                  <a:pt x="3987" y="10065"/>
                </a:cubicBezTo>
                <a:cubicBezTo>
                  <a:pt x="3967" y="10085"/>
                  <a:pt x="3950" y="10104"/>
                  <a:pt x="3927" y="10121"/>
                </a:cubicBezTo>
                <a:cubicBezTo>
                  <a:pt x="3903" y="10139"/>
                  <a:pt x="3877" y="10155"/>
                  <a:pt x="3849" y="10166"/>
                </a:cubicBezTo>
                <a:cubicBezTo>
                  <a:pt x="3820" y="10177"/>
                  <a:pt x="3789" y="10184"/>
                  <a:pt x="3758" y="10187"/>
                </a:cubicBezTo>
                <a:cubicBezTo>
                  <a:pt x="3720" y="10191"/>
                  <a:pt x="3668" y="10193"/>
                  <a:pt x="3640" y="10163"/>
                </a:cubicBezTo>
                <a:cubicBezTo>
                  <a:pt x="3619" y="10141"/>
                  <a:pt x="3649" y="10121"/>
                  <a:pt x="3663" y="10110"/>
                </a:cubicBezTo>
                <a:cubicBezTo>
                  <a:pt x="3682" y="10096"/>
                  <a:pt x="3707" y="10092"/>
                  <a:pt x="3729" y="10085"/>
                </a:cubicBezTo>
                <a:cubicBezTo>
                  <a:pt x="3751" y="10078"/>
                  <a:pt x="3787" y="10063"/>
                  <a:pt x="3811" y="10069"/>
                </a:cubicBezTo>
                <a:cubicBezTo>
                  <a:pt x="3848" y="10078"/>
                  <a:pt x="3853" y="10105"/>
                  <a:pt x="3839" y="10139"/>
                </a:cubicBezTo>
                <a:cubicBezTo>
                  <a:pt x="3830" y="10162"/>
                  <a:pt x="3793" y="10180"/>
                  <a:pt x="3772" y="10189"/>
                </a:cubicBezTo>
                <a:cubicBezTo>
                  <a:pt x="3744" y="10202"/>
                  <a:pt x="3708" y="10213"/>
                  <a:pt x="3677" y="10216"/>
                </a:cubicBezTo>
                <a:cubicBezTo>
                  <a:pt x="3647" y="10219"/>
                  <a:pt x="3616" y="10217"/>
                  <a:pt x="3587" y="10213"/>
                </a:cubicBezTo>
                <a:cubicBezTo>
                  <a:pt x="3565" y="10210"/>
                  <a:pt x="3545" y="10202"/>
                  <a:pt x="3525" y="10195"/>
                </a:cubicBezTo>
              </a:path>
              <a:path w="845" h="816">
                <a:moveTo>
                  <a:pt x="3610" y="10458"/>
                </a:moveTo>
                <a:cubicBezTo>
                  <a:pt x="3639" y="10457"/>
                  <a:pt x="3668" y="10450"/>
                  <a:pt x="3698" y="10450"/>
                </a:cubicBezTo>
                <a:cubicBezTo>
                  <a:pt x="3734" y="10450"/>
                  <a:pt x="3769" y="10447"/>
                  <a:pt x="3804" y="10438"/>
                </a:cubicBezTo>
              </a:path>
              <a:path w="845" h="816">
                <a:moveTo>
                  <a:pt x="3741" y="9680"/>
                </a:moveTo>
                <a:cubicBezTo>
                  <a:pt x="3741" y="9661"/>
                  <a:pt x="3740" y="9655"/>
                  <a:pt x="3746" y="9644"/>
                </a:cubicBezTo>
                <a:cubicBezTo>
                  <a:pt x="3759" y="9676"/>
                  <a:pt x="3761" y="9706"/>
                  <a:pt x="3762" y="9741"/>
                </a:cubicBezTo>
                <a:cubicBezTo>
                  <a:pt x="3763" y="9809"/>
                  <a:pt x="3741" y="9863"/>
                  <a:pt x="3729" y="9928"/>
                </a:cubicBezTo>
                <a:cubicBezTo>
                  <a:pt x="3725" y="9978"/>
                  <a:pt x="3725" y="9992"/>
                  <a:pt x="3707" y="10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3" name="Ink 86"/>
          <p:cNvSpPr/>
          <p:nvPr/>
        </p:nvSpPr>
        <p:spPr>
          <a:xfrm>
            <a:off x="689040" y="3505320"/>
            <a:ext cx="312840" cy="195120"/>
          </a:xfrm>
          <a:custGeom>
            <a:avLst/>
            <a:gdLst/>
            <a:ahLst/>
            <a:rect l="l" t="t" r="r" b="b"/>
            <a:pathLst>
              <a:path w="869" h="543">
                <a:moveTo>
                  <a:pt x="2053" y="9786"/>
                </a:moveTo>
                <a:cubicBezTo>
                  <a:pt x="2070" y="9767"/>
                  <a:pt x="2059" y="9822"/>
                  <a:pt x="2060" y="9846"/>
                </a:cubicBezTo>
                <a:cubicBezTo>
                  <a:pt x="2062" y="9885"/>
                  <a:pt x="2053" y="9926"/>
                  <a:pt x="2046" y="9965"/>
                </a:cubicBezTo>
                <a:cubicBezTo>
                  <a:pt x="2040" y="9999"/>
                  <a:pt x="2027" y="10031"/>
                  <a:pt x="2024" y="10066"/>
                </a:cubicBezTo>
                <a:cubicBezTo>
                  <a:pt x="2022" y="10082"/>
                  <a:pt x="2023" y="10097"/>
                  <a:pt x="2020" y="10113"/>
                </a:cubicBezTo>
                <a:cubicBezTo>
                  <a:pt x="2031" y="10093"/>
                  <a:pt x="2035" y="10086"/>
                  <a:pt x="2038" y="10070"/>
                </a:cubicBezTo>
              </a:path>
              <a:path w="869" h="543">
                <a:moveTo>
                  <a:pt x="2007" y="9803"/>
                </a:moveTo>
                <a:cubicBezTo>
                  <a:pt x="2013" y="9773"/>
                  <a:pt x="2024" y="9780"/>
                  <a:pt x="2052" y="9765"/>
                </a:cubicBezTo>
                <a:cubicBezTo>
                  <a:pt x="2078" y="9752"/>
                  <a:pt x="2110" y="9741"/>
                  <a:pt x="2139" y="9737"/>
                </a:cubicBezTo>
                <a:cubicBezTo>
                  <a:pt x="2179" y="9732"/>
                  <a:pt x="2190" y="9745"/>
                  <a:pt x="2213" y="9775"/>
                </a:cubicBezTo>
              </a:path>
              <a:path w="869" h="543">
                <a:moveTo>
                  <a:pt x="1914" y="10167"/>
                </a:moveTo>
                <a:cubicBezTo>
                  <a:pt x="1915" y="10172"/>
                  <a:pt x="1916" y="10176"/>
                  <a:pt x="1917" y="10181"/>
                </a:cubicBezTo>
                <a:cubicBezTo>
                  <a:pt x="1948" y="10176"/>
                  <a:pt x="1978" y="10172"/>
                  <a:pt x="2009" y="10166"/>
                </a:cubicBezTo>
                <a:cubicBezTo>
                  <a:pt x="2042" y="10160"/>
                  <a:pt x="2075" y="10157"/>
                  <a:pt x="2106" y="10149"/>
                </a:cubicBezTo>
                <a:cubicBezTo>
                  <a:pt x="2112" y="10148"/>
                  <a:pt x="2118" y="10147"/>
                  <a:pt x="2124" y="10146"/>
                </a:cubicBezTo>
              </a:path>
              <a:path w="869" h="543">
                <a:moveTo>
                  <a:pt x="2366" y="9812"/>
                </a:moveTo>
                <a:cubicBezTo>
                  <a:pt x="2382" y="9804"/>
                  <a:pt x="2383" y="9789"/>
                  <a:pt x="2389" y="9766"/>
                </a:cubicBezTo>
                <a:cubicBezTo>
                  <a:pt x="2365" y="9774"/>
                  <a:pt x="2347" y="9784"/>
                  <a:pt x="2325" y="9796"/>
                </a:cubicBezTo>
                <a:cubicBezTo>
                  <a:pt x="2301" y="9808"/>
                  <a:pt x="2261" y="9822"/>
                  <a:pt x="2245" y="9844"/>
                </a:cubicBezTo>
                <a:cubicBezTo>
                  <a:pt x="2219" y="9881"/>
                  <a:pt x="2238" y="9896"/>
                  <a:pt x="2273" y="9911"/>
                </a:cubicBezTo>
                <a:cubicBezTo>
                  <a:pt x="2328" y="9935"/>
                  <a:pt x="2407" y="9922"/>
                  <a:pt x="2447" y="9971"/>
                </a:cubicBezTo>
                <a:cubicBezTo>
                  <a:pt x="2462" y="9989"/>
                  <a:pt x="2465" y="10008"/>
                  <a:pt x="2458" y="10031"/>
                </a:cubicBezTo>
                <a:cubicBezTo>
                  <a:pt x="2450" y="10056"/>
                  <a:pt x="2439" y="10068"/>
                  <a:pt x="2419" y="10085"/>
                </a:cubicBezTo>
                <a:cubicBezTo>
                  <a:pt x="2399" y="10102"/>
                  <a:pt x="2377" y="10116"/>
                  <a:pt x="2352" y="10125"/>
                </a:cubicBezTo>
                <a:cubicBezTo>
                  <a:pt x="2328" y="10134"/>
                  <a:pt x="2299" y="10139"/>
                  <a:pt x="2273" y="10134"/>
                </a:cubicBezTo>
                <a:cubicBezTo>
                  <a:pt x="2267" y="10132"/>
                  <a:pt x="2262" y="10129"/>
                  <a:pt x="2256" y="10127"/>
                </a:cubicBezTo>
              </a:path>
              <a:path w="869" h="543">
                <a:moveTo>
                  <a:pt x="2771" y="9839"/>
                </a:moveTo>
                <a:cubicBezTo>
                  <a:pt x="2774" y="9823"/>
                  <a:pt x="2774" y="9818"/>
                  <a:pt x="2782" y="9810"/>
                </a:cubicBezTo>
                <a:cubicBezTo>
                  <a:pt x="2775" y="9841"/>
                  <a:pt x="2768" y="9874"/>
                  <a:pt x="2756" y="9903"/>
                </a:cubicBezTo>
                <a:cubicBezTo>
                  <a:pt x="2737" y="9949"/>
                  <a:pt x="2718" y="9998"/>
                  <a:pt x="2696" y="10043"/>
                </a:cubicBezTo>
                <a:cubicBezTo>
                  <a:pt x="2672" y="10093"/>
                  <a:pt x="2647" y="10142"/>
                  <a:pt x="2620" y="10191"/>
                </a:cubicBezTo>
                <a:cubicBezTo>
                  <a:pt x="2604" y="10221"/>
                  <a:pt x="2588" y="10250"/>
                  <a:pt x="2571" y="102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4" name="Ink 90"/>
          <p:cNvSpPr/>
          <p:nvPr/>
        </p:nvSpPr>
        <p:spPr>
          <a:xfrm>
            <a:off x="1020600" y="3498840"/>
            <a:ext cx="324000" cy="182520"/>
          </a:xfrm>
          <a:custGeom>
            <a:avLst/>
            <a:gdLst/>
            <a:ahLst/>
            <a:rect l="l" t="t" r="r" b="b"/>
            <a:pathLst>
              <a:path w="900" h="507">
                <a:moveTo>
                  <a:pt x="2986" y="9781"/>
                </a:moveTo>
                <a:cubicBezTo>
                  <a:pt x="3015" y="9768"/>
                  <a:pt x="3010" y="9803"/>
                  <a:pt x="3003" y="9836"/>
                </a:cubicBezTo>
                <a:cubicBezTo>
                  <a:pt x="2993" y="9881"/>
                  <a:pt x="2984" y="9927"/>
                  <a:pt x="2974" y="9972"/>
                </a:cubicBezTo>
                <a:cubicBezTo>
                  <a:pt x="2966" y="10010"/>
                  <a:pt x="2959" y="10048"/>
                  <a:pt x="2954" y="10087"/>
                </a:cubicBezTo>
                <a:cubicBezTo>
                  <a:pt x="2951" y="10111"/>
                  <a:pt x="2958" y="10115"/>
                  <a:pt x="2974" y="10130"/>
                </a:cubicBezTo>
                <a:cubicBezTo>
                  <a:pt x="2978" y="10111"/>
                  <a:pt x="2982" y="10096"/>
                  <a:pt x="2983" y="10077"/>
                </a:cubicBezTo>
              </a:path>
              <a:path w="900" h="507">
                <a:moveTo>
                  <a:pt x="2959" y="9794"/>
                </a:moveTo>
                <a:cubicBezTo>
                  <a:pt x="2972" y="9775"/>
                  <a:pt x="3000" y="9765"/>
                  <a:pt x="3028" y="9759"/>
                </a:cubicBezTo>
                <a:cubicBezTo>
                  <a:pt x="3060" y="9752"/>
                  <a:pt x="3093" y="9747"/>
                  <a:pt x="3126" y="9742"/>
                </a:cubicBezTo>
                <a:cubicBezTo>
                  <a:pt x="3159" y="9737"/>
                  <a:pt x="3171" y="9742"/>
                  <a:pt x="3194" y="9764"/>
                </a:cubicBezTo>
              </a:path>
              <a:path w="900" h="507">
                <a:moveTo>
                  <a:pt x="2843" y="10210"/>
                </a:moveTo>
                <a:cubicBezTo>
                  <a:pt x="2841" y="10215"/>
                  <a:pt x="2838" y="10220"/>
                  <a:pt x="2836" y="10225"/>
                </a:cubicBezTo>
                <a:cubicBezTo>
                  <a:pt x="2868" y="10217"/>
                  <a:pt x="2901" y="10213"/>
                  <a:pt x="2933" y="10205"/>
                </a:cubicBezTo>
                <a:cubicBezTo>
                  <a:pt x="2974" y="10195"/>
                  <a:pt x="3014" y="10192"/>
                  <a:pt x="3056" y="10185"/>
                </a:cubicBezTo>
                <a:cubicBezTo>
                  <a:pt x="3077" y="10180"/>
                  <a:pt x="3084" y="10178"/>
                  <a:pt x="3098" y="10185"/>
                </a:cubicBezTo>
              </a:path>
              <a:path w="900" h="507">
                <a:moveTo>
                  <a:pt x="3392" y="9794"/>
                </a:moveTo>
                <a:cubicBezTo>
                  <a:pt x="3395" y="9788"/>
                  <a:pt x="3397" y="9783"/>
                  <a:pt x="3400" y="9777"/>
                </a:cubicBezTo>
                <a:cubicBezTo>
                  <a:pt x="3413" y="9814"/>
                  <a:pt x="3404" y="9843"/>
                  <a:pt x="3395" y="9882"/>
                </a:cubicBezTo>
                <a:cubicBezTo>
                  <a:pt x="3384" y="9930"/>
                  <a:pt x="3372" y="9976"/>
                  <a:pt x="3354" y="10022"/>
                </a:cubicBezTo>
                <a:cubicBezTo>
                  <a:pt x="3339" y="10061"/>
                  <a:pt x="3329" y="10098"/>
                  <a:pt x="3319" y="10138"/>
                </a:cubicBezTo>
                <a:cubicBezTo>
                  <a:pt x="3335" y="10124"/>
                  <a:pt x="3341" y="10118"/>
                  <a:pt x="3347" y="10103"/>
                </a:cubicBezTo>
              </a:path>
              <a:path w="900" h="507">
                <a:moveTo>
                  <a:pt x="3274" y="9814"/>
                </a:moveTo>
                <a:cubicBezTo>
                  <a:pt x="3306" y="9787"/>
                  <a:pt x="3330" y="9782"/>
                  <a:pt x="3370" y="9774"/>
                </a:cubicBezTo>
                <a:cubicBezTo>
                  <a:pt x="3416" y="9764"/>
                  <a:pt x="3463" y="9758"/>
                  <a:pt x="3510" y="9752"/>
                </a:cubicBezTo>
                <a:cubicBezTo>
                  <a:pt x="3574" y="9744"/>
                  <a:pt x="3638" y="9717"/>
                  <a:pt x="3703" y="9719"/>
                </a:cubicBezTo>
                <a:cubicBezTo>
                  <a:pt x="3714" y="9721"/>
                  <a:pt x="3724" y="9722"/>
                  <a:pt x="3735" y="97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5" name="Ink 92"/>
          <p:cNvSpPr/>
          <p:nvPr/>
        </p:nvSpPr>
        <p:spPr>
          <a:xfrm>
            <a:off x="7893000" y="3400560"/>
            <a:ext cx="304920" cy="293400"/>
          </a:xfrm>
          <a:custGeom>
            <a:avLst/>
            <a:gdLst/>
            <a:ahLst/>
            <a:rect l="l" t="t" r="r" b="b"/>
            <a:pathLst>
              <a:path w="845" h="816">
                <a:moveTo>
                  <a:pt x="4288" y="9753"/>
                </a:moveTo>
                <a:cubicBezTo>
                  <a:pt x="4296" y="9741"/>
                  <a:pt x="4289" y="9725"/>
                  <a:pt x="4323" y="9722"/>
                </a:cubicBezTo>
                <a:cubicBezTo>
                  <a:pt x="4351" y="9720"/>
                  <a:pt x="4375" y="9741"/>
                  <a:pt x="4367" y="9769"/>
                </a:cubicBezTo>
                <a:cubicBezTo>
                  <a:pt x="4359" y="9800"/>
                  <a:pt x="4310" y="9841"/>
                  <a:pt x="4285" y="9862"/>
                </a:cubicBezTo>
                <a:cubicBezTo>
                  <a:pt x="4252" y="9891"/>
                  <a:pt x="4217" y="9917"/>
                  <a:pt x="4179" y="9939"/>
                </a:cubicBezTo>
                <a:cubicBezTo>
                  <a:pt x="4157" y="9952"/>
                  <a:pt x="4141" y="9965"/>
                  <a:pt x="4122" y="9980"/>
                </a:cubicBezTo>
                <a:cubicBezTo>
                  <a:pt x="4144" y="9983"/>
                  <a:pt x="4166" y="9983"/>
                  <a:pt x="4189" y="9984"/>
                </a:cubicBezTo>
                <a:cubicBezTo>
                  <a:pt x="4213" y="9985"/>
                  <a:pt x="4237" y="9985"/>
                  <a:pt x="4260" y="9994"/>
                </a:cubicBezTo>
                <a:cubicBezTo>
                  <a:pt x="4293" y="10006"/>
                  <a:pt x="4272" y="10036"/>
                  <a:pt x="4258" y="10055"/>
                </a:cubicBezTo>
                <a:cubicBezTo>
                  <a:pt x="4239" y="10081"/>
                  <a:pt x="4218" y="10086"/>
                  <a:pt x="4192" y="10100"/>
                </a:cubicBezTo>
                <a:cubicBezTo>
                  <a:pt x="4162" y="10116"/>
                  <a:pt x="4127" y="10120"/>
                  <a:pt x="4093" y="10124"/>
                </a:cubicBezTo>
                <a:cubicBezTo>
                  <a:pt x="4068" y="10127"/>
                  <a:pt x="4032" y="10130"/>
                  <a:pt x="4009" y="10118"/>
                </a:cubicBezTo>
                <a:cubicBezTo>
                  <a:pt x="3976" y="10100"/>
                  <a:pt x="3986" y="10093"/>
                  <a:pt x="3987" y="10065"/>
                </a:cubicBezTo>
                <a:cubicBezTo>
                  <a:pt x="3967" y="10085"/>
                  <a:pt x="3950" y="10104"/>
                  <a:pt x="3927" y="10121"/>
                </a:cubicBezTo>
                <a:cubicBezTo>
                  <a:pt x="3903" y="10139"/>
                  <a:pt x="3877" y="10155"/>
                  <a:pt x="3849" y="10166"/>
                </a:cubicBezTo>
                <a:cubicBezTo>
                  <a:pt x="3820" y="10177"/>
                  <a:pt x="3789" y="10184"/>
                  <a:pt x="3758" y="10187"/>
                </a:cubicBezTo>
                <a:cubicBezTo>
                  <a:pt x="3720" y="10191"/>
                  <a:pt x="3668" y="10193"/>
                  <a:pt x="3640" y="10163"/>
                </a:cubicBezTo>
                <a:cubicBezTo>
                  <a:pt x="3619" y="10141"/>
                  <a:pt x="3649" y="10121"/>
                  <a:pt x="3663" y="10110"/>
                </a:cubicBezTo>
                <a:cubicBezTo>
                  <a:pt x="3682" y="10096"/>
                  <a:pt x="3707" y="10092"/>
                  <a:pt x="3729" y="10085"/>
                </a:cubicBezTo>
                <a:cubicBezTo>
                  <a:pt x="3751" y="10078"/>
                  <a:pt x="3787" y="10063"/>
                  <a:pt x="3811" y="10069"/>
                </a:cubicBezTo>
                <a:cubicBezTo>
                  <a:pt x="3848" y="10078"/>
                  <a:pt x="3853" y="10105"/>
                  <a:pt x="3839" y="10139"/>
                </a:cubicBezTo>
                <a:cubicBezTo>
                  <a:pt x="3830" y="10162"/>
                  <a:pt x="3793" y="10180"/>
                  <a:pt x="3772" y="10189"/>
                </a:cubicBezTo>
                <a:cubicBezTo>
                  <a:pt x="3744" y="10202"/>
                  <a:pt x="3708" y="10213"/>
                  <a:pt x="3677" y="10216"/>
                </a:cubicBezTo>
                <a:cubicBezTo>
                  <a:pt x="3647" y="10219"/>
                  <a:pt x="3616" y="10217"/>
                  <a:pt x="3587" y="10213"/>
                </a:cubicBezTo>
                <a:cubicBezTo>
                  <a:pt x="3565" y="10210"/>
                  <a:pt x="3545" y="10202"/>
                  <a:pt x="3525" y="10195"/>
                </a:cubicBezTo>
              </a:path>
              <a:path w="845" h="816">
                <a:moveTo>
                  <a:pt x="3610" y="10458"/>
                </a:moveTo>
                <a:cubicBezTo>
                  <a:pt x="3639" y="10457"/>
                  <a:pt x="3668" y="10450"/>
                  <a:pt x="3698" y="10450"/>
                </a:cubicBezTo>
                <a:cubicBezTo>
                  <a:pt x="3734" y="10450"/>
                  <a:pt x="3769" y="10447"/>
                  <a:pt x="3804" y="10438"/>
                </a:cubicBezTo>
              </a:path>
              <a:path w="845" h="816">
                <a:moveTo>
                  <a:pt x="3741" y="9680"/>
                </a:moveTo>
                <a:cubicBezTo>
                  <a:pt x="3741" y="9661"/>
                  <a:pt x="3740" y="9655"/>
                  <a:pt x="3746" y="9644"/>
                </a:cubicBezTo>
                <a:cubicBezTo>
                  <a:pt x="3759" y="9676"/>
                  <a:pt x="3761" y="9706"/>
                  <a:pt x="3762" y="9741"/>
                </a:cubicBezTo>
                <a:cubicBezTo>
                  <a:pt x="3763" y="9809"/>
                  <a:pt x="3741" y="9863"/>
                  <a:pt x="3729" y="9928"/>
                </a:cubicBezTo>
                <a:cubicBezTo>
                  <a:pt x="3725" y="9978"/>
                  <a:pt x="3725" y="9992"/>
                  <a:pt x="3707" y="10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6" name="Ink 93"/>
          <p:cNvSpPr/>
          <p:nvPr/>
        </p:nvSpPr>
        <p:spPr>
          <a:xfrm>
            <a:off x="7313760" y="3433680"/>
            <a:ext cx="312480" cy="195480"/>
          </a:xfrm>
          <a:custGeom>
            <a:avLst/>
            <a:gdLst/>
            <a:ahLst/>
            <a:rect l="l" t="t" r="r" b="b"/>
            <a:pathLst>
              <a:path w="869" h="543">
                <a:moveTo>
                  <a:pt x="2053" y="9786"/>
                </a:moveTo>
                <a:cubicBezTo>
                  <a:pt x="2070" y="9767"/>
                  <a:pt x="2059" y="9822"/>
                  <a:pt x="2060" y="9846"/>
                </a:cubicBezTo>
                <a:cubicBezTo>
                  <a:pt x="2062" y="9885"/>
                  <a:pt x="2053" y="9926"/>
                  <a:pt x="2046" y="9965"/>
                </a:cubicBezTo>
                <a:cubicBezTo>
                  <a:pt x="2040" y="9999"/>
                  <a:pt x="2027" y="10031"/>
                  <a:pt x="2024" y="10066"/>
                </a:cubicBezTo>
                <a:cubicBezTo>
                  <a:pt x="2022" y="10082"/>
                  <a:pt x="2023" y="10097"/>
                  <a:pt x="2020" y="10113"/>
                </a:cubicBezTo>
                <a:cubicBezTo>
                  <a:pt x="2031" y="10093"/>
                  <a:pt x="2035" y="10086"/>
                  <a:pt x="2038" y="10070"/>
                </a:cubicBezTo>
              </a:path>
              <a:path w="869" h="543">
                <a:moveTo>
                  <a:pt x="2007" y="9803"/>
                </a:moveTo>
                <a:cubicBezTo>
                  <a:pt x="2013" y="9773"/>
                  <a:pt x="2024" y="9780"/>
                  <a:pt x="2052" y="9765"/>
                </a:cubicBezTo>
                <a:cubicBezTo>
                  <a:pt x="2078" y="9752"/>
                  <a:pt x="2110" y="9741"/>
                  <a:pt x="2139" y="9737"/>
                </a:cubicBezTo>
                <a:cubicBezTo>
                  <a:pt x="2179" y="9732"/>
                  <a:pt x="2190" y="9745"/>
                  <a:pt x="2213" y="9775"/>
                </a:cubicBezTo>
              </a:path>
              <a:path w="869" h="543">
                <a:moveTo>
                  <a:pt x="1914" y="10167"/>
                </a:moveTo>
                <a:cubicBezTo>
                  <a:pt x="1915" y="10172"/>
                  <a:pt x="1916" y="10176"/>
                  <a:pt x="1917" y="10181"/>
                </a:cubicBezTo>
                <a:cubicBezTo>
                  <a:pt x="1948" y="10176"/>
                  <a:pt x="1978" y="10172"/>
                  <a:pt x="2009" y="10166"/>
                </a:cubicBezTo>
                <a:cubicBezTo>
                  <a:pt x="2042" y="10160"/>
                  <a:pt x="2075" y="10157"/>
                  <a:pt x="2106" y="10149"/>
                </a:cubicBezTo>
                <a:cubicBezTo>
                  <a:pt x="2112" y="10148"/>
                  <a:pt x="2118" y="10147"/>
                  <a:pt x="2124" y="10146"/>
                </a:cubicBezTo>
              </a:path>
              <a:path w="869" h="543">
                <a:moveTo>
                  <a:pt x="2366" y="9812"/>
                </a:moveTo>
                <a:cubicBezTo>
                  <a:pt x="2382" y="9804"/>
                  <a:pt x="2383" y="9789"/>
                  <a:pt x="2389" y="9766"/>
                </a:cubicBezTo>
                <a:cubicBezTo>
                  <a:pt x="2365" y="9774"/>
                  <a:pt x="2347" y="9784"/>
                  <a:pt x="2325" y="9796"/>
                </a:cubicBezTo>
                <a:cubicBezTo>
                  <a:pt x="2301" y="9808"/>
                  <a:pt x="2261" y="9822"/>
                  <a:pt x="2245" y="9844"/>
                </a:cubicBezTo>
                <a:cubicBezTo>
                  <a:pt x="2219" y="9881"/>
                  <a:pt x="2238" y="9896"/>
                  <a:pt x="2273" y="9911"/>
                </a:cubicBezTo>
                <a:cubicBezTo>
                  <a:pt x="2328" y="9935"/>
                  <a:pt x="2407" y="9922"/>
                  <a:pt x="2447" y="9971"/>
                </a:cubicBezTo>
                <a:cubicBezTo>
                  <a:pt x="2462" y="9989"/>
                  <a:pt x="2465" y="10008"/>
                  <a:pt x="2458" y="10031"/>
                </a:cubicBezTo>
                <a:cubicBezTo>
                  <a:pt x="2450" y="10056"/>
                  <a:pt x="2439" y="10068"/>
                  <a:pt x="2419" y="10085"/>
                </a:cubicBezTo>
                <a:cubicBezTo>
                  <a:pt x="2399" y="10102"/>
                  <a:pt x="2377" y="10116"/>
                  <a:pt x="2352" y="10125"/>
                </a:cubicBezTo>
                <a:cubicBezTo>
                  <a:pt x="2328" y="10134"/>
                  <a:pt x="2299" y="10139"/>
                  <a:pt x="2273" y="10134"/>
                </a:cubicBezTo>
                <a:cubicBezTo>
                  <a:pt x="2267" y="10132"/>
                  <a:pt x="2262" y="10129"/>
                  <a:pt x="2256" y="10127"/>
                </a:cubicBezTo>
              </a:path>
              <a:path w="869" h="543">
                <a:moveTo>
                  <a:pt x="2771" y="9839"/>
                </a:moveTo>
                <a:cubicBezTo>
                  <a:pt x="2774" y="9823"/>
                  <a:pt x="2774" y="9818"/>
                  <a:pt x="2782" y="9810"/>
                </a:cubicBezTo>
                <a:cubicBezTo>
                  <a:pt x="2775" y="9841"/>
                  <a:pt x="2768" y="9874"/>
                  <a:pt x="2756" y="9903"/>
                </a:cubicBezTo>
                <a:cubicBezTo>
                  <a:pt x="2737" y="9949"/>
                  <a:pt x="2718" y="9998"/>
                  <a:pt x="2696" y="10043"/>
                </a:cubicBezTo>
                <a:cubicBezTo>
                  <a:pt x="2672" y="10093"/>
                  <a:pt x="2647" y="10142"/>
                  <a:pt x="2620" y="10191"/>
                </a:cubicBezTo>
                <a:cubicBezTo>
                  <a:pt x="2604" y="10221"/>
                  <a:pt x="2588" y="10250"/>
                  <a:pt x="2571" y="102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7" name="Ink 94"/>
          <p:cNvSpPr/>
          <p:nvPr/>
        </p:nvSpPr>
        <p:spPr>
          <a:xfrm>
            <a:off x="7645320" y="3427560"/>
            <a:ext cx="324000" cy="182520"/>
          </a:xfrm>
          <a:custGeom>
            <a:avLst/>
            <a:gdLst/>
            <a:ahLst/>
            <a:rect l="l" t="t" r="r" b="b"/>
            <a:pathLst>
              <a:path w="900" h="507">
                <a:moveTo>
                  <a:pt x="2986" y="9781"/>
                </a:moveTo>
                <a:cubicBezTo>
                  <a:pt x="3015" y="9768"/>
                  <a:pt x="3010" y="9803"/>
                  <a:pt x="3003" y="9836"/>
                </a:cubicBezTo>
                <a:cubicBezTo>
                  <a:pt x="2993" y="9881"/>
                  <a:pt x="2984" y="9927"/>
                  <a:pt x="2974" y="9972"/>
                </a:cubicBezTo>
                <a:cubicBezTo>
                  <a:pt x="2966" y="10010"/>
                  <a:pt x="2959" y="10048"/>
                  <a:pt x="2954" y="10087"/>
                </a:cubicBezTo>
                <a:cubicBezTo>
                  <a:pt x="2951" y="10111"/>
                  <a:pt x="2958" y="10115"/>
                  <a:pt x="2974" y="10130"/>
                </a:cubicBezTo>
                <a:cubicBezTo>
                  <a:pt x="2978" y="10111"/>
                  <a:pt x="2982" y="10096"/>
                  <a:pt x="2983" y="10077"/>
                </a:cubicBezTo>
              </a:path>
              <a:path w="900" h="507">
                <a:moveTo>
                  <a:pt x="2959" y="9794"/>
                </a:moveTo>
                <a:cubicBezTo>
                  <a:pt x="2972" y="9775"/>
                  <a:pt x="3000" y="9765"/>
                  <a:pt x="3028" y="9759"/>
                </a:cubicBezTo>
                <a:cubicBezTo>
                  <a:pt x="3060" y="9752"/>
                  <a:pt x="3093" y="9747"/>
                  <a:pt x="3126" y="9742"/>
                </a:cubicBezTo>
                <a:cubicBezTo>
                  <a:pt x="3159" y="9737"/>
                  <a:pt x="3171" y="9742"/>
                  <a:pt x="3194" y="9764"/>
                </a:cubicBezTo>
              </a:path>
              <a:path w="900" h="507">
                <a:moveTo>
                  <a:pt x="2843" y="10210"/>
                </a:moveTo>
                <a:cubicBezTo>
                  <a:pt x="2841" y="10215"/>
                  <a:pt x="2838" y="10220"/>
                  <a:pt x="2836" y="10225"/>
                </a:cubicBezTo>
                <a:cubicBezTo>
                  <a:pt x="2868" y="10217"/>
                  <a:pt x="2901" y="10213"/>
                  <a:pt x="2933" y="10205"/>
                </a:cubicBezTo>
                <a:cubicBezTo>
                  <a:pt x="2974" y="10195"/>
                  <a:pt x="3014" y="10192"/>
                  <a:pt x="3056" y="10185"/>
                </a:cubicBezTo>
                <a:cubicBezTo>
                  <a:pt x="3077" y="10180"/>
                  <a:pt x="3084" y="10178"/>
                  <a:pt x="3098" y="10185"/>
                </a:cubicBezTo>
              </a:path>
              <a:path w="900" h="507">
                <a:moveTo>
                  <a:pt x="3392" y="9794"/>
                </a:moveTo>
                <a:cubicBezTo>
                  <a:pt x="3395" y="9788"/>
                  <a:pt x="3397" y="9783"/>
                  <a:pt x="3400" y="9777"/>
                </a:cubicBezTo>
                <a:cubicBezTo>
                  <a:pt x="3413" y="9814"/>
                  <a:pt x="3404" y="9843"/>
                  <a:pt x="3395" y="9882"/>
                </a:cubicBezTo>
                <a:cubicBezTo>
                  <a:pt x="3384" y="9930"/>
                  <a:pt x="3372" y="9976"/>
                  <a:pt x="3354" y="10022"/>
                </a:cubicBezTo>
                <a:cubicBezTo>
                  <a:pt x="3339" y="10061"/>
                  <a:pt x="3329" y="10098"/>
                  <a:pt x="3319" y="10138"/>
                </a:cubicBezTo>
                <a:cubicBezTo>
                  <a:pt x="3335" y="10124"/>
                  <a:pt x="3341" y="10118"/>
                  <a:pt x="3347" y="10103"/>
                </a:cubicBezTo>
              </a:path>
              <a:path w="900" h="507">
                <a:moveTo>
                  <a:pt x="3274" y="9814"/>
                </a:moveTo>
                <a:cubicBezTo>
                  <a:pt x="3306" y="9787"/>
                  <a:pt x="3330" y="9782"/>
                  <a:pt x="3370" y="9774"/>
                </a:cubicBezTo>
                <a:cubicBezTo>
                  <a:pt x="3416" y="9764"/>
                  <a:pt x="3463" y="9758"/>
                  <a:pt x="3510" y="9752"/>
                </a:cubicBezTo>
                <a:cubicBezTo>
                  <a:pt x="3574" y="9744"/>
                  <a:pt x="3638" y="9717"/>
                  <a:pt x="3703" y="9719"/>
                </a:cubicBezTo>
                <a:cubicBezTo>
                  <a:pt x="3714" y="9721"/>
                  <a:pt x="3724" y="9722"/>
                  <a:pt x="3735" y="97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8" name="Ink 100"/>
          <p:cNvSpPr/>
          <p:nvPr/>
        </p:nvSpPr>
        <p:spPr>
          <a:xfrm>
            <a:off x="7885080" y="3878280"/>
            <a:ext cx="316080" cy="708120"/>
          </a:xfrm>
          <a:custGeom>
            <a:avLst/>
            <a:gdLst/>
            <a:ahLst/>
            <a:rect l="l" t="t" r="r" b="b"/>
            <a:pathLst>
              <a:path w="877" h="1970">
                <a:moveTo>
                  <a:pt x="22776" y="10771"/>
                </a:moveTo>
                <a:cubicBezTo>
                  <a:pt x="22778" y="10797"/>
                  <a:pt x="22775" y="10825"/>
                  <a:pt x="22770" y="10851"/>
                </a:cubicBezTo>
                <a:cubicBezTo>
                  <a:pt x="22766" y="10870"/>
                  <a:pt x="22761" y="10890"/>
                  <a:pt x="22755" y="10908"/>
                </a:cubicBezTo>
                <a:cubicBezTo>
                  <a:pt x="22748" y="10932"/>
                  <a:pt x="22736" y="10954"/>
                  <a:pt x="22734" y="10979"/>
                </a:cubicBezTo>
              </a:path>
              <a:path w="877" h="1970">
                <a:moveTo>
                  <a:pt x="22713" y="11205"/>
                </a:moveTo>
                <a:cubicBezTo>
                  <a:pt x="22701" y="11233"/>
                  <a:pt x="22689" y="11260"/>
                  <a:pt x="22677" y="11287"/>
                </a:cubicBezTo>
                <a:cubicBezTo>
                  <a:pt x="22663" y="11318"/>
                  <a:pt x="22651" y="11351"/>
                  <a:pt x="22634" y="11380"/>
                </a:cubicBezTo>
                <a:cubicBezTo>
                  <a:pt x="22624" y="11397"/>
                  <a:pt x="22611" y="11427"/>
                  <a:pt x="22600" y="11441"/>
                </a:cubicBezTo>
                <a:cubicBezTo>
                  <a:pt x="22586" y="11453"/>
                  <a:pt x="22581" y="11457"/>
                  <a:pt x="22585" y="11471"/>
                </a:cubicBezTo>
              </a:path>
              <a:path w="877" h="1970">
                <a:moveTo>
                  <a:pt x="22509" y="11674"/>
                </a:moveTo>
                <a:cubicBezTo>
                  <a:pt x="22500" y="11698"/>
                  <a:pt x="22500" y="11726"/>
                  <a:pt x="22489" y="11750"/>
                </a:cubicBezTo>
                <a:cubicBezTo>
                  <a:pt x="22478" y="11774"/>
                  <a:pt x="22469" y="11801"/>
                  <a:pt x="22457" y="11825"/>
                </a:cubicBezTo>
                <a:cubicBezTo>
                  <a:pt x="22448" y="11843"/>
                  <a:pt x="22440" y="11873"/>
                  <a:pt x="22427" y="11889"/>
                </a:cubicBezTo>
                <a:cubicBezTo>
                  <a:pt x="22412" y="11903"/>
                  <a:pt x="22407" y="11906"/>
                  <a:pt x="22404" y="11919"/>
                </a:cubicBezTo>
              </a:path>
              <a:path w="877" h="1970">
                <a:moveTo>
                  <a:pt x="22297" y="12152"/>
                </a:moveTo>
                <a:cubicBezTo>
                  <a:pt x="22296" y="12181"/>
                  <a:pt x="22281" y="12193"/>
                  <a:pt x="22269" y="12218"/>
                </a:cubicBezTo>
                <a:cubicBezTo>
                  <a:pt x="22254" y="12250"/>
                  <a:pt x="22236" y="12277"/>
                  <a:pt x="22216" y="12307"/>
                </a:cubicBezTo>
                <a:cubicBezTo>
                  <a:pt x="22199" y="12332"/>
                  <a:pt x="22184" y="12366"/>
                  <a:pt x="22163" y="12388"/>
                </a:cubicBezTo>
                <a:cubicBezTo>
                  <a:pt x="22150" y="12401"/>
                  <a:pt x="22141" y="12406"/>
                  <a:pt x="22131" y="12422"/>
                </a:cubicBezTo>
              </a:path>
              <a:path w="877" h="1970">
                <a:moveTo>
                  <a:pt x="22056" y="12585"/>
                </a:moveTo>
                <a:cubicBezTo>
                  <a:pt x="22046" y="12612"/>
                  <a:pt x="22027" y="12622"/>
                  <a:pt x="22009" y="12645"/>
                </a:cubicBezTo>
                <a:cubicBezTo>
                  <a:pt x="21993" y="12666"/>
                  <a:pt x="21980" y="12685"/>
                  <a:pt x="21963" y="12706"/>
                </a:cubicBezTo>
              </a:path>
              <a:path w="877" h="1970">
                <a:moveTo>
                  <a:pt x="21903" y="12740"/>
                </a:moveTo>
                <a:cubicBezTo>
                  <a:pt x="21920" y="12716"/>
                  <a:pt x="21940" y="12695"/>
                  <a:pt x="21952" y="12669"/>
                </a:cubicBezTo>
                <a:cubicBezTo>
                  <a:pt x="21964" y="12645"/>
                  <a:pt x="21976" y="12618"/>
                  <a:pt x="21984" y="12592"/>
                </a:cubicBezTo>
                <a:cubicBezTo>
                  <a:pt x="21995" y="12557"/>
                  <a:pt x="22008" y="12524"/>
                  <a:pt x="22020" y="12489"/>
                </a:cubicBezTo>
                <a:cubicBezTo>
                  <a:pt x="22034" y="12447"/>
                  <a:pt x="22048" y="12406"/>
                  <a:pt x="22062" y="12364"/>
                </a:cubicBezTo>
                <a:cubicBezTo>
                  <a:pt x="22069" y="12342"/>
                  <a:pt x="22074" y="12321"/>
                  <a:pt x="22081" y="12299"/>
                </a:cubicBezTo>
                <a:cubicBezTo>
                  <a:pt x="22082" y="12294"/>
                  <a:pt x="22083" y="12290"/>
                  <a:pt x="22084" y="12285"/>
                </a:cubicBezTo>
                <a:cubicBezTo>
                  <a:pt x="22073" y="12308"/>
                  <a:pt x="22068" y="12330"/>
                  <a:pt x="22062" y="12354"/>
                </a:cubicBezTo>
                <a:cubicBezTo>
                  <a:pt x="22052" y="12395"/>
                  <a:pt x="22047" y="12437"/>
                  <a:pt x="22037" y="12478"/>
                </a:cubicBezTo>
                <a:cubicBezTo>
                  <a:pt x="22028" y="12515"/>
                  <a:pt x="22024" y="12548"/>
                  <a:pt x="22019" y="12585"/>
                </a:cubicBezTo>
                <a:cubicBezTo>
                  <a:pt x="22015" y="12610"/>
                  <a:pt x="22003" y="12637"/>
                  <a:pt x="22003" y="12662"/>
                </a:cubicBezTo>
                <a:cubicBezTo>
                  <a:pt x="22005" y="12680"/>
                  <a:pt x="22006" y="12685"/>
                  <a:pt x="22001" y="12695"/>
                </a:cubicBezTo>
                <a:cubicBezTo>
                  <a:pt x="22027" y="12667"/>
                  <a:pt x="22052" y="12643"/>
                  <a:pt x="22084" y="12621"/>
                </a:cubicBezTo>
                <a:cubicBezTo>
                  <a:pt x="22111" y="12603"/>
                  <a:pt x="22137" y="12587"/>
                  <a:pt x="22166" y="12573"/>
                </a:cubicBezTo>
                <a:cubicBezTo>
                  <a:pt x="22192" y="12560"/>
                  <a:pt x="22221" y="12546"/>
                  <a:pt x="22250" y="12542"/>
                </a:cubicBezTo>
                <a:cubicBezTo>
                  <a:pt x="22271" y="12539"/>
                  <a:pt x="22291" y="12541"/>
                  <a:pt x="22311" y="125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89" name="Ink 101"/>
          <p:cNvSpPr/>
          <p:nvPr/>
        </p:nvSpPr>
        <p:spPr>
          <a:xfrm>
            <a:off x="925560" y="3940200"/>
            <a:ext cx="290520" cy="541440"/>
          </a:xfrm>
          <a:custGeom>
            <a:avLst/>
            <a:gdLst/>
            <a:ahLst/>
            <a:rect l="l" t="t" r="r" b="b"/>
            <a:pathLst>
              <a:path w="806" h="1505">
                <a:moveTo>
                  <a:pt x="2573" y="10945"/>
                </a:moveTo>
                <a:cubicBezTo>
                  <a:pt x="2573" y="10965"/>
                  <a:pt x="2577" y="10989"/>
                  <a:pt x="2580" y="11010"/>
                </a:cubicBezTo>
                <a:cubicBezTo>
                  <a:pt x="2584" y="11039"/>
                  <a:pt x="2599" y="11059"/>
                  <a:pt x="2603" y="11088"/>
                </a:cubicBezTo>
              </a:path>
              <a:path w="806" h="1505">
                <a:moveTo>
                  <a:pt x="2655" y="11311"/>
                </a:moveTo>
                <a:cubicBezTo>
                  <a:pt x="2665" y="11335"/>
                  <a:pt x="2675" y="11359"/>
                  <a:pt x="2685" y="11383"/>
                </a:cubicBezTo>
                <a:cubicBezTo>
                  <a:pt x="2696" y="11409"/>
                  <a:pt x="2711" y="11434"/>
                  <a:pt x="2723" y="11459"/>
                </a:cubicBezTo>
                <a:cubicBezTo>
                  <a:pt x="2736" y="11486"/>
                  <a:pt x="2752" y="11510"/>
                  <a:pt x="2763" y="11539"/>
                </a:cubicBezTo>
              </a:path>
              <a:path w="806" h="1505">
                <a:moveTo>
                  <a:pt x="2809" y="11742"/>
                </a:moveTo>
                <a:cubicBezTo>
                  <a:pt x="2815" y="11765"/>
                  <a:pt x="2818" y="11787"/>
                  <a:pt x="2826" y="11810"/>
                </a:cubicBezTo>
                <a:cubicBezTo>
                  <a:pt x="2835" y="11837"/>
                  <a:pt x="2848" y="11860"/>
                  <a:pt x="2861" y="11885"/>
                </a:cubicBezTo>
                <a:cubicBezTo>
                  <a:pt x="2874" y="11910"/>
                  <a:pt x="2893" y="11928"/>
                  <a:pt x="2905" y="11952"/>
                </a:cubicBezTo>
              </a:path>
              <a:path w="806" h="1505">
                <a:moveTo>
                  <a:pt x="2978" y="11992"/>
                </a:moveTo>
                <a:cubicBezTo>
                  <a:pt x="2989" y="12014"/>
                  <a:pt x="2990" y="12039"/>
                  <a:pt x="3001" y="12062"/>
                </a:cubicBezTo>
                <a:cubicBezTo>
                  <a:pt x="3013" y="12086"/>
                  <a:pt x="3030" y="12118"/>
                  <a:pt x="3047" y="12139"/>
                </a:cubicBezTo>
                <a:cubicBezTo>
                  <a:pt x="3064" y="12159"/>
                  <a:pt x="3092" y="12171"/>
                  <a:pt x="3106" y="12193"/>
                </a:cubicBezTo>
                <a:cubicBezTo>
                  <a:pt x="3107" y="12197"/>
                  <a:pt x="3109" y="12201"/>
                  <a:pt x="3110" y="12205"/>
                </a:cubicBezTo>
              </a:path>
              <a:path w="806" h="1505">
                <a:moveTo>
                  <a:pt x="3178" y="12242"/>
                </a:moveTo>
                <a:cubicBezTo>
                  <a:pt x="3173" y="12271"/>
                  <a:pt x="3187" y="12282"/>
                  <a:pt x="3207" y="12306"/>
                </a:cubicBezTo>
                <a:cubicBezTo>
                  <a:pt x="3226" y="12328"/>
                  <a:pt x="3243" y="12352"/>
                  <a:pt x="3263" y="12374"/>
                </a:cubicBezTo>
                <a:cubicBezTo>
                  <a:pt x="3282" y="12395"/>
                  <a:pt x="3289" y="12403"/>
                  <a:pt x="3310" y="12406"/>
                </a:cubicBezTo>
              </a:path>
              <a:path w="806" h="1505">
                <a:moveTo>
                  <a:pt x="3353" y="12449"/>
                </a:moveTo>
                <a:cubicBezTo>
                  <a:pt x="3356" y="12424"/>
                  <a:pt x="3344" y="12411"/>
                  <a:pt x="3335" y="12386"/>
                </a:cubicBezTo>
                <a:cubicBezTo>
                  <a:pt x="3327" y="12364"/>
                  <a:pt x="3323" y="12341"/>
                  <a:pt x="3317" y="12319"/>
                </a:cubicBezTo>
                <a:cubicBezTo>
                  <a:pt x="3310" y="12293"/>
                  <a:pt x="3301" y="12270"/>
                  <a:pt x="3294" y="12244"/>
                </a:cubicBezTo>
                <a:cubicBezTo>
                  <a:pt x="3289" y="12228"/>
                  <a:pt x="3289" y="12223"/>
                  <a:pt x="3282" y="12214"/>
                </a:cubicBezTo>
                <a:cubicBezTo>
                  <a:pt x="3256" y="12194"/>
                  <a:pt x="3295" y="12242"/>
                  <a:pt x="3301" y="12264"/>
                </a:cubicBezTo>
                <a:cubicBezTo>
                  <a:pt x="3308" y="12290"/>
                  <a:pt x="3319" y="12314"/>
                  <a:pt x="3327" y="12340"/>
                </a:cubicBezTo>
                <a:cubicBezTo>
                  <a:pt x="3334" y="12362"/>
                  <a:pt x="3338" y="12379"/>
                  <a:pt x="3351" y="12399"/>
                </a:cubicBezTo>
                <a:cubicBezTo>
                  <a:pt x="3363" y="12416"/>
                  <a:pt x="3369" y="12427"/>
                  <a:pt x="3376" y="12446"/>
                </a:cubicBezTo>
                <a:cubicBezTo>
                  <a:pt x="3352" y="12443"/>
                  <a:pt x="3330" y="12436"/>
                  <a:pt x="3307" y="12429"/>
                </a:cubicBezTo>
                <a:cubicBezTo>
                  <a:pt x="3278" y="12420"/>
                  <a:pt x="3246" y="12412"/>
                  <a:pt x="3218" y="12400"/>
                </a:cubicBezTo>
                <a:cubicBezTo>
                  <a:pt x="3199" y="12392"/>
                  <a:pt x="3151" y="12359"/>
                  <a:pt x="3131" y="12370"/>
                </a:cubicBezTo>
                <a:cubicBezTo>
                  <a:pt x="3124" y="12383"/>
                  <a:pt x="3124" y="12387"/>
                  <a:pt x="3142" y="123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0" name="Ink 103"/>
          <p:cNvSpPr/>
          <p:nvPr/>
        </p:nvSpPr>
        <p:spPr>
          <a:xfrm>
            <a:off x="7170840" y="4884840"/>
            <a:ext cx="196920" cy="214200"/>
          </a:xfrm>
          <a:custGeom>
            <a:avLst/>
            <a:gdLst/>
            <a:ahLst/>
            <a:rect l="l" t="t" r="r" b="b"/>
            <a:pathLst>
              <a:path w="548" h="594">
                <a:moveTo>
                  <a:pt x="20464" y="13817"/>
                </a:moveTo>
                <a:cubicBezTo>
                  <a:pt x="20362" y="13764"/>
                  <a:pt x="20263" y="13706"/>
                  <a:pt x="20162" y="13650"/>
                </a:cubicBezTo>
                <a:cubicBezTo>
                  <a:pt x="20107" y="13619"/>
                  <a:pt x="20045" y="13578"/>
                  <a:pt x="19981" y="13568"/>
                </a:cubicBezTo>
                <a:cubicBezTo>
                  <a:pt x="19963" y="13569"/>
                  <a:pt x="19957" y="13569"/>
                  <a:pt x="19967" y="13586"/>
                </a:cubicBezTo>
              </a:path>
              <a:path w="548" h="594">
                <a:moveTo>
                  <a:pt x="20062" y="13586"/>
                </a:moveTo>
                <a:cubicBezTo>
                  <a:pt x="20025" y="13608"/>
                  <a:pt x="19982" y="13632"/>
                  <a:pt x="19935" y="13610"/>
                </a:cubicBezTo>
                <a:cubicBezTo>
                  <a:pt x="19918" y="13595"/>
                  <a:pt x="19911" y="13589"/>
                  <a:pt x="19933" y="13607"/>
                </a:cubicBezTo>
              </a:path>
              <a:path w="548" h="594">
                <a:moveTo>
                  <a:pt x="20100" y="13611"/>
                </a:moveTo>
                <a:cubicBezTo>
                  <a:pt x="20092" y="13645"/>
                  <a:pt x="20082" y="13668"/>
                  <a:pt x="20083" y="13701"/>
                </a:cubicBezTo>
                <a:cubicBezTo>
                  <a:pt x="20086" y="13770"/>
                  <a:pt x="20117" y="13833"/>
                  <a:pt x="20134" y="13899"/>
                </a:cubicBezTo>
                <a:cubicBezTo>
                  <a:pt x="20156" y="13987"/>
                  <a:pt x="20179" y="14074"/>
                  <a:pt x="20201" y="14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1" name="Ink 41"/>
          <p:cNvSpPr/>
          <p:nvPr/>
        </p:nvSpPr>
        <p:spPr>
          <a:xfrm>
            <a:off x="766800" y="3971880"/>
            <a:ext cx="20520" cy="181080"/>
          </a:xfrm>
          <a:custGeom>
            <a:avLst/>
            <a:gdLst/>
            <a:ahLst/>
            <a:rect l="l" t="t" r="r" b="b"/>
            <a:pathLst>
              <a:path w="58" h="506">
                <a:moveTo>
                  <a:pt x="2140" y="11043"/>
                </a:moveTo>
                <a:cubicBezTo>
                  <a:pt x="2138" y="11032"/>
                  <a:pt x="2138" y="11028"/>
                  <a:pt x="2152" y="11032"/>
                </a:cubicBezTo>
                <a:cubicBezTo>
                  <a:pt x="2125" y="11042"/>
                  <a:pt x="2143" y="11059"/>
                  <a:pt x="2136" y="11086"/>
                </a:cubicBezTo>
                <a:cubicBezTo>
                  <a:pt x="2128" y="11099"/>
                  <a:pt x="2126" y="11104"/>
                  <a:pt x="2131" y="11116"/>
                </a:cubicBezTo>
              </a:path>
              <a:path w="58" h="506">
                <a:moveTo>
                  <a:pt x="2134" y="11293"/>
                </a:moveTo>
                <a:cubicBezTo>
                  <a:pt x="2131" y="11316"/>
                  <a:pt x="2128" y="11338"/>
                  <a:pt x="2132" y="11360"/>
                </a:cubicBezTo>
                <a:cubicBezTo>
                  <a:pt x="2136" y="11380"/>
                  <a:pt x="2137" y="11400"/>
                  <a:pt x="2143" y="11420"/>
                </a:cubicBezTo>
                <a:cubicBezTo>
                  <a:pt x="2150" y="11444"/>
                  <a:pt x="2165" y="11462"/>
                  <a:pt x="2173" y="11485"/>
                </a:cubicBezTo>
                <a:cubicBezTo>
                  <a:pt x="2179" y="11503"/>
                  <a:pt x="2183" y="11518"/>
                  <a:pt x="2185" y="11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2" name="Ink 42"/>
          <p:cNvSpPr/>
          <p:nvPr/>
        </p:nvSpPr>
        <p:spPr>
          <a:xfrm>
            <a:off x="797040" y="4259160"/>
            <a:ext cx="36360" cy="73080"/>
          </a:xfrm>
          <a:custGeom>
            <a:avLst/>
            <a:gdLst/>
            <a:ahLst/>
            <a:rect l="l" t="t" r="r" b="b"/>
            <a:pathLst>
              <a:path w="98" h="202">
                <a:moveTo>
                  <a:pt x="2215" y="11833"/>
                </a:moveTo>
                <a:cubicBezTo>
                  <a:pt x="2223" y="11858"/>
                  <a:pt x="2236" y="11880"/>
                  <a:pt x="2245" y="11905"/>
                </a:cubicBezTo>
                <a:cubicBezTo>
                  <a:pt x="2255" y="11930"/>
                  <a:pt x="2264" y="11953"/>
                  <a:pt x="2276" y="11977"/>
                </a:cubicBezTo>
                <a:cubicBezTo>
                  <a:pt x="2286" y="11997"/>
                  <a:pt x="2299" y="12016"/>
                  <a:pt x="2312" y="120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3" name="Ink 43"/>
          <p:cNvSpPr/>
          <p:nvPr/>
        </p:nvSpPr>
        <p:spPr>
          <a:xfrm>
            <a:off x="868320" y="4414680"/>
            <a:ext cx="123840" cy="200160"/>
          </a:xfrm>
          <a:custGeom>
            <a:avLst/>
            <a:gdLst/>
            <a:ahLst/>
            <a:rect l="l" t="t" r="r" b="b"/>
            <a:pathLst>
              <a:path w="344" h="558">
                <a:moveTo>
                  <a:pt x="2412" y="12262"/>
                </a:moveTo>
                <a:cubicBezTo>
                  <a:pt x="2420" y="12298"/>
                  <a:pt x="2431" y="12330"/>
                  <a:pt x="2448" y="12363"/>
                </a:cubicBezTo>
                <a:cubicBezTo>
                  <a:pt x="2462" y="12390"/>
                  <a:pt x="2477" y="12413"/>
                  <a:pt x="2497" y="12435"/>
                </a:cubicBezTo>
                <a:cubicBezTo>
                  <a:pt x="2516" y="12456"/>
                  <a:pt x="2538" y="12475"/>
                  <a:pt x="2558" y="12496"/>
                </a:cubicBezTo>
              </a:path>
              <a:path w="344" h="558">
                <a:moveTo>
                  <a:pt x="2658" y="12676"/>
                </a:moveTo>
                <a:cubicBezTo>
                  <a:pt x="2666" y="12696"/>
                  <a:pt x="2677" y="12716"/>
                  <a:pt x="2687" y="12736"/>
                </a:cubicBezTo>
                <a:cubicBezTo>
                  <a:pt x="2697" y="12754"/>
                  <a:pt x="2711" y="12768"/>
                  <a:pt x="2723" y="12784"/>
                </a:cubicBezTo>
                <a:cubicBezTo>
                  <a:pt x="2735" y="12802"/>
                  <a:pt x="2741" y="12810"/>
                  <a:pt x="2755" y="12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4" name="Ink 44"/>
          <p:cNvSpPr/>
          <p:nvPr/>
        </p:nvSpPr>
        <p:spPr>
          <a:xfrm>
            <a:off x="1042920" y="4687920"/>
            <a:ext cx="381240" cy="384120"/>
          </a:xfrm>
          <a:custGeom>
            <a:avLst/>
            <a:gdLst/>
            <a:ahLst/>
            <a:rect l="l" t="t" r="r" b="b"/>
            <a:pathLst>
              <a:path w="1058" h="1068">
                <a:moveTo>
                  <a:pt x="2896" y="13022"/>
                </a:moveTo>
                <a:cubicBezTo>
                  <a:pt x="2910" y="13043"/>
                  <a:pt x="2925" y="13064"/>
                  <a:pt x="2940" y="13084"/>
                </a:cubicBezTo>
                <a:cubicBezTo>
                  <a:pt x="2953" y="13101"/>
                  <a:pt x="2968" y="13118"/>
                  <a:pt x="2983" y="13133"/>
                </a:cubicBezTo>
                <a:cubicBezTo>
                  <a:pt x="2990" y="13140"/>
                  <a:pt x="2998" y="13148"/>
                  <a:pt x="3005" y="13155"/>
                </a:cubicBezTo>
              </a:path>
              <a:path w="1058" h="1068">
                <a:moveTo>
                  <a:pt x="3129" y="13340"/>
                </a:moveTo>
                <a:cubicBezTo>
                  <a:pt x="3141" y="13359"/>
                  <a:pt x="3149" y="13378"/>
                  <a:pt x="3159" y="13397"/>
                </a:cubicBezTo>
                <a:cubicBezTo>
                  <a:pt x="3171" y="13419"/>
                  <a:pt x="3182" y="13440"/>
                  <a:pt x="3202" y="13456"/>
                </a:cubicBezTo>
                <a:cubicBezTo>
                  <a:pt x="3217" y="13468"/>
                  <a:pt x="3237" y="13474"/>
                  <a:pt x="3254" y="13483"/>
                </a:cubicBezTo>
                <a:cubicBezTo>
                  <a:pt x="3261" y="13487"/>
                  <a:pt x="3267" y="13491"/>
                  <a:pt x="3274" y="13495"/>
                </a:cubicBezTo>
              </a:path>
              <a:path w="1058" h="1068">
                <a:moveTo>
                  <a:pt x="3430" y="13642"/>
                </a:moveTo>
                <a:cubicBezTo>
                  <a:pt x="3435" y="13662"/>
                  <a:pt x="3444" y="13675"/>
                  <a:pt x="3458" y="13691"/>
                </a:cubicBezTo>
                <a:cubicBezTo>
                  <a:pt x="3471" y="13707"/>
                  <a:pt x="3485" y="13717"/>
                  <a:pt x="3503" y="13726"/>
                </a:cubicBezTo>
                <a:cubicBezTo>
                  <a:pt x="3523" y="13737"/>
                  <a:pt x="3543" y="13749"/>
                  <a:pt x="3563" y="13760"/>
                </a:cubicBezTo>
              </a:path>
              <a:path w="1058" h="1068">
                <a:moveTo>
                  <a:pt x="3669" y="13832"/>
                </a:moveTo>
                <a:cubicBezTo>
                  <a:pt x="3681" y="13845"/>
                  <a:pt x="3693" y="13859"/>
                  <a:pt x="3703" y="13874"/>
                </a:cubicBezTo>
                <a:cubicBezTo>
                  <a:pt x="3723" y="13905"/>
                  <a:pt x="3747" y="13919"/>
                  <a:pt x="3774" y="13942"/>
                </a:cubicBezTo>
                <a:cubicBezTo>
                  <a:pt x="3790" y="13956"/>
                  <a:pt x="3805" y="13966"/>
                  <a:pt x="3822" y="13979"/>
                </a:cubicBezTo>
              </a:path>
              <a:path w="1058" h="1068">
                <a:moveTo>
                  <a:pt x="3945" y="14044"/>
                </a:moveTo>
                <a:cubicBezTo>
                  <a:pt x="3930" y="14031"/>
                  <a:pt x="3922" y="14020"/>
                  <a:pt x="3912" y="14003"/>
                </a:cubicBezTo>
                <a:cubicBezTo>
                  <a:pt x="3902" y="13986"/>
                  <a:pt x="3890" y="13970"/>
                  <a:pt x="3881" y="13952"/>
                </a:cubicBezTo>
                <a:cubicBezTo>
                  <a:pt x="3873" y="13935"/>
                  <a:pt x="3866" y="13917"/>
                  <a:pt x="3857" y="13900"/>
                </a:cubicBezTo>
                <a:cubicBezTo>
                  <a:pt x="3853" y="13890"/>
                  <a:pt x="3851" y="13887"/>
                  <a:pt x="3846" y="13881"/>
                </a:cubicBezTo>
                <a:cubicBezTo>
                  <a:pt x="3861" y="13896"/>
                  <a:pt x="3873" y="13911"/>
                  <a:pt x="3883" y="13930"/>
                </a:cubicBezTo>
                <a:cubicBezTo>
                  <a:pt x="3892" y="13947"/>
                  <a:pt x="3898" y="13967"/>
                  <a:pt x="3909" y="13983"/>
                </a:cubicBezTo>
                <a:cubicBezTo>
                  <a:pt x="3919" y="13997"/>
                  <a:pt x="3930" y="14013"/>
                  <a:pt x="3944" y="14024"/>
                </a:cubicBezTo>
                <a:cubicBezTo>
                  <a:pt x="3947" y="14026"/>
                  <a:pt x="3950" y="14028"/>
                  <a:pt x="3953" y="14030"/>
                </a:cubicBezTo>
                <a:cubicBezTo>
                  <a:pt x="3936" y="14037"/>
                  <a:pt x="3918" y="14042"/>
                  <a:pt x="3900" y="14046"/>
                </a:cubicBezTo>
                <a:cubicBezTo>
                  <a:pt x="3883" y="14050"/>
                  <a:pt x="3866" y="14051"/>
                  <a:pt x="3849" y="14055"/>
                </a:cubicBezTo>
                <a:cubicBezTo>
                  <a:pt x="3825" y="14060"/>
                  <a:pt x="3801" y="14066"/>
                  <a:pt x="3778" y="14075"/>
                </a:cubicBezTo>
                <a:cubicBezTo>
                  <a:pt x="3773" y="14077"/>
                  <a:pt x="3723" y="14095"/>
                  <a:pt x="3755" y="14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5" name="Ink 45"/>
          <p:cNvSpPr/>
          <p:nvPr/>
        </p:nvSpPr>
        <p:spPr>
          <a:xfrm>
            <a:off x="1808280" y="4552920"/>
            <a:ext cx="82440" cy="255600"/>
          </a:xfrm>
          <a:custGeom>
            <a:avLst/>
            <a:gdLst/>
            <a:ahLst/>
            <a:rect l="l" t="t" r="r" b="b"/>
            <a:pathLst>
              <a:path w="229" h="710">
                <a:moveTo>
                  <a:pt x="5026" y="12659"/>
                </a:moveTo>
                <a:cubicBezTo>
                  <a:pt x="5024" y="12646"/>
                  <a:pt x="5024" y="12643"/>
                  <a:pt x="5035" y="12658"/>
                </a:cubicBezTo>
              </a:path>
              <a:path w="229" h="710">
                <a:moveTo>
                  <a:pt x="5080" y="12839"/>
                </a:moveTo>
                <a:cubicBezTo>
                  <a:pt x="5079" y="12856"/>
                  <a:pt x="5081" y="12876"/>
                  <a:pt x="5084" y="12894"/>
                </a:cubicBezTo>
                <a:cubicBezTo>
                  <a:pt x="5087" y="12912"/>
                  <a:pt x="5092" y="12928"/>
                  <a:pt x="5098" y="12945"/>
                </a:cubicBezTo>
              </a:path>
              <a:path w="229" h="710">
                <a:moveTo>
                  <a:pt x="5121" y="13153"/>
                </a:moveTo>
                <a:cubicBezTo>
                  <a:pt x="5120" y="13177"/>
                  <a:pt x="5125" y="13187"/>
                  <a:pt x="5129" y="13208"/>
                </a:cubicBezTo>
                <a:cubicBezTo>
                  <a:pt x="5129" y="13212"/>
                  <a:pt x="5129" y="13216"/>
                  <a:pt x="5129" y="13220"/>
                </a:cubicBezTo>
              </a:path>
              <a:path w="229" h="710">
                <a:moveTo>
                  <a:pt x="5135" y="13272"/>
                </a:moveTo>
                <a:cubicBezTo>
                  <a:pt x="5140" y="13288"/>
                  <a:pt x="5141" y="13304"/>
                  <a:pt x="5146" y="13320"/>
                </a:cubicBezTo>
                <a:cubicBezTo>
                  <a:pt x="5147" y="13323"/>
                  <a:pt x="5148" y="13326"/>
                  <a:pt x="5149" y="13329"/>
                </a:cubicBezTo>
              </a:path>
              <a:path w="229" h="710">
                <a:moveTo>
                  <a:pt x="5107" y="13356"/>
                </a:moveTo>
                <a:cubicBezTo>
                  <a:pt x="5102" y="13336"/>
                  <a:pt x="5101" y="13316"/>
                  <a:pt x="5097" y="13295"/>
                </a:cubicBezTo>
                <a:cubicBezTo>
                  <a:pt x="5094" y="13278"/>
                  <a:pt x="5085" y="13263"/>
                  <a:pt x="5078" y="13247"/>
                </a:cubicBezTo>
                <a:cubicBezTo>
                  <a:pt x="5070" y="13229"/>
                  <a:pt x="5061" y="13212"/>
                  <a:pt x="5052" y="13194"/>
                </a:cubicBezTo>
                <a:cubicBezTo>
                  <a:pt x="5044" y="13179"/>
                  <a:pt x="5042" y="13175"/>
                  <a:pt x="5036" y="13167"/>
                </a:cubicBezTo>
                <a:cubicBezTo>
                  <a:pt x="5044" y="13196"/>
                  <a:pt x="5054" y="13226"/>
                  <a:pt x="5069" y="13252"/>
                </a:cubicBezTo>
                <a:cubicBezTo>
                  <a:pt x="5077" y="13266"/>
                  <a:pt x="5089" y="13286"/>
                  <a:pt x="5104" y="13294"/>
                </a:cubicBezTo>
                <a:cubicBezTo>
                  <a:pt x="5125" y="13305"/>
                  <a:pt x="5138" y="13268"/>
                  <a:pt x="5147" y="13254"/>
                </a:cubicBezTo>
                <a:cubicBezTo>
                  <a:pt x="5160" y="13233"/>
                  <a:pt x="5175" y="13214"/>
                  <a:pt x="5189" y="13194"/>
                </a:cubicBezTo>
                <a:cubicBezTo>
                  <a:pt x="5206" y="13170"/>
                  <a:pt x="5227" y="13142"/>
                  <a:pt x="5252" y="13127"/>
                </a:cubicBezTo>
                <a:cubicBezTo>
                  <a:pt x="5248" y="13143"/>
                  <a:pt x="5248" y="13146"/>
                  <a:pt x="5250" y="131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6" name="Ink 46"/>
          <p:cNvSpPr/>
          <p:nvPr/>
        </p:nvSpPr>
        <p:spPr>
          <a:xfrm>
            <a:off x="7732800" y="3908520"/>
            <a:ext cx="158760" cy="372960"/>
          </a:xfrm>
          <a:custGeom>
            <a:avLst/>
            <a:gdLst/>
            <a:ahLst/>
            <a:rect l="l" t="t" r="r" b="b"/>
            <a:pathLst>
              <a:path w="443" h="1037">
                <a:moveTo>
                  <a:pt x="21920" y="10878"/>
                </a:moveTo>
                <a:cubicBezTo>
                  <a:pt x="21920" y="10868"/>
                  <a:pt x="21920" y="10864"/>
                  <a:pt x="21915" y="10858"/>
                </a:cubicBezTo>
                <a:cubicBezTo>
                  <a:pt x="21914" y="10878"/>
                  <a:pt x="21906" y="10895"/>
                  <a:pt x="21903" y="10915"/>
                </a:cubicBezTo>
              </a:path>
              <a:path w="443" h="1037">
                <a:moveTo>
                  <a:pt x="21855" y="11101"/>
                </a:moveTo>
                <a:cubicBezTo>
                  <a:pt x="21849" y="11124"/>
                  <a:pt x="21838" y="11140"/>
                  <a:pt x="21830" y="11160"/>
                </a:cubicBezTo>
                <a:cubicBezTo>
                  <a:pt x="21822" y="11180"/>
                  <a:pt x="21816" y="11201"/>
                  <a:pt x="21808" y="11221"/>
                </a:cubicBezTo>
                <a:cubicBezTo>
                  <a:pt x="21806" y="11226"/>
                  <a:pt x="21804" y="11231"/>
                  <a:pt x="21802" y="11236"/>
                </a:cubicBezTo>
              </a:path>
              <a:path w="443" h="1037">
                <a:moveTo>
                  <a:pt x="21730" y="11395"/>
                </a:moveTo>
                <a:cubicBezTo>
                  <a:pt x="21720" y="11409"/>
                  <a:pt x="21711" y="11425"/>
                  <a:pt x="21706" y="11443"/>
                </a:cubicBezTo>
                <a:cubicBezTo>
                  <a:pt x="21702" y="11459"/>
                  <a:pt x="21697" y="11476"/>
                  <a:pt x="21693" y="11492"/>
                </a:cubicBezTo>
                <a:cubicBezTo>
                  <a:pt x="21686" y="11517"/>
                  <a:pt x="21678" y="11532"/>
                  <a:pt x="21667" y="11553"/>
                </a:cubicBezTo>
                <a:cubicBezTo>
                  <a:pt x="21660" y="11570"/>
                  <a:pt x="21658" y="11576"/>
                  <a:pt x="21647" y="11583"/>
                </a:cubicBezTo>
              </a:path>
              <a:path w="443" h="1037">
                <a:moveTo>
                  <a:pt x="21538" y="11775"/>
                </a:moveTo>
                <a:cubicBezTo>
                  <a:pt x="21524" y="11789"/>
                  <a:pt x="21511" y="11804"/>
                  <a:pt x="21503" y="11822"/>
                </a:cubicBezTo>
                <a:cubicBezTo>
                  <a:pt x="21494" y="11842"/>
                  <a:pt x="21492" y="11864"/>
                  <a:pt x="21484" y="11884"/>
                </a:cubicBezTo>
                <a:cubicBezTo>
                  <a:pt x="21482" y="11887"/>
                  <a:pt x="21480" y="11891"/>
                  <a:pt x="21478" y="11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7" name="Ink 47"/>
          <p:cNvSpPr/>
          <p:nvPr/>
        </p:nvSpPr>
        <p:spPr>
          <a:xfrm>
            <a:off x="7667640" y="4370400"/>
            <a:ext cx="30240" cy="79200"/>
          </a:xfrm>
          <a:custGeom>
            <a:avLst/>
            <a:gdLst/>
            <a:ahLst/>
            <a:rect l="l" t="t" r="r" b="b"/>
            <a:pathLst>
              <a:path w="87" h="221">
                <a:moveTo>
                  <a:pt x="21383" y="12140"/>
                </a:moveTo>
                <a:cubicBezTo>
                  <a:pt x="21365" y="12164"/>
                  <a:pt x="21347" y="12189"/>
                  <a:pt x="21337" y="12217"/>
                </a:cubicBezTo>
                <a:cubicBezTo>
                  <a:pt x="21328" y="12241"/>
                  <a:pt x="21315" y="12273"/>
                  <a:pt x="21309" y="12296"/>
                </a:cubicBezTo>
                <a:cubicBezTo>
                  <a:pt x="21303" y="12319"/>
                  <a:pt x="21300" y="12337"/>
                  <a:pt x="21297" y="123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8" name="Ink 48"/>
          <p:cNvSpPr/>
          <p:nvPr/>
        </p:nvSpPr>
        <p:spPr>
          <a:xfrm>
            <a:off x="7586640" y="4545000"/>
            <a:ext cx="31680" cy="65160"/>
          </a:xfrm>
          <a:custGeom>
            <a:avLst/>
            <a:gdLst/>
            <a:ahLst/>
            <a:rect l="l" t="t" r="r" b="b"/>
            <a:pathLst>
              <a:path w="87" h="182">
                <a:moveTo>
                  <a:pt x="21161" y="12626"/>
                </a:moveTo>
                <a:cubicBezTo>
                  <a:pt x="21143" y="12648"/>
                  <a:pt x="21119" y="12672"/>
                  <a:pt x="21107" y="12698"/>
                </a:cubicBezTo>
                <a:cubicBezTo>
                  <a:pt x="21098" y="12716"/>
                  <a:pt x="21094" y="12735"/>
                  <a:pt x="21091" y="12755"/>
                </a:cubicBezTo>
                <a:cubicBezTo>
                  <a:pt x="21088" y="12774"/>
                  <a:pt x="21084" y="12791"/>
                  <a:pt x="21075" y="12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99" name="Ink 49"/>
          <p:cNvSpPr/>
          <p:nvPr/>
        </p:nvSpPr>
        <p:spPr>
          <a:xfrm>
            <a:off x="7362720" y="4707000"/>
            <a:ext cx="171720" cy="206280"/>
          </a:xfrm>
          <a:custGeom>
            <a:avLst/>
            <a:gdLst/>
            <a:ahLst/>
            <a:rect l="l" t="t" r="r" b="b"/>
            <a:pathLst>
              <a:path w="477" h="574">
                <a:moveTo>
                  <a:pt x="20928" y="13073"/>
                </a:moveTo>
                <a:cubicBezTo>
                  <a:pt x="20914" y="13088"/>
                  <a:pt x="20892" y="13110"/>
                  <a:pt x="20882" y="13128"/>
                </a:cubicBezTo>
                <a:cubicBezTo>
                  <a:pt x="20874" y="13143"/>
                  <a:pt x="20875" y="13158"/>
                  <a:pt x="20873" y="13174"/>
                </a:cubicBezTo>
                <a:cubicBezTo>
                  <a:pt x="20872" y="13179"/>
                  <a:pt x="20871" y="13185"/>
                  <a:pt x="20870" y="13190"/>
                </a:cubicBezTo>
              </a:path>
              <a:path w="477" h="574">
                <a:moveTo>
                  <a:pt x="20765" y="13289"/>
                </a:moveTo>
                <a:cubicBezTo>
                  <a:pt x="20749" y="13308"/>
                  <a:pt x="20730" y="13321"/>
                  <a:pt x="20712" y="13340"/>
                </a:cubicBezTo>
                <a:cubicBezTo>
                  <a:pt x="20697" y="13356"/>
                  <a:pt x="20689" y="13363"/>
                  <a:pt x="20682" y="13380"/>
                </a:cubicBezTo>
                <a:cubicBezTo>
                  <a:pt x="20680" y="13384"/>
                  <a:pt x="20678" y="13387"/>
                  <a:pt x="20676" y="13391"/>
                </a:cubicBezTo>
              </a:path>
              <a:path w="477" h="574">
                <a:moveTo>
                  <a:pt x="20622" y="13455"/>
                </a:moveTo>
                <a:cubicBezTo>
                  <a:pt x="20607" y="13465"/>
                  <a:pt x="20587" y="13479"/>
                  <a:pt x="20577" y="13495"/>
                </a:cubicBezTo>
                <a:cubicBezTo>
                  <a:pt x="20566" y="13513"/>
                  <a:pt x="20549" y="13533"/>
                  <a:pt x="20539" y="13551"/>
                </a:cubicBezTo>
                <a:cubicBezTo>
                  <a:pt x="20528" y="13572"/>
                  <a:pt x="20518" y="13587"/>
                  <a:pt x="20507" y="13607"/>
                </a:cubicBezTo>
              </a:path>
              <a:path w="477" h="574">
                <a:moveTo>
                  <a:pt x="20483" y="13646"/>
                </a:moveTo>
                <a:cubicBezTo>
                  <a:pt x="20470" y="13636"/>
                  <a:pt x="20484" y="13618"/>
                  <a:pt x="20493" y="13599"/>
                </a:cubicBezTo>
                <a:cubicBezTo>
                  <a:pt x="20503" y="13577"/>
                  <a:pt x="20512" y="13554"/>
                  <a:pt x="20520" y="13530"/>
                </a:cubicBezTo>
                <a:cubicBezTo>
                  <a:pt x="20529" y="13503"/>
                  <a:pt x="20532" y="13475"/>
                  <a:pt x="20538" y="13447"/>
                </a:cubicBezTo>
                <a:cubicBezTo>
                  <a:pt x="20543" y="13425"/>
                  <a:pt x="20546" y="13400"/>
                  <a:pt x="20554" y="13379"/>
                </a:cubicBezTo>
                <a:cubicBezTo>
                  <a:pt x="20560" y="13369"/>
                  <a:pt x="20562" y="13364"/>
                  <a:pt x="20563" y="13356"/>
                </a:cubicBezTo>
                <a:cubicBezTo>
                  <a:pt x="20558" y="13377"/>
                  <a:pt x="20550" y="13397"/>
                  <a:pt x="20543" y="13418"/>
                </a:cubicBezTo>
                <a:cubicBezTo>
                  <a:pt x="20521" y="13480"/>
                  <a:pt x="20494" y="13541"/>
                  <a:pt x="20466" y="13601"/>
                </a:cubicBezTo>
                <a:cubicBezTo>
                  <a:pt x="20459" y="13616"/>
                  <a:pt x="20455" y="13626"/>
                  <a:pt x="20452" y="13642"/>
                </a:cubicBezTo>
                <a:cubicBezTo>
                  <a:pt x="20472" y="13632"/>
                  <a:pt x="20489" y="13618"/>
                  <a:pt x="20509" y="13607"/>
                </a:cubicBezTo>
                <a:cubicBezTo>
                  <a:pt x="20535" y="13593"/>
                  <a:pt x="20562" y="13581"/>
                  <a:pt x="20588" y="13568"/>
                </a:cubicBezTo>
                <a:cubicBezTo>
                  <a:pt x="20625" y="13550"/>
                  <a:pt x="20664" y="13527"/>
                  <a:pt x="20705" y="13521"/>
                </a:cubicBezTo>
                <a:cubicBezTo>
                  <a:pt x="20736" y="13517"/>
                  <a:pt x="20738" y="13526"/>
                  <a:pt x="20738" y="13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0" name="Ink 50"/>
          <p:cNvSpPr/>
          <p:nvPr/>
        </p:nvSpPr>
        <p:spPr>
          <a:xfrm>
            <a:off x="4243320" y="6183360"/>
            <a:ext cx="452520" cy="166680"/>
          </a:xfrm>
          <a:custGeom>
            <a:avLst/>
            <a:gdLst/>
            <a:ahLst/>
            <a:rect l="l" t="t" r="r" b="b"/>
            <a:pathLst>
              <a:path w="1260" h="461">
                <a:moveTo>
                  <a:pt x="12351" y="17312"/>
                </a:moveTo>
                <a:cubicBezTo>
                  <a:pt x="12358" y="17295"/>
                  <a:pt x="12360" y="17297"/>
                  <a:pt x="12354" y="17281"/>
                </a:cubicBezTo>
                <a:cubicBezTo>
                  <a:pt x="12357" y="17303"/>
                  <a:pt x="12359" y="17326"/>
                  <a:pt x="12357" y="17349"/>
                </a:cubicBezTo>
                <a:cubicBezTo>
                  <a:pt x="12351" y="17415"/>
                  <a:pt x="12337" y="17479"/>
                  <a:pt x="12328" y="17545"/>
                </a:cubicBezTo>
                <a:cubicBezTo>
                  <a:pt x="12323" y="17593"/>
                  <a:pt x="12322" y="17607"/>
                  <a:pt x="12320" y="17638"/>
                </a:cubicBezTo>
              </a:path>
              <a:path w="1260" h="461">
                <a:moveTo>
                  <a:pt x="12112" y="17333"/>
                </a:moveTo>
                <a:cubicBezTo>
                  <a:pt x="12093" y="17329"/>
                  <a:pt x="12089" y="17329"/>
                  <a:pt x="12079" y="17324"/>
                </a:cubicBezTo>
                <a:cubicBezTo>
                  <a:pt x="12100" y="17304"/>
                  <a:pt x="12133" y="17307"/>
                  <a:pt x="12165" y="17302"/>
                </a:cubicBezTo>
                <a:cubicBezTo>
                  <a:pt x="12241" y="17290"/>
                  <a:pt x="12318" y="17279"/>
                  <a:pt x="12394" y="17267"/>
                </a:cubicBezTo>
                <a:cubicBezTo>
                  <a:pt x="12486" y="17252"/>
                  <a:pt x="12576" y="17236"/>
                  <a:pt x="12669" y="17229"/>
                </a:cubicBezTo>
                <a:cubicBezTo>
                  <a:pt x="12674" y="17229"/>
                  <a:pt x="12801" y="17218"/>
                  <a:pt x="12800" y="17240"/>
                </a:cubicBezTo>
                <a:cubicBezTo>
                  <a:pt x="12799" y="17252"/>
                  <a:pt x="12798" y="17255"/>
                  <a:pt x="12786" y="17253"/>
                </a:cubicBezTo>
              </a:path>
              <a:path w="1260" h="461">
                <a:moveTo>
                  <a:pt x="12978" y="17229"/>
                </a:moveTo>
                <a:cubicBezTo>
                  <a:pt x="13003" y="17233"/>
                  <a:pt x="13018" y="17257"/>
                  <a:pt x="13029" y="17282"/>
                </a:cubicBezTo>
                <a:cubicBezTo>
                  <a:pt x="13060" y="17353"/>
                  <a:pt x="13049" y="17446"/>
                  <a:pt x="13015" y="17514"/>
                </a:cubicBezTo>
                <a:cubicBezTo>
                  <a:pt x="12974" y="17596"/>
                  <a:pt x="12930" y="17602"/>
                  <a:pt x="12853" y="17633"/>
                </a:cubicBezTo>
              </a:path>
              <a:path w="1260" h="461">
                <a:moveTo>
                  <a:pt x="11852" y="17199"/>
                </a:moveTo>
                <a:cubicBezTo>
                  <a:pt x="11849" y="17189"/>
                  <a:pt x="11848" y="17185"/>
                  <a:pt x="11845" y="17178"/>
                </a:cubicBezTo>
                <a:cubicBezTo>
                  <a:pt x="11840" y="17199"/>
                  <a:pt x="11831" y="17217"/>
                  <a:pt x="11825" y="17238"/>
                </a:cubicBezTo>
                <a:cubicBezTo>
                  <a:pt x="11811" y="17286"/>
                  <a:pt x="11800" y="17334"/>
                  <a:pt x="11793" y="17383"/>
                </a:cubicBezTo>
                <a:cubicBezTo>
                  <a:pt x="11780" y="17477"/>
                  <a:pt x="11790" y="17548"/>
                  <a:pt x="11825" y="17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1" name="Ink 51"/>
          <p:cNvSpPr/>
          <p:nvPr/>
        </p:nvSpPr>
        <p:spPr>
          <a:xfrm>
            <a:off x="3316320" y="6039000"/>
            <a:ext cx="720720" cy="325440"/>
          </a:xfrm>
          <a:custGeom>
            <a:avLst/>
            <a:gdLst/>
            <a:ahLst/>
            <a:rect l="l" t="t" r="r" b="b"/>
            <a:pathLst>
              <a:path w="2004" h="901">
                <a:moveTo>
                  <a:pt x="11168" y="17327"/>
                </a:moveTo>
                <a:cubicBezTo>
                  <a:pt x="11177" y="17318"/>
                  <a:pt x="11180" y="17315"/>
                  <a:pt x="11188" y="17312"/>
                </a:cubicBezTo>
                <a:cubicBezTo>
                  <a:pt x="11207" y="17328"/>
                  <a:pt x="11212" y="17345"/>
                  <a:pt x="11213" y="17371"/>
                </a:cubicBezTo>
                <a:cubicBezTo>
                  <a:pt x="11216" y="17421"/>
                  <a:pt x="11211" y="17491"/>
                  <a:pt x="11179" y="17532"/>
                </a:cubicBezTo>
                <a:cubicBezTo>
                  <a:pt x="11132" y="17573"/>
                  <a:pt x="11123" y="17587"/>
                  <a:pt x="11082" y="17585"/>
                </a:cubicBezTo>
              </a:path>
              <a:path w="2004" h="901">
                <a:moveTo>
                  <a:pt x="11025" y="17455"/>
                </a:moveTo>
                <a:cubicBezTo>
                  <a:pt x="11011" y="17457"/>
                  <a:pt x="10995" y="17460"/>
                  <a:pt x="10978" y="17460"/>
                </a:cubicBezTo>
                <a:cubicBezTo>
                  <a:pt x="10956" y="17461"/>
                  <a:pt x="10938" y="17459"/>
                  <a:pt x="10934" y="17435"/>
                </a:cubicBezTo>
                <a:cubicBezTo>
                  <a:pt x="10931" y="17415"/>
                  <a:pt x="10946" y="17397"/>
                  <a:pt x="10956" y="17382"/>
                </a:cubicBezTo>
                <a:cubicBezTo>
                  <a:pt x="10963" y="17372"/>
                  <a:pt x="10980" y="17349"/>
                  <a:pt x="10995" y="17349"/>
                </a:cubicBezTo>
                <a:cubicBezTo>
                  <a:pt x="10999" y="17352"/>
                  <a:pt x="11003" y="17354"/>
                  <a:pt x="11007" y="17357"/>
                </a:cubicBezTo>
                <a:cubicBezTo>
                  <a:pt x="11010" y="17403"/>
                  <a:pt x="11002" y="17439"/>
                  <a:pt x="10981" y="17483"/>
                </a:cubicBezTo>
                <a:cubicBezTo>
                  <a:pt x="10956" y="17536"/>
                  <a:pt x="10889" y="17640"/>
                  <a:pt x="10814" y="17624"/>
                </a:cubicBezTo>
                <a:cubicBezTo>
                  <a:pt x="10777" y="17616"/>
                  <a:pt x="10791" y="17574"/>
                  <a:pt x="10798" y="17553"/>
                </a:cubicBezTo>
                <a:cubicBezTo>
                  <a:pt x="10802" y="17541"/>
                  <a:pt x="10803" y="17537"/>
                  <a:pt x="10807" y="17530"/>
                </a:cubicBezTo>
                <a:cubicBezTo>
                  <a:pt x="10743" y="17580"/>
                  <a:pt x="10682" y="17622"/>
                  <a:pt x="10607" y="17655"/>
                </a:cubicBezTo>
                <a:cubicBezTo>
                  <a:pt x="10590" y="17662"/>
                  <a:pt x="10574" y="17669"/>
                  <a:pt x="10557" y="17676"/>
                </a:cubicBezTo>
              </a:path>
              <a:path w="2004" h="901">
                <a:moveTo>
                  <a:pt x="10560" y="17362"/>
                </a:moveTo>
                <a:cubicBezTo>
                  <a:pt x="10571" y="17341"/>
                  <a:pt x="10580" y="17341"/>
                  <a:pt x="10597" y="17327"/>
                </a:cubicBezTo>
                <a:cubicBezTo>
                  <a:pt x="10611" y="17315"/>
                  <a:pt x="10613" y="17315"/>
                  <a:pt x="10633" y="17311"/>
                </a:cubicBezTo>
                <a:cubicBezTo>
                  <a:pt x="10643" y="17335"/>
                  <a:pt x="10637" y="17346"/>
                  <a:pt x="10625" y="17370"/>
                </a:cubicBezTo>
                <a:cubicBezTo>
                  <a:pt x="10611" y="17400"/>
                  <a:pt x="10592" y="17427"/>
                  <a:pt x="10567" y="17449"/>
                </a:cubicBezTo>
                <a:cubicBezTo>
                  <a:pt x="10554" y="17460"/>
                  <a:pt x="10529" y="17479"/>
                  <a:pt x="10514" y="17460"/>
                </a:cubicBezTo>
                <a:cubicBezTo>
                  <a:pt x="10497" y="17439"/>
                  <a:pt x="10507" y="17409"/>
                  <a:pt x="10516" y="17388"/>
                </a:cubicBezTo>
                <a:cubicBezTo>
                  <a:pt x="10529" y="17358"/>
                  <a:pt x="10559" y="17338"/>
                  <a:pt x="10590" y="17326"/>
                </a:cubicBezTo>
                <a:cubicBezTo>
                  <a:pt x="10613" y="17319"/>
                  <a:pt x="10619" y="17317"/>
                  <a:pt x="10635" y="17319"/>
                </a:cubicBezTo>
              </a:path>
              <a:path w="2004" h="901">
                <a:moveTo>
                  <a:pt x="10239" y="17459"/>
                </a:moveTo>
                <a:cubicBezTo>
                  <a:pt x="10225" y="17444"/>
                  <a:pt x="10188" y="17497"/>
                  <a:pt x="10172" y="17511"/>
                </a:cubicBezTo>
                <a:cubicBezTo>
                  <a:pt x="10149" y="17531"/>
                  <a:pt x="10056" y="17619"/>
                  <a:pt x="10018" y="17591"/>
                </a:cubicBezTo>
                <a:cubicBezTo>
                  <a:pt x="10017" y="17586"/>
                  <a:pt x="10017" y="17581"/>
                  <a:pt x="10016" y="17576"/>
                </a:cubicBezTo>
              </a:path>
              <a:path w="2004" h="901">
                <a:moveTo>
                  <a:pt x="10289" y="17200"/>
                </a:moveTo>
                <a:cubicBezTo>
                  <a:pt x="10276" y="17194"/>
                  <a:pt x="10262" y="17183"/>
                  <a:pt x="10278" y="17167"/>
                </a:cubicBezTo>
                <a:cubicBezTo>
                  <a:pt x="10281" y="17166"/>
                  <a:pt x="10284" y="17164"/>
                  <a:pt x="10287" y="17163"/>
                </a:cubicBezTo>
              </a:path>
              <a:path w="2004" h="901">
                <a:moveTo>
                  <a:pt x="9988" y="17349"/>
                </a:moveTo>
                <a:cubicBezTo>
                  <a:pt x="9995" y="17331"/>
                  <a:pt x="9998" y="17319"/>
                  <a:pt x="10014" y="17307"/>
                </a:cubicBezTo>
                <a:cubicBezTo>
                  <a:pt x="10033" y="17294"/>
                  <a:pt x="10050" y="17282"/>
                  <a:pt x="10070" y="17272"/>
                </a:cubicBezTo>
                <a:cubicBezTo>
                  <a:pt x="10053" y="17263"/>
                  <a:pt x="10034" y="17257"/>
                  <a:pt x="10017" y="17248"/>
                </a:cubicBezTo>
                <a:cubicBezTo>
                  <a:pt x="10005" y="17240"/>
                  <a:pt x="10003" y="17238"/>
                  <a:pt x="9994" y="17236"/>
                </a:cubicBezTo>
                <a:cubicBezTo>
                  <a:pt x="9985" y="17256"/>
                  <a:pt x="9984" y="17273"/>
                  <a:pt x="9978" y="17294"/>
                </a:cubicBezTo>
                <a:cubicBezTo>
                  <a:pt x="9967" y="17330"/>
                  <a:pt x="9949" y="17368"/>
                  <a:pt x="9926" y="17398"/>
                </a:cubicBezTo>
                <a:cubicBezTo>
                  <a:pt x="9910" y="17419"/>
                  <a:pt x="9884" y="17439"/>
                  <a:pt x="9858" y="17446"/>
                </a:cubicBezTo>
                <a:cubicBezTo>
                  <a:pt x="9837" y="17452"/>
                  <a:pt x="9812" y="17451"/>
                  <a:pt x="9794" y="17437"/>
                </a:cubicBezTo>
                <a:cubicBezTo>
                  <a:pt x="9771" y="17419"/>
                  <a:pt x="9765" y="17388"/>
                  <a:pt x="9762" y="17361"/>
                </a:cubicBezTo>
                <a:cubicBezTo>
                  <a:pt x="9757" y="17319"/>
                  <a:pt x="9760" y="17273"/>
                  <a:pt x="9763" y="17231"/>
                </a:cubicBezTo>
                <a:cubicBezTo>
                  <a:pt x="9765" y="17199"/>
                  <a:pt x="9768" y="17164"/>
                  <a:pt x="9776" y="17133"/>
                </a:cubicBezTo>
                <a:cubicBezTo>
                  <a:pt x="9777" y="17130"/>
                  <a:pt x="9779" y="17127"/>
                  <a:pt x="9780" y="17124"/>
                </a:cubicBezTo>
                <a:cubicBezTo>
                  <a:pt x="9783" y="17159"/>
                  <a:pt x="9781" y="17180"/>
                  <a:pt x="9775" y="17215"/>
                </a:cubicBezTo>
                <a:cubicBezTo>
                  <a:pt x="9770" y="17246"/>
                  <a:pt x="9768" y="17256"/>
                  <a:pt x="9764" y="17277"/>
                </a:cubicBezTo>
              </a:path>
              <a:path w="2004" h="901">
                <a:moveTo>
                  <a:pt x="9598" y="17111"/>
                </a:moveTo>
                <a:cubicBezTo>
                  <a:pt x="9598" y="17100"/>
                  <a:pt x="9598" y="17096"/>
                  <a:pt x="9599" y="17088"/>
                </a:cubicBezTo>
                <a:cubicBezTo>
                  <a:pt x="9597" y="17109"/>
                  <a:pt x="9600" y="17117"/>
                  <a:pt x="9588" y="17140"/>
                </a:cubicBezTo>
                <a:cubicBezTo>
                  <a:pt x="9562" y="17188"/>
                  <a:pt x="9528" y="17234"/>
                  <a:pt x="9491" y="17274"/>
                </a:cubicBezTo>
                <a:cubicBezTo>
                  <a:pt x="9478" y="17287"/>
                  <a:pt x="9473" y="17292"/>
                  <a:pt x="9464" y="17300"/>
                </a:cubicBezTo>
                <a:cubicBezTo>
                  <a:pt x="9491" y="17296"/>
                  <a:pt x="9514" y="17288"/>
                  <a:pt x="9532" y="17313"/>
                </a:cubicBezTo>
                <a:cubicBezTo>
                  <a:pt x="9556" y="17346"/>
                  <a:pt x="9535" y="17402"/>
                  <a:pt x="9522" y="17433"/>
                </a:cubicBezTo>
                <a:cubicBezTo>
                  <a:pt x="9493" y="17500"/>
                  <a:pt x="9436" y="17547"/>
                  <a:pt x="9366" y="17569"/>
                </a:cubicBezTo>
                <a:cubicBezTo>
                  <a:pt x="9313" y="17586"/>
                  <a:pt x="9245" y="17589"/>
                  <a:pt x="9219" y="17532"/>
                </a:cubicBezTo>
                <a:cubicBezTo>
                  <a:pt x="9196" y="17482"/>
                  <a:pt x="9216" y="17416"/>
                  <a:pt x="9239" y="17370"/>
                </a:cubicBezTo>
                <a:cubicBezTo>
                  <a:pt x="9257" y="17334"/>
                  <a:pt x="9278" y="17316"/>
                  <a:pt x="9309" y="17293"/>
                </a:cubicBezTo>
                <a:cubicBezTo>
                  <a:pt x="9328" y="17279"/>
                  <a:pt x="9339" y="17266"/>
                  <a:pt x="9354" y="17247"/>
                </a:cubicBezTo>
              </a:path>
              <a:path w="2004" h="901">
                <a:moveTo>
                  <a:pt x="9405" y="16805"/>
                </a:moveTo>
                <a:cubicBezTo>
                  <a:pt x="9385" y="16803"/>
                  <a:pt x="9378" y="16806"/>
                  <a:pt x="9371" y="16785"/>
                </a:cubicBezTo>
                <a:cubicBezTo>
                  <a:pt x="9371" y="16782"/>
                  <a:pt x="9370" y="16779"/>
                  <a:pt x="9370" y="16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مسئله راهبري فناوری اطلاعات در سازمان‌ها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وضعيت عناصر و اجزاء محيط سيستم فناوری اطلاعات سازمان، در طول يک دوره زماني (و معمولا به طور مستمر) تغيير مي‌کند.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در هر مقطع زماني سيستم فناوری اطلاعات، بايد با محيط خود در تعادل باشد، تا بتواند توجيهي براي ادامه بکارگيري داشته باشد.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مسئله راهبري فناوری اطلاعات در سازمان‌ها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Titr"/>
                <a:cs typeface="Nazanin"/>
              </a:rPr>
              <a:t>سئوالات اساسي:</a:t>
            </a:r>
            <a:endParaRPr b="0" lang="en-US" sz="30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itr"/>
                <a:cs typeface="Nazanin"/>
              </a:rPr>
              <a:t>معماري هر سيستم فناوري اطلاعات مشتمل بر چه اجزاء و مفاهيمي است؟</a:t>
            </a:r>
            <a:endParaRPr b="0" lang="en-US" sz="26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itr"/>
                <a:cs typeface="Nazanin"/>
              </a:rPr>
              <a:t>چه ابعادي از سيستم فناوري اطلاعات سازمان را، بايد جهت حفظ کارايي آن در مقابل محيط، تغيير داد؟</a:t>
            </a:r>
            <a:endParaRPr b="0" lang="en-US" sz="26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itr"/>
                <a:cs typeface="Nazanin"/>
              </a:rPr>
              <a:t>تغييرات در سيستم فناوري اطلاعات سازمان بايد چه اهدافي را دنبال نمايد؟</a:t>
            </a:r>
            <a:endParaRPr b="0" lang="en-US" sz="26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itr"/>
                <a:cs typeface="Nazanin"/>
              </a:rPr>
              <a:t>چه قواعد و جهت‌گيري‌هايي را بايد در روند ايجاد تغييرات در سيستم فناوري اطلاعات سازمان رعايت نمود؟</a:t>
            </a:r>
            <a:endParaRPr b="0" lang="en-US" sz="26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itr"/>
                <a:cs typeface="Nazanin"/>
              </a:rPr>
              <a:t>چه اقدامات عملي، براي تغيير در سيستم فناوري اطلاعات سازمان بر اساس جهت‌گيري تعيين شده، بايد انجام داد؟</a:t>
            </a:r>
            <a:endParaRPr b="0" lang="en-US" sz="26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عناصر اساسي در راهبري سيستم‌هاي فناوري اطلاعات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r"/>
                <a:ea typeface="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پيکره‌بندي و اجزاء معماري سيستم‌هاي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وضع موجود پيکره‌بندي و معماري سيستم فناوري اطلاعات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وضع آينده (چشم‌انداز) پيکره‌بندي و معماري سيستم فناوري اطلاعات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محيط سيستم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وضع موجود محيط سيستم فناوري اطلاعات (اجزاء، پيکره‌بندي و ...)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وضع آينده محيط سيستم فناوري اطلاعات (اجزاء، پيکره‌بندي و ...)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مکانيزم و نحوه تعامل سيستم فناوري اطلاعات با محيط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مکانيزم و نحوه تعامل در وضع موجود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مکانيزم و نحوه تعامل در وضع آينده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marL="2984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عناصر اساسي در راهبري سيستم‌هاي فناوري اطلاعات (ادامه)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تغييرات محيطي سيستم‌هاي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روند تغييرات در اجزاء محيط سيستم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سناريوهاي تغيير در محيط سيستم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دوره (افق زماني) برنامه‌ريزي راهبردي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تغييرات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690840" indent="-265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اهداف تغيير راهبردي سيستم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2" marL="1062720" indent="-2124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اهداف عملکردي و وضعيتي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062720" indent="-2124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اهداف کمي و کيفي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  <a:p>
            <a:pPr lvl="2" marL="1062720" indent="-2124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tr"/>
                <a:cs typeface="Nazanin"/>
              </a:rPr>
              <a:t>اهداف کلي و جزئي</a:t>
            </a:r>
            <a:endParaRPr b="0" lang="en-US" sz="2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tr"/>
                <a:cs typeface="Zar"/>
              </a:rPr>
              <a:t>عناصر اساسي در راهبري سيستم‌هاي فناوري اطلاعات (ادامه)</a:t>
            </a:r>
            <a:endParaRPr b="0" lang="en-US" sz="36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تغييرات سيستم فناوري اطلاعات(ادامه)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راهبردهاي (استراتژي‌هاي) تغيير در سيستم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itr"/>
                <a:cs typeface="Nazanin"/>
              </a:rPr>
              <a:t>طرح و برنامه جامع تغييرات در سيستم فناوري اطلاعات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tr"/>
                <a:cs typeface="Zar"/>
              </a:rPr>
              <a:t>مراحل کلي تجزيه و تحليل و برنامه‌ريزي راهبردي سيستم‌هاي فناوري اطلاعات </a:t>
            </a:r>
            <a:endParaRPr b="0" lang="en-US" sz="28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شناخت ساختار دروني و معماري وضعيت موجود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شناخت و تحليل اجزاء، ساختار و وضعيت موجود محيط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تحليل روند تغييرات محيط سيستم فناوري اطلاعات و افق برنامه‌ريزي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پيش‌بيني وضعيت آينده محيط سيستم فناوري اطلاعات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tr"/>
                <a:cs typeface="Nazanin"/>
              </a:rPr>
              <a:t>ارزيابی کلي سيستم فناوري اطلاعات سازمان</a:t>
            </a:r>
            <a:endParaRPr b="0" lang="en-US" sz="3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0:21:56Z</dcterms:created>
  <dc:creator>alireza</dc:creator>
  <dc:description/>
  <dc:language>en-US</dc:language>
  <cp:lastModifiedBy>mdavari</cp:lastModifiedBy>
  <dcterms:modified xsi:type="dcterms:W3CDTF">2011-01-10T13:32:26Z</dcterms:modified>
  <cp:revision>226</cp:revision>
  <dc:subject/>
  <dc:title>برنامه‌ريزي استراتژيک فناوري اطلاعات</dc:title>
</cp:coreProperties>
</file>