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previousslide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hyperlink" Target="http://www.prenhall.com/laudon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029200" y="2895480"/>
            <a:ext cx="3657600" cy="3657600"/>
          </a:xfrm>
          <a:custGeom>
            <a:avLst/>
            <a:gdLst>
              <a:gd name="textAreaLeft" fmla="*/ 834840 w 3657600"/>
              <a:gd name="textAreaRight" fmla="*/ 2822760 w 3657600"/>
              <a:gd name="textAreaTop" fmla="*/ 834840 h 3657600"/>
              <a:gd name="textAreaBottom" fmla="*/ 2822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2520" y="6243480"/>
            <a:ext cx="6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244600" y="1770120"/>
            <a:ext cx="4657680" cy="33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Humanst521 BT"/>
              </a:rPr>
              <a:t>3. INFORMATION SYSTEMS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Humanst521 BT"/>
              <a:ea typeface="Humanst521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Humanst521 BT"/>
              </a:rPr>
              <a:t>ORGANIZATIONS, 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Humanst521 BT"/>
              <a:ea typeface="Humanst521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Humanst521 BT"/>
              </a:rPr>
              <a:t>BUSINESS PROCES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Humanst521 BT"/>
              <a:ea typeface="Humanst521 BT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ORGANIZATION &amp; ITS ENVIRONMEN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987560"/>
            <a:ext cx="4572000" cy="3371040"/>
            <a:chOff x="4572000" y="1987560"/>
            <a:chExt cx="4572000" cy="3371040"/>
          </a:xfrm>
        </p:grpSpPr>
        <p:sp>
          <p:nvSpPr>
            <p:cNvPr id="216" name=""/>
            <p:cNvSpPr/>
            <p:nvPr/>
          </p:nvSpPr>
          <p:spPr>
            <a:xfrm>
              <a:off x="5792760" y="1987560"/>
              <a:ext cx="3340080" cy="3340080"/>
            </a:xfrm>
            <a:prstGeom prst="ellipse">
              <a:avLst/>
            </a:prstGeom>
            <a:gradFill rotWithShape="0">
              <a:gsLst>
                <a:gs pos="0">
                  <a:srgbClr val="1c2a4b"/>
                </a:gs>
                <a:gs pos="100000">
                  <a:srgbClr val="618ff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81800" y="3424320"/>
              <a:ext cx="1762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FI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3640" y="2368440"/>
              <a:ext cx="978120" cy="257832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4a4b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4903920"/>
              <a:ext cx="3971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FORMATION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52520" y="1595520"/>
            <a:ext cx="7008840" cy="4348080"/>
            <a:chOff x="452520" y="1595520"/>
            <a:chExt cx="7008840" cy="4348080"/>
          </a:xfrm>
        </p:grpSpPr>
        <p:sp>
          <p:nvSpPr>
            <p:cNvPr id="221" name=""/>
            <p:cNvSpPr/>
            <p:nvPr/>
          </p:nvSpPr>
          <p:spPr>
            <a:xfrm>
              <a:off x="452520" y="1595520"/>
              <a:ext cx="4886280" cy="43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THE ENVIRONMEN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OURCES &amp; CONSTRA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OVERN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ETI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ANCIAL INSTITU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64080" y="2673360"/>
              <a:ext cx="3797280" cy="1282680"/>
            </a:xfrm>
            <a:prstGeom prst="rightArrow">
              <a:avLst>
                <a:gd name="adj1" fmla="val 75000"/>
                <a:gd name="adj2" fmla="val 148035"/>
              </a:avLst>
            </a:prstGeom>
            <a:gradFill rotWithShape="0">
              <a:gsLst>
                <a:gs pos="0">
                  <a:srgbClr val="4a000b"/>
                </a:gs>
                <a:gs pos="50000">
                  <a:srgbClr val="fc0128"/>
                </a:gs>
                <a:gs pos="100000">
                  <a:srgbClr val="4a000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-360" y="0"/>
            <a:ext cx="8366040" cy="6857280"/>
            <a:chOff x="-360" y="0"/>
            <a:chExt cx="8366040" cy="6857280"/>
          </a:xfrm>
        </p:grpSpPr>
        <p:grpSp>
          <p:nvGrpSpPr>
            <p:cNvPr id="225" name=""/>
            <p:cNvGrpSpPr/>
            <p:nvPr/>
          </p:nvGrpSpPr>
          <p:grpSpPr>
            <a:xfrm>
              <a:off x="-360" y="0"/>
              <a:ext cx="8366040" cy="6857280"/>
              <a:chOff x="-360" y="0"/>
              <a:chExt cx="8366040" cy="685728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-720" y="0"/>
                <a:ext cx="8366040" cy="6857280"/>
              </a:xfrm>
              <a:custGeom>
                <a:avLst/>
                <a:gdLst/>
                <a:ahLst/>
                <a:rect l="l" t="t" r="r" b="b"/>
                <a:pathLst>
                  <a:path w="11560" h="4283">
                    <a:moveTo>
                      <a:pt x="0" y="4283"/>
                    </a:moveTo>
                    <a:lnTo>
                      <a:pt x="11560" y="4283"/>
                    </a:lnTo>
                    <a:lnTo>
                      <a:pt x="11560" y="0"/>
                    </a:lnTo>
                    <a:lnTo>
                      <a:pt x="0" y="4283"/>
                    </a:lnTo>
                    <a:close/>
                  </a:path>
                </a:pathLst>
              </a:custGeom>
              <a:solidFill>
                <a:srgbClr val="00c0c0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360" y="3240"/>
                <a:ext cx="8363880" cy="6853680"/>
                <a:chOff x="360" y="3240"/>
                <a:chExt cx="8363880" cy="6853680"/>
              </a:xfrm>
            </p:grpSpPr>
            <p:sp>
              <p:nvSpPr>
                <p:cNvPr id="228" name=""/>
                <p:cNvSpPr/>
                <p:nvPr/>
              </p:nvSpPr>
              <p:spPr>
                <a:xfrm flipH="1" flipV="1">
                  <a:off x="360" y="145800"/>
                  <a:ext cx="8184960" cy="67111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360" y="295560"/>
                  <a:ext cx="8003520" cy="656100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>
                  <a:off x="1800" y="3297960"/>
                  <a:ext cx="4340520" cy="35589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>
                  <a:off x="2880" y="3240"/>
                  <a:ext cx="8361360" cy="68536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>
                  <a:off x="360" y="686520"/>
                  <a:ext cx="7533360" cy="61700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3240" y="460440"/>
                  <a:ext cx="7802640" cy="63961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>
                  <a:off x="360" y="936360"/>
                  <a:ext cx="7225200" cy="59205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>
                  <a:off x="1800" y="1318680"/>
                  <a:ext cx="6757560" cy="55378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>
                  <a:off x="360" y="1672560"/>
                  <a:ext cx="6323400" cy="51793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>
                  <a:off x="360" y="2124000"/>
                  <a:ext cx="5770440" cy="47293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360" y="2673720"/>
                  <a:ext cx="5104800" cy="418320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>
                  <a:off x="360" y="4016520"/>
                  <a:ext cx="3463200" cy="28400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>
                  <a:off x="360" y="4925880"/>
                  <a:ext cx="2354400" cy="19306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360" y="5814360"/>
                  <a:ext cx="1273320" cy="104220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0" y="177840"/>
              <a:ext cx="8108280" cy="6679440"/>
              <a:chOff x="0" y="177840"/>
              <a:chExt cx="8108280" cy="667944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2832480" y="3467880"/>
                <a:ext cx="1393920" cy="33894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049840" y="3381480"/>
                <a:ext cx="2069640" cy="34758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116000" y="3286800"/>
                <a:ext cx="2896200" cy="35704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60" y="3205440"/>
                <a:ext cx="3898800" cy="35654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0" y="3123720"/>
                <a:ext cx="3812400" cy="25488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60" y="3034080"/>
                <a:ext cx="3661560" cy="18698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360" y="2947680"/>
                <a:ext cx="3587760" cy="1319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360" y="2859480"/>
                <a:ext cx="3474720" cy="8341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360" y="2771640"/>
                <a:ext cx="3362040" cy="352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0" y="2640240"/>
                <a:ext cx="3250800" cy="44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360" y="2154600"/>
                <a:ext cx="3130560" cy="4208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360" y="1586520"/>
                <a:ext cx="2984040" cy="866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60" y="1056600"/>
                <a:ext cx="2806200" cy="12535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360" y="660960"/>
                <a:ext cx="2602080" cy="1486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360" y="353880"/>
                <a:ext cx="2332800" cy="15739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360" y="177840"/>
                <a:ext cx="1950840" cy="1439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439080" y="3543120"/>
                <a:ext cx="876960" cy="3314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961800" y="3620160"/>
                <a:ext cx="452880" cy="32371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4410360" y="3712680"/>
                <a:ext cx="114120" cy="31446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37520" y="3799440"/>
                <a:ext cx="146160" cy="30578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45520" y="3893760"/>
                <a:ext cx="413640" cy="29635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58200" y="3980160"/>
                <a:ext cx="672840" cy="28771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72320" y="4076280"/>
                <a:ext cx="932040" cy="27810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79240" y="4164480"/>
                <a:ext cx="1163880" cy="26928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192280" y="4258800"/>
                <a:ext cx="1497960" cy="25984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32680" y="4372560"/>
                <a:ext cx="1881720" cy="24847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578920" y="4580640"/>
                <a:ext cx="1973880" cy="2276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55400" y="4800240"/>
                <a:ext cx="2105640" cy="2057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75880" y="5149080"/>
                <a:ext cx="1832400" cy="1700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ALIENT FEATURES OF ORGANIZA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COMMON FEATURES: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ORMAL STRUCTUR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ANDARD OPERATING PROCEDURES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OLITICS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ULTUR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-360" y="0"/>
            <a:ext cx="8366040" cy="6857280"/>
            <a:chOff x="-360" y="0"/>
            <a:chExt cx="8366040" cy="6857280"/>
          </a:xfrm>
        </p:grpSpPr>
        <p:grpSp>
          <p:nvGrpSpPr>
            <p:cNvPr id="276" name=""/>
            <p:cNvGrpSpPr/>
            <p:nvPr/>
          </p:nvGrpSpPr>
          <p:grpSpPr>
            <a:xfrm>
              <a:off x="-360" y="0"/>
              <a:ext cx="8366040" cy="6857280"/>
              <a:chOff x="-360" y="0"/>
              <a:chExt cx="8366040" cy="6857280"/>
            </a:xfrm>
          </p:grpSpPr>
          <p:sp>
            <p:nvSpPr>
              <p:cNvPr id="277" name=""/>
              <p:cNvSpPr/>
              <p:nvPr/>
            </p:nvSpPr>
            <p:spPr>
              <a:xfrm flipH="1">
                <a:off x="-720" y="0"/>
                <a:ext cx="8366040" cy="6857280"/>
              </a:xfrm>
              <a:custGeom>
                <a:avLst/>
                <a:gdLst/>
                <a:ahLst/>
                <a:rect l="l" t="t" r="r" b="b"/>
                <a:pathLst>
                  <a:path w="11560" h="4283">
                    <a:moveTo>
                      <a:pt x="0" y="4283"/>
                    </a:moveTo>
                    <a:lnTo>
                      <a:pt x="11560" y="4283"/>
                    </a:lnTo>
                    <a:lnTo>
                      <a:pt x="11560" y="0"/>
                    </a:lnTo>
                    <a:lnTo>
                      <a:pt x="0" y="4283"/>
                    </a:lnTo>
                    <a:close/>
                  </a:path>
                </a:pathLst>
              </a:custGeom>
              <a:solidFill>
                <a:srgbClr val="00c0c0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360" y="3240"/>
                <a:ext cx="8363880" cy="6853680"/>
                <a:chOff x="360" y="3240"/>
                <a:chExt cx="8363880" cy="68536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 flipV="1">
                  <a:off x="360" y="145800"/>
                  <a:ext cx="8184960" cy="67111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flipV="1">
                  <a:off x="360" y="295560"/>
                  <a:ext cx="8003520" cy="656100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>
                  <a:off x="1800" y="3297960"/>
                  <a:ext cx="4340520" cy="35589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>
                  <a:off x="2880" y="3240"/>
                  <a:ext cx="8361360" cy="68536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flipV="1">
                  <a:off x="360" y="686520"/>
                  <a:ext cx="7533360" cy="61700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 flipV="1">
                  <a:off x="3240" y="460440"/>
                  <a:ext cx="7802640" cy="63961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>
                  <a:off x="360" y="936360"/>
                  <a:ext cx="7225200" cy="592056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>
                  <a:off x="1800" y="1318680"/>
                  <a:ext cx="6757560" cy="55378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>
                  <a:off x="360" y="1672560"/>
                  <a:ext cx="6323400" cy="51793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>
                  <a:off x="360" y="2124000"/>
                  <a:ext cx="5770440" cy="472932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 flipV="1">
                  <a:off x="360" y="2673720"/>
                  <a:ext cx="5104800" cy="418320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>
                  <a:off x="360" y="4016520"/>
                  <a:ext cx="3463200" cy="284004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>
                  <a:off x="360" y="4925880"/>
                  <a:ext cx="2354400" cy="19306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>
                  <a:off x="360" y="5814360"/>
                  <a:ext cx="1273320" cy="104220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3" name=""/>
            <p:cNvGrpSpPr/>
            <p:nvPr/>
          </p:nvGrpSpPr>
          <p:grpSpPr>
            <a:xfrm>
              <a:off x="0" y="177840"/>
              <a:ext cx="8108280" cy="6679440"/>
              <a:chOff x="0" y="177840"/>
              <a:chExt cx="8108280" cy="667944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2832480" y="3467880"/>
                <a:ext cx="1393920" cy="33894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049840" y="3381480"/>
                <a:ext cx="2069640" cy="34758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1116000" y="3286800"/>
                <a:ext cx="2896200" cy="35704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0" y="3205440"/>
                <a:ext cx="3898800" cy="35654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0" y="3123720"/>
                <a:ext cx="3812400" cy="25488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360" y="3034080"/>
                <a:ext cx="3661560" cy="18698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60" y="2947680"/>
                <a:ext cx="3587760" cy="1319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360" y="2859480"/>
                <a:ext cx="3474720" cy="8341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360" y="2771640"/>
                <a:ext cx="3362040" cy="352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0" y="2640240"/>
                <a:ext cx="3250800" cy="44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360" y="2154600"/>
                <a:ext cx="3130560" cy="4208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360" y="1586520"/>
                <a:ext cx="2984040" cy="866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360" y="1056600"/>
                <a:ext cx="2806200" cy="12535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360" y="660960"/>
                <a:ext cx="2602080" cy="1486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360" y="353880"/>
                <a:ext cx="2332800" cy="15739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360" y="177840"/>
                <a:ext cx="1950840" cy="1439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3439080" y="3543120"/>
                <a:ext cx="876960" cy="3314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961800" y="3620160"/>
                <a:ext cx="452880" cy="32371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4410360" y="3712680"/>
                <a:ext cx="114120" cy="31446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37520" y="3799440"/>
                <a:ext cx="146160" cy="30578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45520" y="3893760"/>
                <a:ext cx="413640" cy="29635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58200" y="3980160"/>
                <a:ext cx="672840" cy="28771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972320" y="4076280"/>
                <a:ext cx="932040" cy="27810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79240" y="4164480"/>
                <a:ext cx="1163880" cy="26928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92280" y="4258800"/>
                <a:ext cx="1497960" cy="25984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32680" y="4372560"/>
                <a:ext cx="1881720" cy="24847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78920" y="4580640"/>
                <a:ext cx="1973880" cy="2276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55400" y="4800240"/>
                <a:ext cx="2105640" cy="2057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75880" y="5149080"/>
                <a:ext cx="1832400" cy="1700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ALIENT FEATURES OF ORGANIZA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UNIQUE FEATURES: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ORGANIZATIONAL TYP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VIRONMENTS, GOALS, POWER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NSTITUENCIES, FUNCTION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EADERSHIP, TASK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ECHNOLOG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EVEL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K GROUPS, PROBLEMS, SYSTEM SUPPOR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HIERARCHICAL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Frequent meetings, workers dispersed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VIDEO CONFERENCING, E-MAIL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INTERDEPARTMENTAL COMMITTEE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Need occasional direct communic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LECTRONIC MESSAGING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578720" y="2371680"/>
            <a:ext cx="1563840" cy="3297600"/>
            <a:chOff x="7578720" y="2371680"/>
            <a:chExt cx="1563840" cy="3297600"/>
          </a:xfrm>
        </p:grpSpPr>
        <p:grpSp>
          <p:nvGrpSpPr>
            <p:cNvPr id="330" name=""/>
            <p:cNvGrpSpPr/>
            <p:nvPr/>
          </p:nvGrpSpPr>
          <p:grpSpPr>
            <a:xfrm>
              <a:off x="7578720" y="2371680"/>
              <a:ext cx="1554120" cy="1220760"/>
              <a:chOff x="7578720" y="2371680"/>
              <a:chExt cx="1554120" cy="1220760"/>
            </a:xfrm>
          </p:grpSpPr>
          <p:sp>
            <p:nvSpPr>
              <p:cNvPr id="331" name=""/>
              <p:cNvSpPr/>
              <p:nvPr/>
            </p:nvSpPr>
            <p:spPr>
              <a:xfrm flipH="1" rot="16200000">
                <a:off x="7611120" y="3216960"/>
                <a:ext cx="58968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16200000">
                <a:off x="7458840" y="2491200"/>
                <a:ext cx="1220760" cy="981360"/>
              </a:xfrm>
              <a:custGeom>
                <a:avLst/>
                <a:gdLst/>
                <a:ahLst/>
                <a:rect l="l" t="t" r="r" b="b"/>
                <a:pathLst>
                  <a:path w="1601" h="656">
                    <a:moveTo>
                      <a:pt x="0" y="656"/>
                    </a:moveTo>
                    <a:lnTo>
                      <a:pt x="1213" y="656"/>
                    </a:lnTo>
                    <a:lnTo>
                      <a:pt x="1436" y="164"/>
                    </a:lnTo>
                    <a:lnTo>
                      <a:pt x="1601" y="164"/>
                    </a:lnTo>
                    <a:lnTo>
                      <a:pt x="1325" y="0"/>
                    </a:lnTo>
                    <a:lnTo>
                      <a:pt x="828" y="164"/>
                    </a:lnTo>
                    <a:lnTo>
                      <a:pt x="1051" y="164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16200000">
                <a:off x="8394480" y="2728440"/>
                <a:ext cx="168840" cy="1307520"/>
              </a:xfrm>
              <a:custGeom>
                <a:avLst/>
                <a:gdLst/>
                <a:ahLst/>
                <a:rect l="l" t="t" r="r" b="b"/>
                <a:pathLst>
                  <a:path w="220" h="877">
                    <a:moveTo>
                      <a:pt x="0" y="493"/>
                    </a:moveTo>
                    <a:lnTo>
                      <a:pt x="0" y="877"/>
                    </a:lnTo>
                    <a:lnTo>
                      <a:pt x="220" y="0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5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16200000">
                <a:off x="8386560" y="2549160"/>
                <a:ext cx="923760" cy="56880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578720" y="3577320"/>
              <a:ext cx="1554120" cy="882720"/>
              <a:chOff x="7578720" y="3577320"/>
              <a:chExt cx="1554120" cy="882720"/>
            </a:xfrm>
          </p:grpSpPr>
          <p:sp>
            <p:nvSpPr>
              <p:cNvPr id="336" name=""/>
              <p:cNvSpPr/>
              <p:nvPr/>
            </p:nvSpPr>
            <p:spPr>
              <a:xfrm flipH="1" rot="16200000">
                <a:off x="7612200" y="3959280"/>
                <a:ext cx="58752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rot="16200000">
                <a:off x="8407080" y="3734280"/>
                <a:ext cx="882720" cy="56880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16200000">
                <a:off x="7628040" y="3528000"/>
                <a:ext cx="882720" cy="981360"/>
              </a:xfrm>
              <a:custGeom>
                <a:avLst/>
                <a:gdLst/>
                <a:ahLst/>
                <a:rect l="l" t="t" r="r" b="b"/>
                <a:pathLst>
                  <a:path w="1158" h="656">
                    <a:moveTo>
                      <a:pt x="0" y="656"/>
                    </a:moveTo>
                    <a:lnTo>
                      <a:pt x="1158" y="656"/>
                    </a:lnTo>
                    <a:lnTo>
                      <a:pt x="773" y="164"/>
                    </a:lnTo>
                    <a:lnTo>
                      <a:pt x="992" y="164"/>
                    </a:lnTo>
                    <a:lnTo>
                      <a:pt x="606" y="0"/>
                    </a:lnTo>
                    <a:lnTo>
                      <a:pt x="221" y="164"/>
                    </a:lnTo>
                    <a:lnTo>
                      <a:pt x="441" y="164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7578720" y="4446360"/>
              <a:ext cx="1563840" cy="1222920"/>
              <a:chOff x="7578720" y="4446360"/>
              <a:chExt cx="1563840" cy="1222920"/>
            </a:xfrm>
          </p:grpSpPr>
          <p:sp>
            <p:nvSpPr>
              <p:cNvPr id="340" name=""/>
              <p:cNvSpPr/>
              <p:nvPr/>
            </p:nvSpPr>
            <p:spPr>
              <a:xfrm flipH="1" rot="16200000">
                <a:off x="7611840" y="4659480"/>
                <a:ext cx="58788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rot="16200000">
                <a:off x="7458840" y="4566240"/>
                <a:ext cx="1221120" cy="981360"/>
              </a:xfrm>
              <a:custGeom>
                <a:avLst/>
                <a:gdLst/>
                <a:ahLst/>
                <a:rect l="l" t="t" r="r" b="b"/>
                <a:pathLst>
                  <a:path w="1602" h="656">
                    <a:moveTo>
                      <a:pt x="1602" y="656"/>
                    </a:moveTo>
                    <a:lnTo>
                      <a:pt x="389" y="656"/>
                    </a:lnTo>
                    <a:lnTo>
                      <a:pt x="166" y="164"/>
                    </a:lnTo>
                    <a:lnTo>
                      <a:pt x="0" y="164"/>
                    </a:lnTo>
                    <a:lnTo>
                      <a:pt x="277" y="0"/>
                    </a:lnTo>
                    <a:lnTo>
                      <a:pt x="774" y="164"/>
                    </a:lnTo>
                    <a:lnTo>
                      <a:pt x="552" y="164"/>
                    </a:lnTo>
                    <a:lnTo>
                      <a:pt x="1602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16200000">
                <a:off x="8395560" y="4001760"/>
                <a:ext cx="166680" cy="1307520"/>
              </a:xfrm>
              <a:custGeom>
                <a:avLst/>
                <a:gdLst/>
                <a:ahLst/>
                <a:rect l="l" t="t" r="r" b="b"/>
                <a:pathLst>
                  <a:path w="220" h="877">
                    <a:moveTo>
                      <a:pt x="220" y="493"/>
                    </a:moveTo>
                    <a:lnTo>
                      <a:pt x="220" y="877"/>
                    </a:lnTo>
                    <a:lnTo>
                      <a:pt x="0" y="0"/>
                    </a:lnTo>
                    <a:lnTo>
                      <a:pt x="220" y="493"/>
                    </a:lnTo>
                    <a:close/>
                  </a:path>
                </a:pathLst>
              </a:custGeom>
              <a:solidFill>
                <a:srgbClr val="5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16200000">
                <a:off x="8389440" y="4916160"/>
                <a:ext cx="928080" cy="57816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K GROUPS, PROBLEMS, SYSTEM SUPPOR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JECT TEAM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Day-to-day interactions, meeting schedul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CHEDULING/COMMUNICATION/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UPPORT SOFTWARE, INTRANET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COMMITTEE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High peak load, intermittent communic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LECTRONIC BULLETIN BOARDS, VIDEO/COMPUTER  CONFERENCING, E-MAIL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578720" y="2371680"/>
            <a:ext cx="1563840" cy="3297600"/>
            <a:chOff x="7578720" y="2371680"/>
            <a:chExt cx="1563840" cy="3297600"/>
          </a:xfrm>
        </p:grpSpPr>
        <p:grpSp>
          <p:nvGrpSpPr>
            <p:cNvPr id="348" name=""/>
            <p:cNvGrpSpPr/>
            <p:nvPr/>
          </p:nvGrpSpPr>
          <p:grpSpPr>
            <a:xfrm>
              <a:off x="7578720" y="2371680"/>
              <a:ext cx="1554120" cy="1220760"/>
              <a:chOff x="7578720" y="2371680"/>
              <a:chExt cx="1554120" cy="1220760"/>
            </a:xfrm>
          </p:grpSpPr>
          <p:sp>
            <p:nvSpPr>
              <p:cNvPr id="349" name=""/>
              <p:cNvSpPr/>
              <p:nvPr/>
            </p:nvSpPr>
            <p:spPr>
              <a:xfrm flipH="1" rot="16200000">
                <a:off x="7611120" y="3216960"/>
                <a:ext cx="58968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16200000">
                <a:off x="7458840" y="2491200"/>
                <a:ext cx="1220760" cy="981360"/>
              </a:xfrm>
              <a:custGeom>
                <a:avLst/>
                <a:gdLst/>
                <a:ahLst/>
                <a:rect l="l" t="t" r="r" b="b"/>
                <a:pathLst>
                  <a:path w="1601" h="656">
                    <a:moveTo>
                      <a:pt x="0" y="656"/>
                    </a:moveTo>
                    <a:lnTo>
                      <a:pt x="1213" y="656"/>
                    </a:lnTo>
                    <a:lnTo>
                      <a:pt x="1436" y="164"/>
                    </a:lnTo>
                    <a:lnTo>
                      <a:pt x="1601" y="164"/>
                    </a:lnTo>
                    <a:lnTo>
                      <a:pt x="1325" y="0"/>
                    </a:lnTo>
                    <a:lnTo>
                      <a:pt x="828" y="164"/>
                    </a:lnTo>
                    <a:lnTo>
                      <a:pt x="1051" y="164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16200000">
                <a:off x="8394480" y="2728440"/>
                <a:ext cx="168840" cy="1307520"/>
              </a:xfrm>
              <a:custGeom>
                <a:avLst/>
                <a:gdLst/>
                <a:ahLst/>
                <a:rect l="l" t="t" r="r" b="b"/>
                <a:pathLst>
                  <a:path w="220" h="877">
                    <a:moveTo>
                      <a:pt x="0" y="493"/>
                    </a:moveTo>
                    <a:lnTo>
                      <a:pt x="0" y="877"/>
                    </a:lnTo>
                    <a:lnTo>
                      <a:pt x="220" y="0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5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16200000">
                <a:off x="8386560" y="2549160"/>
                <a:ext cx="923760" cy="56880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578720" y="3577320"/>
              <a:ext cx="1554120" cy="882720"/>
              <a:chOff x="7578720" y="3577320"/>
              <a:chExt cx="1554120" cy="882720"/>
            </a:xfrm>
          </p:grpSpPr>
          <p:sp>
            <p:nvSpPr>
              <p:cNvPr id="354" name=""/>
              <p:cNvSpPr/>
              <p:nvPr/>
            </p:nvSpPr>
            <p:spPr>
              <a:xfrm flipH="1" rot="16200000">
                <a:off x="7612200" y="3959280"/>
                <a:ext cx="58752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16200000">
                <a:off x="8407080" y="3734280"/>
                <a:ext cx="882720" cy="56880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rot="16200000">
                <a:off x="7628040" y="3528000"/>
                <a:ext cx="882720" cy="981360"/>
              </a:xfrm>
              <a:custGeom>
                <a:avLst/>
                <a:gdLst/>
                <a:ahLst/>
                <a:rect l="l" t="t" r="r" b="b"/>
                <a:pathLst>
                  <a:path w="1158" h="656">
                    <a:moveTo>
                      <a:pt x="0" y="656"/>
                    </a:moveTo>
                    <a:lnTo>
                      <a:pt x="1158" y="656"/>
                    </a:lnTo>
                    <a:lnTo>
                      <a:pt x="773" y="164"/>
                    </a:lnTo>
                    <a:lnTo>
                      <a:pt x="992" y="164"/>
                    </a:lnTo>
                    <a:lnTo>
                      <a:pt x="606" y="0"/>
                    </a:lnTo>
                    <a:lnTo>
                      <a:pt x="221" y="164"/>
                    </a:lnTo>
                    <a:lnTo>
                      <a:pt x="441" y="164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578720" y="4446360"/>
              <a:ext cx="1563840" cy="1222920"/>
              <a:chOff x="7578720" y="4446360"/>
              <a:chExt cx="1563840" cy="1222920"/>
            </a:xfrm>
          </p:grpSpPr>
          <p:sp>
            <p:nvSpPr>
              <p:cNvPr id="358" name=""/>
              <p:cNvSpPr/>
              <p:nvPr/>
            </p:nvSpPr>
            <p:spPr>
              <a:xfrm flipH="1" rot="16200000">
                <a:off x="7611840" y="4659480"/>
                <a:ext cx="58788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16200000">
                <a:off x="7458840" y="4566240"/>
                <a:ext cx="1221120" cy="981360"/>
              </a:xfrm>
              <a:custGeom>
                <a:avLst/>
                <a:gdLst/>
                <a:ahLst/>
                <a:rect l="l" t="t" r="r" b="b"/>
                <a:pathLst>
                  <a:path w="1602" h="656">
                    <a:moveTo>
                      <a:pt x="1602" y="656"/>
                    </a:moveTo>
                    <a:lnTo>
                      <a:pt x="389" y="656"/>
                    </a:lnTo>
                    <a:lnTo>
                      <a:pt x="166" y="164"/>
                    </a:lnTo>
                    <a:lnTo>
                      <a:pt x="0" y="164"/>
                    </a:lnTo>
                    <a:lnTo>
                      <a:pt x="277" y="0"/>
                    </a:lnTo>
                    <a:lnTo>
                      <a:pt x="774" y="164"/>
                    </a:lnTo>
                    <a:lnTo>
                      <a:pt x="552" y="164"/>
                    </a:lnTo>
                    <a:lnTo>
                      <a:pt x="1602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16200000">
                <a:off x="8395560" y="4001760"/>
                <a:ext cx="166680" cy="1307520"/>
              </a:xfrm>
              <a:custGeom>
                <a:avLst/>
                <a:gdLst/>
                <a:ahLst/>
                <a:rect l="l" t="t" r="r" b="b"/>
                <a:pathLst>
                  <a:path w="220" h="877">
                    <a:moveTo>
                      <a:pt x="220" y="493"/>
                    </a:moveTo>
                    <a:lnTo>
                      <a:pt x="220" y="877"/>
                    </a:lnTo>
                    <a:lnTo>
                      <a:pt x="0" y="0"/>
                    </a:lnTo>
                    <a:lnTo>
                      <a:pt x="220" y="493"/>
                    </a:lnTo>
                    <a:close/>
                  </a:path>
                </a:pathLst>
              </a:custGeom>
              <a:solidFill>
                <a:srgbClr val="5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rot="16200000">
                <a:off x="8389440" y="4916160"/>
                <a:ext cx="928080" cy="57816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7578720" y="2371680"/>
            <a:ext cx="1563840" cy="3297600"/>
            <a:chOff x="7578720" y="2371680"/>
            <a:chExt cx="1563840" cy="3297600"/>
          </a:xfrm>
        </p:grpSpPr>
        <p:grpSp>
          <p:nvGrpSpPr>
            <p:cNvPr id="363" name=""/>
            <p:cNvGrpSpPr/>
            <p:nvPr/>
          </p:nvGrpSpPr>
          <p:grpSpPr>
            <a:xfrm>
              <a:off x="7578720" y="2371680"/>
              <a:ext cx="1554120" cy="1220760"/>
              <a:chOff x="7578720" y="2371680"/>
              <a:chExt cx="1554120" cy="1220760"/>
            </a:xfrm>
          </p:grpSpPr>
          <p:sp>
            <p:nvSpPr>
              <p:cNvPr id="364" name=""/>
              <p:cNvSpPr/>
              <p:nvPr/>
            </p:nvSpPr>
            <p:spPr>
              <a:xfrm flipH="1" rot="16200000">
                <a:off x="7611120" y="3216960"/>
                <a:ext cx="58968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rot="16200000">
                <a:off x="7458840" y="2491200"/>
                <a:ext cx="1220760" cy="981360"/>
              </a:xfrm>
              <a:custGeom>
                <a:avLst/>
                <a:gdLst/>
                <a:ahLst/>
                <a:rect l="l" t="t" r="r" b="b"/>
                <a:pathLst>
                  <a:path w="1601" h="656">
                    <a:moveTo>
                      <a:pt x="0" y="656"/>
                    </a:moveTo>
                    <a:lnTo>
                      <a:pt x="1213" y="656"/>
                    </a:lnTo>
                    <a:lnTo>
                      <a:pt x="1436" y="164"/>
                    </a:lnTo>
                    <a:lnTo>
                      <a:pt x="1601" y="164"/>
                    </a:lnTo>
                    <a:lnTo>
                      <a:pt x="1325" y="0"/>
                    </a:lnTo>
                    <a:lnTo>
                      <a:pt x="828" y="164"/>
                    </a:lnTo>
                    <a:lnTo>
                      <a:pt x="1051" y="164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rot="16200000">
                <a:off x="8394480" y="2728440"/>
                <a:ext cx="168840" cy="1307520"/>
              </a:xfrm>
              <a:custGeom>
                <a:avLst/>
                <a:gdLst/>
                <a:ahLst/>
                <a:rect l="l" t="t" r="r" b="b"/>
                <a:pathLst>
                  <a:path w="220" h="877">
                    <a:moveTo>
                      <a:pt x="0" y="493"/>
                    </a:moveTo>
                    <a:lnTo>
                      <a:pt x="0" y="877"/>
                    </a:lnTo>
                    <a:lnTo>
                      <a:pt x="220" y="0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5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rot="16200000">
                <a:off x="8386560" y="2549160"/>
                <a:ext cx="923760" cy="56880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578720" y="3577320"/>
              <a:ext cx="1554120" cy="882720"/>
              <a:chOff x="7578720" y="3577320"/>
              <a:chExt cx="1554120" cy="882720"/>
            </a:xfrm>
          </p:grpSpPr>
          <p:sp>
            <p:nvSpPr>
              <p:cNvPr id="369" name=""/>
              <p:cNvSpPr/>
              <p:nvPr/>
            </p:nvSpPr>
            <p:spPr>
              <a:xfrm flipH="1" rot="16200000">
                <a:off x="7612200" y="3959280"/>
                <a:ext cx="58752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rot="16200000">
                <a:off x="8407080" y="3734280"/>
                <a:ext cx="882720" cy="56880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rot="16200000">
                <a:off x="7628040" y="3528000"/>
                <a:ext cx="882720" cy="981360"/>
              </a:xfrm>
              <a:custGeom>
                <a:avLst/>
                <a:gdLst/>
                <a:ahLst/>
                <a:rect l="l" t="t" r="r" b="b"/>
                <a:pathLst>
                  <a:path w="1158" h="656">
                    <a:moveTo>
                      <a:pt x="0" y="656"/>
                    </a:moveTo>
                    <a:lnTo>
                      <a:pt x="1158" y="656"/>
                    </a:lnTo>
                    <a:lnTo>
                      <a:pt x="773" y="164"/>
                    </a:lnTo>
                    <a:lnTo>
                      <a:pt x="992" y="164"/>
                    </a:lnTo>
                    <a:lnTo>
                      <a:pt x="606" y="0"/>
                    </a:lnTo>
                    <a:lnTo>
                      <a:pt x="221" y="164"/>
                    </a:lnTo>
                    <a:lnTo>
                      <a:pt x="441" y="164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7578720" y="4446360"/>
              <a:ext cx="1563840" cy="1222920"/>
              <a:chOff x="7578720" y="4446360"/>
              <a:chExt cx="1563840" cy="1222920"/>
            </a:xfrm>
          </p:grpSpPr>
          <p:sp>
            <p:nvSpPr>
              <p:cNvPr id="373" name=""/>
              <p:cNvSpPr/>
              <p:nvPr/>
            </p:nvSpPr>
            <p:spPr>
              <a:xfrm flipH="1" rot="16200000">
                <a:off x="7611840" y="4659480"/>
                <a:ext cx="58788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rot="16200000">
                <a:off x="7458840" y="4566240"/>
                <a:ext cx="1221120" cy="981360"/>
              </a:xfrm>
              <a:custGeom>
                <a:avLst/>
                <a:gdLst/>
                <a:ahLst/>
                <a:rect l="l" t="t" r="r" b="b"/>
                <a:pathLst>
                  <a:path w="1602" h="656">
                    <a:moveTo>
                      <a:pt x="1602" y="656"/>
                    </a:moveTo>
                    <a:lnTo>
                      <a:pt x="389" y="656"/>
                    </a:lnTo>
                    <a:lnTo>
                      <a:pt x="166" y="164"/>
                    </a:lnTo>
                    <a:lnTo>
                      <a:pt x="0" y="164"/>
                    </a:lnTo>
                    <a:lnTo>
                      <a:pt x="277" y="0"/>
                    </a:lnTo>
                    <a:lnTo>
                      <a:pt x="774" y="164"/>
                    </a:lnTo>
                    <a:lnTo>
                      <a:pt x="552" y="164"/>
                    </a:lnTo>
                    <a:lnTo>
                      <a:pt x="1602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rot="16200000">
                <a:off x="8395560" y="4001760"/>
                <a:ext cx="166680" cy="1307520"/>
              </a:xfrm>
              <a:custGeom>
                <a:avLst/>
                <a:gdLst/>
                <a:ahLst/>
                <a:rect l="l" t="t" r="r" b="b"/>
                <a:pathLst>
                  <a:path w="220" h="877">
                    <a:moveTo>
                      <a:pt x="220" y="493"/>
                    </a:moveTo>
                    <a:lnTo>
                      <a:pt x="220" y="877"/>
                    </a:lnTo>
                    <a:lnTo>
                      <a:pt x="0" y="0"/>
                    </a:lnTo>
                    <a:lnTo>
                      <a:pt x="220" y="493"/>
                    </a:lnTo>
                    <a:close/>
                  </a:path>
                </a:pathLst>
              </a:custGeom>
              <a:solidFill>
                <a:srgbClr val="5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rot="16200000">
                <a:off x="8389440" y="4916160"/>
                <a:ext cx="928080" cy="57816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ORK GROUPS, PROBLEMS, SYSTEM SUPPOR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ASK FORCES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apid communication, internal/external dat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RAPHICS DISPLAY, INFORMATION/ DOCUMENTATION INTERCHANG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EER GROUP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Intense personal communic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ELEPHONE, E-MAIL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OBLEMS OF ALL WORK GROUP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KING ARRANGEMEN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TENDING MEETING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ONG AGEND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ST OF MEETING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ETWEEN-MEETING ACTIVITI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578720" y="2371680"/>
            <a:ext cx="1563840" cy="3297600"/>
            <a:chOff x="7578720" y="2371680"/>
            <a:chExt cx="1563840" cy="3297600"/>
          </a:xfrm>
        </p:grpSpPr>
        <p:grpSp>
          <p:nvGrpSpPr>
            <p:cNvPr id="384" name=""/>
            <p:cNvGrpSpPr/>
            <p:nvPr/>
          </p:nvGrpSpPr>
          <p:grpSpPr>
            <a:xfrm>
              <a:off x="7578720" y="2371680"/>
              <a:ext cx="1554120" cy="1220760"/>
              <a:chOff x="7578720" y="2371680"/>
              <a:chExt cx="1554120" cy="1220760"/>
            </a:xfrm>
          </p:grpSpPr>
          <p:sp>
            <p:nvSpPr>
              <p:cNvPr id="385" name=""/>
              <p:cNvSpPr/>
              <p:nvPr/>
            </p:nvSpPr>
            <p:spPr>
              <a:xfrm flipH="1" rot="16200000">
                <a:off x="7611120" y="3216960"/>
                <a:ext cx="58968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rot="16200000">
                <a:off x="7458840" y="2491200"/>
                <a:ext cx="1220760" cy="981360"/>
              </a:xfrm>
              <a:custGeom>
                <a:avLst/>
                <a:gdLst/>
                <a:ahLst/>
                <a:rect l="l" t="t" r="r" b="b"/>
                <a:pathLst>
                  <a:path w="1601" h="656">
                    <a:moveTo>
                      <a:pt x="0" y="656"/>
                    </a:moveTo>
                    <a:lnTo>
                      <a:pt x="1213" y="656"/>
                    </a:lnTo>
                    <a:lnTo>
                      <a:pt x="1436" y="164"/>
                    </a:lnTo>
                    <a:lnTo>
                      <a:pt x="1601" y="164"/>
                    </a:lnTo>
                    <a:lnTo>
                      <a:pt x="1325" y="0"/>
                    </a:lnTo>
                    <a:lnTo>
                      <a:pt x="828" y="164"/>
                    </a:lnTo>
                    <a:lnTo>
                      <a:pt x="1051" y="164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rot="16200000">
                <a:off x="8394480" y="2728440"/>
                <a:ext cx="168840" cy="1307520"/>
              </a:xfrm>
              <a:custGeom>
                <a:avLst/>
                <a:gdLst/>
                <a:ahLst/>
                <a:rect l="l" t="t" r="r" b="b"/>
                <a:pathLst>
                  <a:path w="220" h="877">
                    <a:moveTo>
                      <a:pt x="0" y="493"/>
                    </a:moveTo>
                    <a:lnTo>
                      <a:pt x="0" y="877"/>
                    </a:lnTo>
                    <a:lnTo>
                      <a:pt x="220" y="0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5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rot="16200000">
                <a:off x="8386560" y="2549160"/>
                <a:ext cx="923760" cy="56880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578720" y="3577320"/>
              <a:ext cx="1554120" cy="882720"/>
              <a:chOff x="7578720" y="3577320"/>
              <a:chExt cx="1554120" cy="882720"/>
            </a:xfrm>
          </p:grpSpPr>
          <p:sp>
            <p:nvSpPr>
              <p:cNvPr id="390" name=""/>
              <p:cNvSpPr/>
              <p:nvPr/>
            </p:nvSpPr>
            <p:spPr>
              <a:xfrm flipH="1" rot="16200000">
                <a:off x="7612200" y="3959280"/>
                <a:ext cx="58752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16200000">
                <a:off x="8407080" y="3734280"/>
                <a:ext cx="882720" cy="56880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16200000">
                <a:off x="7628040" y="3528000"/>
                <a:ext cx="882720" cy="981360"/>
              </a:xfrm>
              <a:custGeom>
                <a:avLst/>
                <a:gdLst/>
                <a:ahLst/>
                <a:rect l="l" t="t" r="r" b="b"/>
                <a:pathLst>
                  <a:path w="1158" h="656">
                    <a:moveTo>
                      <a:pt x="0" y="656"/>
                    </a:moveTo>
                    <a:lnTo>
                      <a:pt x="1158" y="656"/>
                    </a:lnTo>
                    <a:lnTo>
                      <a:pt x="773" y="164"/>
                    </a:lnTo>
                    <a:lnTo>
                      <a:pt x="992" y="164"/>
                    </a:lnTo>
                    <a:lnTo>
                      <a:pt x="606" y="0"/>
                    </a:lnTo>
                    <a:lnTo>
                      <a:pt x="221" y="164"/>
                    </a:lnTo>
                    <a:lnTo>
                      <a:pt x="441" y="164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578720" y="4446360"/>
              <a:ext cx="1563840" cy="1222920"/>
              <a:chOff x="7578720" y="4446360"/>
              <a:chExt cx="1563840" cy="1222920"/>
            </a:xfrm>
          </p:grpSpPr>
          <p:sp>
            <p:nvSpPr>
              <p:cNvPr id="394" name=""/>
              <p:cNvSpPr/>
              <p:nvPr/>
            </p:nvSpPr>
            <p:spPr>
              <a:xfrm flipH="1" rot="16200000">
                <a:off x="7611840" y="4659480"/>
                <a:ext cx="587880" cy="161280"/>
              </a:xfrm>
              <a:prstGeom prst="rect">
                <a:avLst/>
              </a:pr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 rot="16200000">
                <a:off x="7458840" y="4566240"/>
                <a:ext cx="1221120" cy="981360"/>
              </a:xfrm>
              <a:custGeom>
                <a:avLst/>
                <a:gdLst/>
                <a:ahLst/>
                <a:rect l="l" t="t" r="r" b="b"/>
                <a:pathLst>
                  <a:path w="1602" h="656">
                    <a:moveTo>
                      <a:pt x="1602" y="656"/>
                    </a:moveTo>
                    <a:lnTo>
                      <a:pt x="389" y="656"/>
                    </a:lnTo>
                    <a:lnTo>
                      <a:pt x="166" y="164"/>
                    </a:lnTo>
                    <a:lnTo>
                      <a:pt x="0" y="164"/>
                    </a:lnTo>
                    <a:lnTo>
                      <a:pt x="277" y="0"/>
                    </a:lnTo>
                    <a:lnTo>
                      <a:pt x="774" y="164"/>
                    </a:lnTo>
                    <a:lnTo>
                      <a:pt x="552" y="164"/>
                    </a:lnTo>
                    <a:lnTo>
                      <a:pt x="1602" y="656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rot="16200000">
                <a:off x="8395560" y="4001760"/>
                <a:ext cx="166680" cy="1307520"/>
              </a:xfrm>
              <a:custGeom>
                <a:avLst/>
                <a:gdLst/>
                <a:ahLst/>
                <a:rect l="l" t="t" r="r" b="b"/>
                <a:pathLst>
                  <a:path w="220" h="877">
                    <a:moveTo>
                      <a:pt x="220" y="493"/>
                    </a:moveTo>
                    <a:lnTo>
                      <a:pt x="220" y="877"/>
                    </a:lnTo>
                    <a:lnTo>
                      <a:pt x="0" y="0"/>
                    </a:lnTo>
                    <a:lnTo>
                      <a:pt x="220" y="493"/>
                    </a:lnTo>
                    <a:close/>
                  </a:path>
                </a:pathLst>
              </a:custGeom>
              <a:solidFill>
                <a:srgbClr val="5f0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16200000">
                <a:off x="8389440" y="4916160"/>
                <a:ext cx="928080" cy="578160"/>
              </a:xfrm>
              <a:prstGeom prst="rect">
                <a:avLst/>
              </a:pr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DEVELOPMENT OF INFORMATION ARCHITEC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96200" y="4562640"/>
            <a:ext cx="1990440" cy="1990440"/>
          </a:xfrm>
          <a:custGeom>
            <a:avLst/>
            <a:gdLst>
              <a:gd name="textAreaLeft" fmla="*/ 454320 w 1990440"/>
              <a:gd name="textAreaRight" fmla="*/ 1536120 w 1990440"/>
              <a:gd name="textAreaTop" fmla="*/ 454320 h 1990440"/>
              <a:gd name="textAreaBottom" fmla="*/ 1536120 h 19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1950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ELECTRONIC ACCOUNTING MACHIN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1960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DATA PROCESSING DEPARTMEN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1970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INFORMATION SYSTEM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1980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INFORMATION SYSTEMS &amp; SERVIC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1990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ENTERPRISE-WIDE INFORMATION UTILIT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496200" y="4562640"/>
            <a:ext cx="1990440" cy="1990440"/>
          </a:xfrm>
          <a:custGeom>
            <a:avLst/>
            <a:gdLst>
              <a:gd name="textAreaLeft" fmla="*/ 454320 w 1990440"/>
              <a:gd name="textAreaRight" fmla="*/ 1536120 w 1990440"/>
              <a:gd name="textAreaTop" fmla="*/ 454320 h 1990440"/>
              <a:gd name="textAreaBottom" fmla="*/ 1536120 h 19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NFORMATION SYSTEMS DEPARTMEN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GRAMMER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Write softwar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YSTEMS ANALYST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Translate business problems into solutio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IS MANAGER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Department leader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END USERS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Department reps for whom applications are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eveloped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496200" y="4562640"/>
            <a:ext cx="1990440" cy="1990440"/>
          </a:xfrm>
          <a:custGeom>
            <a:avLst/>
            <a:gdLst>
              <a:gd name="textAreaLeft" fmla="*/ 454320 w 1990440"/>
              <a:gd name="textAreaRight" fmla="*/ 1536120 w 1990440"/>
              <a:gd name="textAreaTop" fmla="*/ 454320 h 1990440"/>
              <a:gd name="textAreaBottom" fmla="*/ 1536120 h 19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WHY ORGANIZATIONS BUILD INFORMATION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Arial"/>
              </a:rPr>
              <a:t>ENVIRONMENTAL FACTORS: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External factors that influence adoption &amp; design of syste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Arial"/>
              </a:rPr>
              <a:t>INSTITUTIONAL FACTORS: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ternal factors that influence adoption &amp; design of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yste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095880" y="4681440"/>
          <a:ext cx="227664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681440"/>
                    <a:ext cx="227664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ESCRIBE CHARACTERISTICS OF ORGANIZATIO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RELATE INFO SYSTEMS TO ORGANIZATIO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MPARE MODELS DESCRIBING SYSTEM ORIGI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520" y="6243480"/>
            <a:ext cx="6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762120" y="457200"/>
            <a:ext cx="685800" cy="8380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OW INFO SYSTEMS AFFECT ORGANIZA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ICROECONOMIC MODEL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nfo technology is a factor of production, like capital &amp; labor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RANSACTION COST THEORY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rms attempt to minimize transaction costs internally &amp; externall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AGENCY THEORY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irm is nexus of contracts among agents who make decisions; IS shrink number of agents &amp; reduce cos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BEHAVIORAL THEORIES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ncepts from Sociology, Psychology, Political Science; Organizations &amp; Information Technology mutually influence each other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457200"/>
            <a:ext cx="685800" cy="8380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OW INFO SYSTEMS AFFECT ORGANIZA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62120" y="457200"/>
            <a:ext cx="685800" cy="8380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OW INFO SYSTEMS AFFECT ORGANIZA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ECISION &amp; CONTROL THEORY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ecisions are made under conditions of risk &amp; uncertainty; centralization &amp; hierarchy reduce uncertaint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OCIOLOGICAL THEORY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ureaucracy, SOPs help stabilize organizations, but slow ability to chang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62120" y="457200"/>
            <a:ext cx="685800" cy="8380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OW INFO SYSTEMS AFFECT ORGANIZA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OSTINDUSTRIAL THEORY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Flatter organizations; dominated by knowledge workers; decentralized decision making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CULTURAL THEORY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nformation technology must fit organization’s culture to be accepted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62120" y="457200"/>
            <a:ext cx="685800" cy="8380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OW INFO SYSTEMS AFFECT ORGANIZA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OLITICAL THEORY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Info systems are outcome of political competition for policies, procedures, resourc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MPLEMENTING CHANGE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530520" y="2235240"/>
            <a:ext cx="2235240" cy="3530520"/>
            <a:chOff x="3530520" y="2235240"/>
            <a:chExt cx="2235240" cy="3530520"/>
          </a:xfrm>
        </p:grpSpPr>
        <p:sp>
          <p:nvSpPr>
            <p:cNvPr id="432" name=""/>
            <p:cNvSpPr/>
            <p:nvPr/>
          </p:nvSpPr>
          <p:spPr>
            <a:xfrm>
              <a:off x="3530520" y="2235240"/>
              <a:ext cx="2235240" cy="3530520"/>
            </a:xfrm>
            <a:prstGeom prst="diamond">
              <a:avLst/>
            </a:prstGeom>
            <a:gradFill rotWithShape="0">
              <a:gsLst>
                <a:gs pos="0">
                  <a:srgbClr val="1c2a4b"/>
                </a:gs>
                <a:gs pos="100000">
                  <a:srgbClr val="618ffd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06840" y="3962520"/>
              <a:ext cx="2082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2463840"/>
              <a:ext cx="0" cy="2997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57080" y="1671480"/>
            <a:ext cx="7858440" cy="5186160"/>
            <a:chOff x="757080" y="1671480"/>
            <a:chExt cx="7858440" cy="5186160"/>
          </a:xfrm>
        </p:grpSpPr>
        <p:sp>
          <p:nvSpPr>
            <p:cNvPr id="436" name=""/>
            <p:cNvSpPr/>
            <p:nvPr/>
          </p:nvSpPr>
          <p:spPr>
            <a:xfrm>
              <a:off x="1846440" y="6494400"/>
              <a:ext cx="5419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urce: Leavitt, Handbook of Organization (196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48280" y="1671480"/>
              <a:ext cx="1152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A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3480" y="3728880"/>
              <a:ext cx="1533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09720" y="3728880"/>
              <a:ext cx="252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52920" y="5938920"/>
              <a:ext cx="214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7080" y="2205000"/>
              <a:ext cx="275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RES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43480" y="4795920"/>
              <a:ext cx="2372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MUTUAL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ADJUSTM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2971800" y="5452920"/>
          <a:ext cx="320040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5452920"/>
                    <a:ext cx="32004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OW WEB AFFECTS ORGANIZA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448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ORE INFO, ANYWHERE, ANYTIM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ORE SCOPE, DEPTH, RANGE OF KNOWLEDG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obal encyclopedia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LOWERS COST, RAISES QUALITY OF INFO DISTRIBUTION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nhances attention span of vendors, customers, employe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MPLICATIONS FOR DESIGN &amp; UNDERSTANDING INFO SYSTEM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149560" y="1751040"/>
            <a:ext cx="4662360" cy="4309920"/>
            <a:chOff x="2149560" y="1751040"/>
            <a:chExt cx="4662360" cy="4309920"/>
          </a:xfrm>
        </p:grpSpPr>
        <p:sp>
          <p:nvSpPr>
            <p:cNvPr id="451" name=""/>
            <p:cNvSpPr/>
            <p:nvPr/>
          </p:nvSpPr>
          <p:spPr>
            <a:xfrm>
              <a:off x="4529160" y="1754280"/>
              <a:ext cx="2282760" cy="2568600"/>
            </a:xfrm>
            <a:custGeom>
              <a:avLst/>
              <a:gdLst/>
              <a:ahLst/>
              <a:rect l="l" t="t" r="r" b="b"/>
              <a:pathLst>
                <a:path w="1438" h="1618">
                  <a:moveTo>
                    <a:pt x="354" y="1617"/>
                  </a:moveTo>
                  <a:lnTo>
                    <a:pt x="525" y="1614"/>
                  </a:lnTo>
                  <a:lnTo>
                    <a:pt x="583" y="1608"/>
                  </a:lnTo>
                  <a:lnTo>
                    <a:pt x="654" y="1596"/>
                  </a:lnTo>
                  <a:lnTo>
                    <a:pt x="709" y="1586"/>
                  </a:lnTo>
                  <a:lnTo>
                    <a:pt x="762" y="1573"/>
                  </a:lnTo>
                  <a:lnTo>
                    <a:pt x="817" y="1556"/>
                  </a:lnTo>
                  <a:lnTo>
                    <a:pt x="865" y="1537"/>
                  </a:lnTo>
                  <a:lnTo>
                    <a:pt x="923" y="1515"/>
                  </a:lnTo>
                  <a:lnTo>
                    <a:pt x="993" y="1482"/>
                  </a:lnTo>
                  <a:lnTo>
                    <a:pt x="1048" y="1452"/>
                  </a:lnTo>
                  <a:lnTo>
                    <a:pt x="1101" y="1418"/>
                  </a:lnTo>
                  <a:lnTo>
                    <a:pt x="1137" y="1390"/>
                  </a:lnTo>
                  <a:lnTo>
                    <a:pt x="1180" y="1357"/>
                  </a:lnTo>
                  <a:lnTo>
                    <a:pt x="1209" y="1332"/>
                  </a:lnTo>
                  <a:lnTo>
                    <a:pt x="1241" y="1296"/>
                  </a:lnTo>
                  <a:lnTo>
                    <a:pt x="1270" y="1263"/>
                  </a:lnTo>
                  <a:lnTo>
                    <a:pt x="1299" y="1227"/>
                  </a:lnTo>
                  <a:lnTo>
                    <a:pt x="1321" y="1198"/>
                  </a:lnTo>
                  <a:lnTo>
                    <a:pt x="1349" y="1156"/>
                  </a:lnTo>
                  <a:lnTo>
                    <a:pt x="1376" y="1112"/>
                  </a:lnTo>
                  <a:lnTo>
                    <a:pt x="1394" y="1067"/>
                  </a:lnTo>
                  <a:lnTo>
                    <a:pt x="1408" y="1028"/>
                  </a:lnTo>
                  <a:lnTo>
                    <a:pt x="1421" y="984"/>
                  </a:lnTo>
                  <a:lnTo>
                    <a:pt x="1432" y="936"/>
                  </a:lnTo>
                  <a:lnTo>
                    <a:pt x="1437" y="875"/>
                  </a:lnTo>
                  <a:lnTo>
                    <a:pt x="1434" y="823"/>
                  </a:lnTo>
                  <a:lnTo>
                    <a:pt x="1426" y="779"/>
                  </a:lnTo>
                  <a:lnTo>
                    <a:pt x="1418" y="734"/>
                  </a:lnTo>
                  <a:lnTo>
                    <a:pt x="1402" y="686"/>
                  </a:lnTo>
                  <a:lnTo>
                    <a:pt x="1388" y="646"/>
                  </a:lnTo>
                  <a:lnTo>
                    <a:pt x="1368" y="609"/>
                  </a:lnTo>
                  <a:lnTo>
                    <a:pt x="1339" y="560"/>
                  </a:lnTo>
                  <a:lnTo>
                    <a:pt x="1303" y="507"/>
                  </a:lnTo>
                  <a:lnTo>
                    <a:pt x="1265" y="463"/>
                  </a:lnTo>
                  <a:lnTo>
                    <a:pt x="1234" y="427"/>
                  </a:lnTo>
                  <a:lnTo>
                    <a:pt x="1194" y="391"/>
                  </a:lnTo>
                  <a:lnTo>
                    <a:pt x="1155" y="362"/>
                  </a:lnTo>
                  <a:lnTo>
                    <a:pt x="1111" y="329"/>
                  </a:lnTo>
                  <a:lnTo>
                    <a:pt x="1054" y="289"/>
                  </a:lnTo>
                  <a:lnTo>
                    <a:pt x="999" y="260"/>
                  </a:lnTo>
                  <a:lnTo>
                    <a:pt x="938" y="228"/>
                  </a:lnTo>
                  <a:lnTo>
                    <a:pt x="810" y="182"/>
                  </a:lnTo>
                  <a:lnTo>
                    <a:pt x="706" y="153"/>
                  </a:lnTo>
                  <a:lnTo>
                    <a:pt x="594" y="131"/>
                  </a:lnTo>
                  <a:lnTo>
                    <a:pt x="503" y="120"/>
                  </a:lnTo>
                  <a:lnTo>
                    <a:pt x="387" y="113"/>
                  </a:lnTo>
                  <a:lnTo>
                    <a:pt x="387" y="0"/>
                  </a:lnTo>
                  <a:lnTo>
                    <a:pt x="0" y="257"/>
                  </a:lnTo>
                  <a:lnTo>
                    <a:pt x="392" y="518"/>
                  </a:lnTo>
                  <a:lnTo>
                    <a:pt x="391" y="402"/>
                  </a:lnTo>
                  <a:lnTo>
                    <a:pt x="507" y="409"/>
                  </a:lnTo>
                  <a:lnTo>
                    <a:pt x="594" y="423"/>
                  </a:lnTo>
                  <a:lnTo>
                    <a:pt x="685" y="445"/>
                  </a:lnTo>
                  <a:lnTo>
                    <a:pt x="810" y="492"/>
                  </a:lnTo>
                  <a:lnTo>
                    <a:pt x="870" y="524"/>
                  </a:lnTo>
                  <a:lnTo>
                    <a:pt x="927" y="558"/>
                  </a:lnTo>
                  <a:lnTo>
                    <a:pt x="974" y="596"/>
                  </a:lnTo>
                  <a:lnTo>
                    <a:pt x="1021" y="634"/>
                  </a:lnTo>
                  <a:lnTo>
                    <a:pt x="1059" y="670"/>
                  </a:lnTo>
                  <a:lnTo>
                    <a:pt x="1090" y="709"/>
                  </a:lnTo>
                  <a:lnTo>
                    <a:pt x="1125" y="756"/>
                  </a:lnTo>
                  <a:lnTo>
                    <a:pt x="1155" y="811"/>
                  </a:lnTo>
                  <a:lnTo>
                    <a:pt x="1177" y="861"/>
                  </a:lnTo>
                  <a:lnTo>
                    <a:pt x="1188" y="909"/>
                  </a:lnTo>
                  <a:lnTo>
                    <a:pt x="1199" y="967"/>
                  </a:lnTo>
                  <a:lnTo>
                    <a:pt x="1200" y="1022"/>
                  </a:lnTo>
                  <a:lnTo>
                    <a:pt x="1198" y="1061"/>
                  </a:lnTo>
                  <a:lnTo>
                    <a:pt x="1192" y="1102"/>
                  </a:lnTo>
                  <a:lnTo>
                    <a:pt x="1177" y="1150"/>
                  </a:lnTo>
                  <a:lnTo>
                    <a:pt x="1159" y="1198"/>
                  </a:lnTo>
                  <a:lnTo>
                    <a:pt x="1137" y="1242"/>
                  </a:lnTo>
                  <a:lnTo>
                    <a:pt x="1108" y="1286"/>
                  </a:lnTo>
                  <a:lnTo>
                    <a:pt x="1056" y="1350"/>
                  </a:lnTo>
                  <a:lnTo>
                    <a:pt x="1013" y="1392"/>
                  </a:lnTo>
                  <a:lnTo>
                    <a:pt x="956" y="1437"/>
                  </a:lnTo>
                  <a:lnTo>
                    <a:pt x="898" y="1476"/>
                  </a:lnTo>
                  <a:lnTo>
                    <a:pt x="854" y="1501"/>
                  </a:lnTo>
                  <a:lnTo>
                    <a:pt x="802" y="1527"/>
                  </a:lnTo>
                  <a:lnTo>
                    <a:pt x="752" y="1546"/>
                  </a:lnTo>
                  <a:lnTo>
                    <a:pt x="712" y="1560"/>
                  </a:lnTo>
                  <a:lnTo>
                    <a:pt x="674" y="1574"/>
                  </a:lnTo>
                  <a:lnTo>
                    <a:pt x="623" y="1583"/>
                  </a:lnTo>
                  <a:lnTo>
                    <a:pt x="577" y="1591"/>
                  </a:lnTo>
                  <a:lnTo>
                    <a:pt x="514" y="1602"/>
                  </a:lnTo>
                  <a:lnTo>
                    <a:pt x="354" y="1617"/>
                  </a:lnTo>
                </a:path>
              </a:pathLst>
            </a:custGeom>
            <a:gradFill rotWithShape="0">
              <a:gsLst>
                <a:gs pos="0">
                  <a:srgbClr val="7e7ebe"/>
                </a:gs>
                <a:gs pos="50000">
                  <a:srgbClr val="000080"/>
                </a:gs>
                <a:gs pos="100000">
                  <a:srgbClr val="7e7e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29160" y="3460680"/>
              <a:ext cx="2282760" cy="2570400"/>
            </a:xfrm>
            <a:custGeom>
              <a:avLst/>
              <a:gdLst/>
              <a:ahLst/>
              <a:rect l="l" t="t" r="r" b="b"/>
              <a:pathLst>
                <a:path w="1438" h="1619">
                  <a:moveTo>
                    <a:pt x="354" y="0"/>
                  </a:moveTo>
                  <a:lnTo>
                    <a:pt x="525" y="4"/>
                  </a:lnTo>
                  <a:lnTo>
                    <a:pt x="583" y="10"/>
                  </a:lnTo>
                  <a:lnTo>
                    <a:pt x="654" y="22"/>
                  </a:lnTo>
                  <a:lnTo>
                    <a:pt x="709" y="32"/>
                  </a:lnTo>
                  <a:lnTo>
                    <a:pt x="762" y="46"/>
                  </a:lnTo>
                  <a:lnTo>
                    <a:pt x="817" y="62"/>
                  </a:lnTo>
                  <a:lnTo>
                    <a:pt x="865" y="80"/>
                  </a:lnTo>
                  <a:lnTo>
                    <a:pt x="923" y="103"/>
                  </a:lnTo>
                  <a:lnTo>
                    <a:pt x="993" y="136"/>
                  </a:lnTo>
                  <a:lnTo>
                    <a:pt x="1048" y="166"/>
                  </a:lnTo>
                  <a:lnTo>
                    <a:pt x="1101" y="200"/>
                  </a:lnTo>
                  <a:lnTo>
                    <a:pt x="1137" y="228"/>
                  </a:lnTo>
                  <a:lnTo>
                    <a:pt x="1180" y="260"/>
                  </a:lnTo>
                  <a:lnTo>
                    <a:pt x="1209" y="286"/>
                  </a:lnTo>
                  <a:lnTo>
                    <a:pt x="1241" y="322"/>
                  </a:lnTo>
                  <a:lnTo>
                    <a:pt x="1270" y="355"/>
                  </a:lnTo>
                  <a:lnTo>
                    <a:pt x="1299" y="391"/>
                  </a:lnTo>
                  <a:lnTo>
                    <a:pt x="1321" y="420"/>
                  </a:lnTo>
                  <a:lnTo>
                    <a:pt x="1349" y="461"/>
                  </a:lnTo>
                  <a:lnTo>
                    <a:pt x="1376" y="507"/>
                  </a:lnTo>
                  <a:lnTo>
                    <a:pt x="1394" y="551"/>
                  </a:lnTo>
                  <a:lnTo>
                    <a:pt x="1408" y="590"/>
                  </a:lnTo>
                  <a:lnTo>
                    <a:pt x="1421" y="634"/>
                  </a:lnTo>
                  <a:lnTo>
                    <a:pt x="1432" y="681"/>
                  </a:lnTo>
                  <a:lnTo>
                    <a:pt x="1437" y="743"/>
                  </a:lnTo>
                  <a:lnTo>
                    <a:pt x="1434" y="795"/>
                  </a:lnTo>
                  <a:lnTo>
                    <a:pt x="1426" y="839"/>
                  </a:lnTo>
                  <a:lnTo>
                    <a:pt x="1418" y="883"/>
                  </a:lnTo>
                  <a:lnTo>
                    <a:pt x="1402" y="932"/>
                  </a:lnTo>
                  <a:lnTo>
                    <a:pt x="1388" y="972"/>
                  </a:lnTo>
                  <a:lnTo>
                    <a:pt x="1368" y="1009"/>
                  </a:lnTo>
                  <a:lnTo>
                    <a:pt x="1339" y="1058"/>
                  </a:lnTo>
                  <a:lnTo>
                    <a:pt x="1303" y="1111"/>
                  </a:lnTo>
                  <a:lnTo>
                    <a:pt x="1265" y="1154"/>
                  </a:lnTo>
                  <a:lnTo>
                    <a:pt x="1234" y="1191"/>
                  </a:lnTo>
                  <a:lnTo>
                    <a:pt x="1194" y="1227"/>
                  </a:lnTo>
                  <a:lnTo>
                    <a:pt x="1155" y="1256"/>
                  </a:lnTo>
                  <a:lnTo>
                    <a:pt x="1111" y="1289"/>
                  </a:lnTo>
                  <a:lnTo>
                    <a:pt x="1054" y="1329"/>
                  </a:lnTo>
                  <a:lnTo>
                    <a:pt x="999" y="1358"/>
                  </a:lnTo>
                  <a:lnTo>
                    <a:pt x="938" y="1390"/>
                  </a:lnTo>
                  <a:lnTo>
                    <a:pt x="810" y="1436"/>
                  </a:lnTo>
                  <a:lnTo>
                    <a:pt x="706" y="1465"/>
                  </a:lnTo>
                  <a:lnTo>
                    <a:pt x="594" y="1487"/>
                  </a:lnTo>
                  <a:lnTo>
                    <a:pt x="503" y="1498"/>
                  </a:lnTo>
                  <a:lnTo>
                    <a:pt x="387" y="1505"/>
                  </a:lnTo>
                  <a:lnTo>
                    <a:pt x="387" y="1618"/>
                  </a:lnTo>
                  <a:lnTo>
                    <a:pt x="0" y="1361"/>
                  </a:lnTo>
                  <a:lnTo>
                    <a:pt x="392" y="1100"/>
                  </a:lnTo>
                  <a:lnTo>
                    <a:pt x="391" y="1216"/>
                  </a:lnTo>
                  <a:lnTo>
                    <a:pt x="507" y="1209"/>
                  </a:lnTo>
                  <a:lnTo>
                    <a:pt x="594" y="1194"/>
                  </a:lnTo>
                  <a:lnTo>
                    <a:pt x="685" y="1173"/>
                  </a:lnTo>
                  <a:lnTo>
                    <a:pt x="810" y="1125"/>
                  </a:lnTo>
                  <a:lnTo>
                    <a:pt x="870" y="1094"/>
                  </a:lnTo>
                  <a:lnTo>
                    <a:pt x="927" y="1060"/>
                  </a:lnTo>
                  <a:lnTo>
                    <a:pt x="974" y="1021"/>
                  </a:lnTo>
                  <a:lnTo>
                    <a:pt x="1021" y="984"/>
                  </a:lnTo>
                  <a:lnTo>
                    <a:pt x="1059" y="949"/>
                  </a:lnTo>
                  <a:lnTo>
                    <a:pt x="1090" y="909"/>
                  </a:lnTo>
                  <a:lnTo>
                    <a:pt x="1125" y="862"/>
                  </a:lnTo>
                  <a:lnTo>
                    <a:pt x="1155" y="807"/>
                  </a:lnTo>
                  <a:lnTo>
                    <a:pt x="1177" y="756"/>
                  </a:lnTo>
                  <a:lnTo>
                    <a:pt x="1188" y="709"/>
                  </a:lnTo>
                  <a:lnTo>
                    <a:pt x="1199" y="651"/>
                  </a:lnTo>
                  <a:lnTo>
                    <a:pt x="1200" y="596"/>
                  </a:lnTo>
                  <a:lnTo>
                    <a:pt x="1198" y="557"/>
                  </a:lnTo>
                  <a:lnTo>
                    <a:pt x="1192" y="516"/>
                  </a:lnTo>
                  <a:lnTo>
                    <a:pt x="1177" y="467"/>
                  </a:lnTo>
                  <a:lnTo>
                    <a:pt x="1159" y="420"/>
                  </a:lnTo>
                  <a:lnTo>
                    <a:pt x="1137" y="375"/>
                  </a:lnTo>
                  <a:lnTo>
                    <a:pt x="1108" y="332"/>
                  </a:lnTo>
                  <a:lnTo>
                    <a:pt x="1056" y="268"/>
                  </a:lnTo>
                  <a:lnTo>
                    <a:pt x="1013" y="225"/>
                  </a:lnTo>
                  <a:lnTo>
                    <a:pt x="956" y="181"/>
                  </a:lnTo>
                  <a:lnTo>
                    <a:pt x="898" y="142"/>
                  </a:lnTo>
                  <a:lnTo>
                    <a:pt x="854" y="117"/>
                  </a:lnTo>
                  <a:lnTo>
                    <a:pt x="802" y="91"/>
                  </a:lnTo>
                  <a:lnTo>
                    <a:pt x="752" y="72"/>
                  </a:lnTo>
                  <a:lnTo>
                    <a:pt x="712" y="57"/>
                  </a:lnTo>
                  <a:lnTo>
                    <a:pt x="674" y="45"/>
                  </a:lnTo>
                  <a:lnTo>
                    <a:pt x="623" y="34"/>
                  </a:lnTo>
                  <a:lnTo>
                    <a:pt x="577" y="27"/>
                  </a:lnTo>
                  <a:lnTo>
                    <a:pt x="514" y="16"/>
                  </a:lnTo>
                  <a:lnTo>
                    <a:pt x="354" y="0"/>
                  </a:lnTo>
                </a:path>
              </a:pathLst>
            </a:custGeom>
            <a:gradFill rotWithShape="0">
              <a:gsLst>
                <a:gs pos="0">
                  <a:srgbClr val="7e7ebe"/>
                </a:gs>
                <a:gs pos="50000">
                  <a:srgbClr val="000080"/>
                </a:gs>
                <a:gs pos="100000">
                  <a:srgbClr val="7e7e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58920" y="3492720"/>
              <a:ext cx="2282760" cy="2568240"/>
            </a:xfrm>
            <a:custGeom>
              <a:avLst/>
              <a:gdLst/>
              <a:ahLst/>
              <a:rect l="l" t="t" r="r" b="b"/>
              <a:pathLst>
                <a:path w="1438" h="1618">
                  <a:moveTo>
                    <a:pt x="1083" y="0"/>
                  </a:moveTo>
                  <a:lnTo>
                    <a:pt x="912" y="3"/>
                  </a:lnTo>
                  <a:lnTo>
                    <a:pt x="854" y="9"/>
                  </a:lnTo>
                  <a:lnTo>
                    <a:pt x="783" y="22"/>
                  </a:lnTo>
                  <a:lnTo>
                    <a:pt x="728" y="31"/>
                  </a:lnTo>
                  <a:lnTo>
                    <a:pt x="675" y="45"/>
                  </a:lnTo>
                  <a:lnTo>
                    <a:pt x="620" y="61"/>
                  </a:lnTo>
                  <a:lnTo>
                    <a:pt x="572" y="80"/>
                  </a:lnTo>
                  <a:lnTo>
                    <a:pt x="514" y="103"/>
                  </a:lnTo>
                  <a:lnTo>
                    <a:pt x="444" y="135"/>
                  </a:lnTo>
                  <a:lnTo>
                    <a:pt x="389" y="165"/>
                  </a:lnTo>
                  <a:lnTo>
                    <a:pt x="336" y="199"/>
                  </a:lnTo>
                  <a:lnTo>
                    <a:pt x="300" y="227"/>
                  </a:lnTo>
                  <a:lnTo>
                    <a:pt x="257" y="260"/>
                  </a:lnTo>
                  <a:lnTo>
                    <a:pt x="227" y="285"/>
                  </a:lnTo>
                  <a:lnTo>
                    <a:pt x="196" y="322"/>
                  </a:lnTo>
                  <a:lnTo>
                    <a:pt x="167" y="354"/>
                  </a:lnTo>
                  <a:lnTo>
                    <a:pt x="138" y="390"/>
                  </a:lnTo>
                  <a:lnTo>
                    <a:pt x="116" y="420"/>
                  </a:lnTo>
                  <a:lnTo>
                    <a:pt x="88" y="461"/>
                  </a:lnTo>
                  <a:lnTo>
                    <a:pt x="61" y="505"/>
                  </a:lnTo>
                  <a:lnTo>
                    <a:pt x="43" y="550"/>
                  </a:lnTo>
                  <a:lnTo>
                    <a:pt x="29" y="589"/>
                  </a:lnTo>
                  <a:lnTo>
                    <a:pt x="15" y="634"/>
                  </a:lnTo>
                  <a:lnTo>
                    <a:pt x="5" y="681"/>
                  </a:lnTo>
                  <a:lnTo>
                    <a:pt x="0" y="742"/>
                  </a:lnTo>
                  <a:lnTo>
                    <a:pt x="3" y="794"/>
                  </a:lnTo>
                  <a:lnTo>
                    <a:pt x="11" y="838"/>
                  </a:lnTo>
                  <a:lnTo>
                    <a:pt x="19" y="883"/>
                  </a:lnTo>
                  <a:lnTo>
                    <a:pt x="35" y="931"/>
                  </a:lnTo>
                  <a:lnTo>
                    <a:pt x="49" y="971"/>
                  </a:lnTo>
                  <a:lnTo>
                    <a:pt x="69" y="1009"/>
                  </a:lnTo>
                  <a:lnTo>
                    <a:pt x="98" y="1057"/>
                  </a:lnTo>
                  <a:lnTo>
                    <a:pt x="134" y="1110"/>
                  </a:lnTo>
                  <a:lnTo>
                    <a:pt x="172" y="1154"/>
                  </a:lnTo>
                  <a:lnTo>
                    <a:pt x="203" y="1190"/>
                  </a:lnTo>
                  <a:lnTo>
                    <a:pt x="243" y="1226"/>
                  </a:lnTo>
                  <a:lnTo>
                    <a:pt x="282" y="1255"/>
                  </a:lnTo>
                  <a:lnTo>
                    <a:pt x="326" y="1288"/>
                  </a:lnTo>
                  <a:lnTo>
                    <a:pt x="383" y="1328"/>
                  </a:lnTo>
                  <a:lnTo>
                    <a:pt x="438" y="1357"/>
                  </a:lnTo>
                  <a:lnTo>
                    <a:pt x="499" y="1390"/>
                  </a:lnTo>
                  <a:lnTo>
                    <a:pt x="626" y="1436"/>
                  </a:lnTo>
                  <a:lnTo>
                    <a:pt x="731" y="1465"/>
                  </a:lnTo>
                  <a:lnTo>
                    <a:pt x="843" y="1486"/>
                  </a:lnTo>
                  <a:lnTo>
                    <a:pt x="934" y="1497"/>
                  </a:lnTo>
                  <a:lnTo>
                    <a:pt x="1050" y="1505"/>
                  </a:lnTo>
                  <a:lnTo>
                    <a:pt x="1050" y="1617"/>
                  </a:lnTo>
                  <a:lnTo>
                    <a:pt x="1437" y="1361"/>
                  </a:lnTo>
                  <a:lnTo>
                    <a:pt x="1045" y="1099"/>
                  </a:lnTo>
                  <a:lnTo>
                    <a:pt x="1046" y="1215"/>
                  </a:lnTo>
                  <a:lnTo>
                    <a:pt x="930" y="1208"/>
                  </a:lnTo>
                  <a:lnTo>
                    <a:pt x="843" y="1194"/>
                  </a:lnTo>
                  <a:lnTo>
                    <a:pt x="752" y="1172"/>
                  </a:lnTo>
                  <a:lnTo>
                    <a:pt x="626" y="1125"/>
                  </a:lnTo>
                  <a:lnTo>
                    <a:pt x="567" y="1093"/>
                  </a:lnTo>
                  <a:lnTo>
                    <a:pt x="510" y="1059"/>
                  </a:lnTo>
                  <a:lnTo>
                    <a:pt x="463" y="1021"/>
                  </a:lnTo>
                  <a:lnTo>
                    <a:pt x="416" y="983"/>
                  </a:lnTo>
                  <a:lnTo>
                    <a:pt x="378" y="947"/>
                  </a:lnTo>
                  <a:lnTo>
                    <a:pt x="347" y="908"/>
                  </a:lnTo>
                  <a:lnTo>
                    <a:pt x="312" y="861"/>
                  </a:lnTo>
                  <a:lnTo>
                    <a:pt x="282" y="807"/>
                  </a:lnTo>
                  <a:lnTo>
                    <a:pt x="260" y="756"/>
                  </a:lnTo>
                  <a:lnTo>
                    <a:pt x="249" y="709"/>
                  </a:lnTo>
                  <a:lnTo>
                    <a:pt x="238" y="651"/>
                  </a:lnTo>
                  <a:lnTo>
                    <a:pt x="237" y="595"/>
                  </a:lnTo>
                  <a:lnTo>
                    <a:pt x="239" y="556"/>
                  </a:lnTo>
                  <a:lnTo>
                    <a:pt x="245" y="515"/>
                  </a:lnTo>
                  <a:lnTo>
                    <a:pt x="260" y="467"/>
                  </a:lnTo>
                  <a:lnTo>
                    <a:pt x="278" y="420"/>
                  </a:lnTo>
                  <a:lnTo>
                    <a:pt x="300" y="375"/>
                  </a:lnTo>
                  <a:lnTo>
                    <a:pt x="329" y="331"/>
                  </a:lnTo>
                  <a:lnTo>
                    <a:pt x="381" y="267"/>
                  </a:lnTo>
                  <a:lnTo>
                    <a:pt x="424" y="225"/>
                  </a:lnTo>
                  <a:lnTo>
                    <a:pt x="481" y="180"/>
                  </a:lnTo>
                  <a:lnTo>
                    <a:pt x="539" y="141"/>
                  </a:lnTo>
                  <a:lnTo>
                    <a:pt x="583" y="116"/>
                  </a:lnTo>
                  <a:lnTo>
                    <a:pt x="635" y="91"/>
                  </a:lnTo>
                  <a:lnTo>
                    <a:pt x="685" y="71"/>
                  </a:lnTo>
                  <a:lnTo>
                    <a:pt x="723" y="57"/>
                  </a:lnTo>
                  <a:lnTo>
                    <a:pt x="763" y="43"/>
                  </a:lnTo>
                  <a:lnTo>
                    <a:pt x="814" y="32"/>
                  </a:lnTo>
                  <a:lnTo>
                    <a:pt x="860" y="26"/>
                  </a:lnTo>
                  <a:lnTo>
                    <a:pt x="923" y="16"/>
                  </a:lnTo>
                  <a:lnTo>
                    <a:pt x="1083" y="0"/>
                  </a:lnTo>
                </a:path>
              </a:pathLst>
            </a:custGeom>
            <a:gradFill rotWithShape="0">
              <a:gsLst>
                <a:gs pos="0">
                  <a:srgbClr val="7e7ebe"/>
                </a:gs>
                <a:gs pos="50000">
                  <a:srgbClr val="000080"/>
                </a:gs>
                <a:gs pos="100000">
                  <a:srgbClr val="7e7e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49560" y="1751040"/>
              <a:ext cx="2282760" cy="2568600"/>
            </a:xfrm>
            <a:custGeom>
              <a:avLst/>
              <a:gdLst/>
              <a:ahLst/>
              <a:rect l="l" t="t" r="r" b="b"/>
              <a:pathLst>
                <a:path w="1438" h="1618">
                  <a:moveTo>
                    <a:pt x="1083" y="1617"/>
                  </a:moveTo>
                  <a:lnTo>
                    <a:pt x="912" y="1613"/>
                  </a:lnTo>
                  <a:lnTo>
                    <a:pt x="854" y="1607"/>
                  </a:lnTo>
                  <a:lnTo>
                    <a:pt x="783" y="1595"/>
                  </a:lnTo>
                  <a:lnTo>
                    <a:pt x="728" y="1585"/>
                  </a:lnTo>
                  <a:lnTo>
                    <a:pt x="675" y="1572"/>
                  </a:lnTo>
                  <a:lnTo>
                    <a:pt x="620" y="1555"/>
                  </a:lnTo>
                  <a:lnTo>
                    <a:pt x="572" y="1537"/>
                  </a:lnTo>
                  <a:lnTo>
                    <a:pt x="514" y="1514"/>
                  </a:lnTo>
                  <a:lnTo>
                    <a:pt x="444" y="1481"/>
                  </a:lnTo>
                  <a:lnTo>
                    <a:pt x="389" y="1451"/>
                  </a:lnTo>
                  <a:lnTo>
                    <a:pt x="336" y="1417"/>
                  </a:lnTo>
                  <a:lnTo>
                    <a:pt x="300" y="1390"/>
                  </a:lnTo>
                  <a:lnTo>
                    <a:pt x="257" y="1357"/>
                  </a:lnTo>
                  <a:lnTo>
                    <a:pt x="228" y="1331"/>
                  </a:lnTo>
                  <a:lnTo>
                    <a:pt x="196" y="1295"/>
                  </a:lnTo>
                  <a:lnTo>
                    <a:pt x="167" y="1262"/>
                  </a:lnTo>
                  <a:lnTo>
                    <a:pt x="138" y="1226"/>
                  </a:lnTo>
                  <a:lnTo>
                    <a:pt x="116" y="1197"/>
                  </a:lnTo>
                  <a:lnTo>
                    <a:pt x="88" y="1156"/>
                  </a:lnTo>
                  <a:lnTo>
                    <a:pt x="61" y="1111"/>
                  </a:lnTo>
                  <a:lnTo>
                    <a:pt x="43" y="1067"/>
                  </a:lnTo>
                  <a:lnTo>
                    <a:pt x="29" y="1028"/>
                  </a:lnTo>
                  <a:lnTo>
                    <a:pt x="15" y="983"/>
                  </a:lnTo>
                  <a:lnTo>
                    <a:pt x="5" y="936"/>
                  </a:lnTo>
                  <a:lnTo>
                    <a:pt x="0" y="874"/>
                  </a:lnTo>
                  <a:lnTo>
                    <a:pt x="3" y="822"/>
                  </a:lnTo>
                  <a:lnTo>
                    <a:pt x="11" y="779"/>
                  </a:lnTo>
                  <a:lnTo>
                    <a:pt x="19" y="734"/>
                  </a:lnTo>
                  <a:lnTo>
                    <a:pt x="35" y="686"/>
                  </a:lnTo>
                  <a:lnTo>
                    <a:pt x="49" y="646"/>
                  </a:lnTo>
                  <a:lnTo>
                    <a:pt x="69" y="608"/>
                  </a:lnTo>
                  <a:lnTo>
                    <a:pt x="98" y="560"/>
                  </a:lnTo>
                  <a:lnTo>
                    <a:pt x="134" y="506"/>
                  </a:lnTo>
                  <a:lnTo>
                    <a:pt x="171" y="463"/>
                  </a:lnTo>
                  <a:lnTo>
                    <a:pt x="203" y="427"/>
                  </a:lnTo>
                  <a:lnTo>
                    <a:pt x="243" y="390"/>
                  </a:lnTo>
                  <a:lnTo>
                    <a:pt x="282" y="361"/>
                  </a:lnTo>
                  <a:lnTo>
                    <a:pt x="326" y="329"/>
                  </a:lnTo>
                  <a:lnTo>
                    <a:pt x="383" y="289"/>
                  </a:lnTo>
                  <a:lnTo>
                    <a:pt x="438" y="260"/>
                  </a:lnTo>
                  <a:lnTo>
                    <a:pt x="499" y="227"/>
                  </a:lnTo>
                  <a:lnTo>
                    <a:pt x="626" y="181"/>
                  </a:lnTo>
                  <a:lnTo>
                    <a:pt x="730" y="152"/>
                  </a:lnTo>
                  <a:lnTo>
                    <a:pt x="843" y="130"/>
                  </a:lnTo>
                  <a:lnTo>
                    <a:pt x="934" y="119"/>
                  </a:lnTo>
                  <a:lnTo>
                    <a:pt x="1050" y="112"/>
                  </a:lnTo>
                  <a:lnTo>
                    <a:pt x="1050" y="0"/>
                  </a:lnTo>
                  <a:lnTo>
                    <a:pt x="1437" y="256"/>
                  </a:lnTo>
                  <a:lnTo>
                    <a:pt x="1045" y="517"/>
                  </a:lnTo>
                  <a:lnTo>
                    <a:pt x="1046" y="401"/>
                  </a:lnTo>
                  <a:lnTo>
                    <a:pt x="930" y="409"/>
                  </a:lnTo>
                  <a:lnTo>
                    <a:pt x="843" y="423"/>
                  </a:lnTo>
                  <a:lnTo>
                    <a:pt x="752" y="445"/>
                  </a:lnTo>
                  <a:lnTo>
                    <a:pt x="626" y="492"/>
                  </a:lnTo>
                  <a:lnTo>
                    <a:pt x="567" y="523"/>
                  </a:lnTo>
                  <a:lnTo>
                    <a:pt x="510" y="557"/>
                  </a:lnTo>
                  <a:lnTo>
                    <a:pt x="463" y="596"/>
                  </a:lnTo>
                  <a:lnTo>
                    <a:pt x="416" y="634"/>
                  </a:lnTo>
                  <a:lnTo>
                    <a:pt x="378" y="670"/>
                  </a:lnTo>
                  <a:lnTo>
                    <a:pt x="347" y="709"/>
                  </a:lnTo>
                  <a:lnTo>
                    <a:pt x="312" y="756"/>
                  </a:lnTo>
                  <a:lnTo>
                    <a:pt x="282" y="810"/>
                  </a:lnTo>
                  <a:lnTo>
                    <a:pt x="260" y="861"/>
                  </a:lnTo>
                  <a:lnTo>
                    <a:pt x="249" y="908"/>
                  </a:lnTo>
                  <a:lnTo>
                    <a:pt x="238" y="966"/>
                  </a:lnTo>
                  <a:lnTo>
                    <a:pt x="237" y="1022"/>
                  </a:lnTo>
                  <a:lnTo>
                    <a:pt x="239" y="1060"/>
                  </a:lnTo>
                  <a:lnTo>
                    <a:pt x="245" y="1102"/>
                  </a:lnTo>
                  <a:lnTo>
                    <a:pt x="260" y="1150"/>
                  </a:lnTo>
                  <a:lnTo>
                    <a:pt x="278" y="1197"/>
                  </a:lnTo>
                  <a:lnTo>
                    <a:pt x="300" y="1242"/>
                  </a:lnTo>
                  <a:lnTo>
                    <a:pt x="329" y="1285"/>
                  </a:lnTo>
                  <a:lnTo>
                    <a:pt x="381" y="1350"/>
                  </a:lnTo>
                  <a:lnTo>
                    <a:pt x="424" y="1392"/>
                  </a:lnTo>
                  <a:lnTo>
                    <a:pt x="481" y="1437"/>
                  </a:lnTo>
                  <a:lnTo>
                    <a:pt x="539" y="1475"/>
                  </a:lnTo>
                  <a:lnTo>
                    <a:pt x="583" y="1501"/>
                  </a:lnTo>
                  <a:lnTo>
                    <a:pt x="635" y="1526"/>
                  </a:lnTo>
                  <a:lnTo>
                    <a:pt x="685" y="1546"/>
                  </a:lnTo>
                  <a:lnTo>
                    <a:pt x="724" y="1560"/>
                  </a:lnTo>
                  <a:lnTo>
                    <a:pt x="763" y="1573"/>
                  </a:lnTo>
                  <a:lnTo>
                    <a:pt x="814" y="1584"/>
                  </a:lnTo>
                  <a:lnTo>
                    <a:pt x="860" y="1590"/>
                  </a:lnTo>
                  <a:lnTo>
                    <a:pt x="923" y="1601"/>
                  </a:lnTo>
                  <a:lnTo>
                    <a:pt x="1083" y="1617"/>
                  </a:lnTo>
                </a:path>
              </a:pathLst>
            </a:custGeom>
            <a:gradFill rotWithShape="0">
              <a:gsLst>
                <a:gs pos="0">
                  <a:srgbClr val="7e7ebe"/>
                </a:gs>
                <a:gs pos="50000">
                  <a:srgbClr val="000080"/>
                </a:gs>
                <a:gs pos="100000">
                  <a:srgbClr val="7e7e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46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ENVIRONMENT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CULTURE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POLITICS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657360" y="0"/>
            <a:ext cx="2109600" cy="2199960"/>
            <a:chOff x="657360" y="0"/>
            <a:chExt cx="2109600" cy="2199960"/>
          </a:xfrm>
        </p:grpSpPr>
        <p:sp>
          <p:nvSpPr>
            <p:cNvPr id="458" name=""/>
            <p:cNvSpPr/>
            <p:nvPr/>
          </p:nvSpPr>
          <p:spPr>
            <a:xfrm>
              <a:off x="1364400" y="0"/>
              <a:ext cx="1352880" cy="1702440"/>
            </a:xfrm>
            <a:custGeom>
              <a:avLst/>
              <a:gdLst/>
              <a:ahLst/>
              <a:rect l="l" t="t" r="r" b="b"/>
              <a:pathLst>
                <a:path w="1307" h="1645">
                  <a:moveTo>
                    <a:pt x="497" y="216"/>
                  </a:moveTo>
                  <a:lnTo>
                    <a:pt x="515" y="219"/>
                  </a:lnTo>
                  <a:lnTo>
                    <a:pt x="539" y="223"/>
                  </a:lnTo>
                  <a:lnTo>
                    <a:pt x="563" y="229"/>
                  </a:lnTo>
                  <a:lnTo>
                    <a:pt x="579" y="233"/>
                  </a:lnTo>
                  <a:lnTo>
                    <a:pt x="599" y="238"/>
                  </a:lnTo>
                  <a:lnTo>
                    <a:pt x="618" y="244"/>
                  </a:lnTo>
                  <a:lnTo>
                    <a:pt x="638" y="250"/>
                  </a:lnTo>
                  <a:lnTo>
                    <a:pt x="656" y="255"/>
                  </a:lnTo>
                  <a:lnTo>
                    <a:pt x="677" y="263"/>
                  </a:lnTo>
                  <a:lnTo>
                    <a:pt x="701" y="273"/>
                  </a:lnTo>
                  <a:lnTo>
                    <a:pt x="722" y="281"/>
                  </a:lnTo>
                  <a:lnTo>
                    <a:pt x="741" y="290"/>
                  </a:lnTo>
                  <a:lnTo>
                    <a:pt x="764" y="300"/>
                  </a:lnTo>
                  <a:lnTo>
                    <a:pt x="786" y="310"/>
                  </a:lnTo>
                  <a:lnTo>
                    <a:pt x="806" y="320"/>
                  </a:lnTo>
                  <a:lnTo>
                    <a:pt x="825" y="332"/>
                  </a:lnTo>
                  <a:lnTo>
                    <a:pt x="842" y="342"/>
                  </a:lnTo>
                  <a:lnTo>
                    <a:pt x="859" y="354"/>
                  </a:lnTo>
                  <a:lnTo>
                    <a:pt x="878" y="365"/>
                  </a:lnTo>
                  <a:lnTo>
                    <a:pt x="898" y="380"/>
                  </a:lnTo>
                  <a:lnTo>
                    <a:pt x="917" y="394"/>
                  </a:lnTo>
                  <a:lnTo>
                    <a:pt x="935" y="408"/>
                  </a:lnTo>
                  <a:lnTo>
                    <a:pt x="952" y="420"/>
                  </a:lnTo>
                  <a:lnTo>
                    <a:pt x="979" y="443"/>
                  </a:lnTo>
                  <a:lnTo>
                    <a:pt x="1007" y="469"/>
                  </a:lnTo>
                  <a:lnTo>
                    <a:pt x="1029" y="489"/>
                  </a:lnTo>
                  <a:lnTo>
                    <a:pt x="1055" y="517"/>
                  </a:lnTo>
                  <a:lnTo>
                    <a:pt x="1072" y="538"/>
                  </a:lnTo>
                  <a:lnTo>
                    <a:pt x="1092" y="562"/>
                  </a:lnTo>
                  <a:lnTo>
                    <a:pt x="1114" y="589"/>
                  </a:lnTo>
                  <a:lnTo>
                    <a:pt x="1132" y="615"/>
                  </a:lnTo>
                  <a:lnTo>
                    <a:pt x="1150" y="644"/>
                  </a:lnTo>
                  <a:lnTo>
                    <a:pt x="1169" y="672"/>
                  </a:lnTo>
                  <a:lnTo>
                    <a:pt x="1185" y="702"/>
                  </a:lnTo>
                  <a:lnTo>
                    <a:pt x="1201" y="727"/>
                  </a:lnTo>
                  <a:lnTo>
                    <a:pt x="1216" y="759"/>
                  </a:lnTo>
                  <a:lnTo>
                    <a:pt x="1229" y="790"/>
                  </a:lnTo>
                  <a:lnTo>
                    <a:pt x="1241" y="822"/>
                  </a:lnTo>
                  <a:lnTo>
                    <a:pt x="1253" y="857"/>
                  </a:lnTo>
                  <a:lnTo>
                    <a:pt x="1268" y="900"/>
                  </a:lnTo>
                  <a:lnTo>
                    <a:pt x="1278" y="939"/>
                  </a:lnTo>
                  <a:lnTo>
                    <a:pt x="1288" y="980"/>
                  </a:lnTo>
                  <a:lnTo>
                    <a:pt x="1293" y="1020"/>
                  </a:lnTo>
                  <a:lnTo>
                    <a:pt x="1300" y="1066"/>
                  </a:lnTo>
                  <a:lnTo>
                    <a:pt x="1305" y="1125"/>
                  </a:lnTo>
                  <a:lnTo>
                    <a:pt x="1306" y="1169"/>
                  </a:lnTo>
                  <a:lnTo>
                    <a:pt x="1305" y="1214"/>
                  </a:lnTo>
                  <a:lnTo>
                    <a:pt x="1301" y="1256"/>
                  </a:lnTo>
                  <a:lnTo>
                    <a:pt x="1296" y="1296"/>
                  </a:lnTo>
                  <a:lnTo>
                    <a:pt x="1291" y="1337"/>
                  </a:lnTo>
                  <a:lnTo>
                    <a:pt x="1282" y="1380"/>
                  </a:lnTo>
                  <a:lnTo>
                    <a:pt x="1270" y="1426"/>
                  </a:lnTo>
                  <a:lnTo>
                    <a:pt x="1255" y="1474"/>
                  </a:lnTo>
                  <a:lnTo>
                    <a:pt x="1240" y="1518"/>
                  </a:lnTo>
                  <a:lnTo>
                    <a:pt x="1224" y="1560"/>
                  </a:lnTo>
                  <a:lnTo>
                    <a:pt x="1199" y="1602"/>
                  </a:lnTo>
                  <a:lnTo>
                    <a:pt x="1174" y="1644"/>
                  </a:lnTo>
                  <a:lnTo>
                    <a:pt x="789" y="1421"/>
                  </a:lnTo>
                  <a:lnTo>
                    <a:pt x="810" y="1379"/>
                  </a:lnTo>
                  <a:lnTo>
                    <a:pt x="824" y="1347"/>
                  </a:lnTo>
                  <a:lnTo>
                    <a:pt x="834" y="1313"/>
                  </a:lnTo>
                  <a:lnTo>
                    <a:pt x="843" y="1279"/>
                  </a:lnTo>
                  <a:lnTo>
                    <a:pt x="849" y="1248"/>
                  </a:lnTo>
                  <a:lnTo>
                    <a:pt x="851" y="1217"/>
                  </a:lnTo>
                  <a:lnTo>
                    <a:pt x="854" y="1187"/>
                  </a:lnTo>
                  <a:lnTo>
                    <a:pt x="854" y="1155"/>
                  </a:lnTo>
                  <a:lnTo>
                    <a:pt x="852" y="1119"/>
                  </a:lnTo>
                  <a:lnTo>
                    <a:pt x="847" y="1083"/>
                  </a:lnTo>
                  <a:lnTo>
                    <a:pt x="840" y="1044"/>
                  </a:lnTo>
                  <a:lnTo>
                    <a:pt x="831" y="1012"/>
                  </a:lnTo>
                  <a:lnTo>
                    <a:pt x="817" y="976"/>
                  </a:lnTo>
                  <a:lnTo>
                    <a:pt x="804" y="945"/>
                  </a:lnTo>
                  <a:lnTo>
                    <a:pt x="788" y="916"/>
                  </a:lnTo>
                  <a:lnTo>
                    <a:pt x="774" y="893"/>
                  </a:lnTo>
                  <a:lnTo>
                    <a:pt x="760" y="874"/>
                  </a:lnTo>
                  <a:lnTo>
                    <a:pt x="746" y="855"/>
                  </a:lnTo>
                  <a:lnTo>
                    <a:pt x="731" y="836"/>
                  </a:lnTo>
                  <a:lnTo>
                    <a:pt x="713" y="816"/>
                  </a:lnTo>
                  <a:lnTo>
                    <a:pt x="698" y="802"/>
                  </a:lnTo>
                  <a:lnTo>
                    <a:pt x="681" y="785"/>
                  </a:lnTo>
                  <a:lnTo>
                    <a:pt x="664" y="770"/>
                  </a:lnTo>
                  <a:lnTo>
                    <a:pt x="644" y="755"/>
                  </a:lnTo>
                  <a:lnTo>
                    <a:pt x="620" y="740"/>
                  </a:lnTo>
                  <a:lnTo>
                    <a:pt x="600" y="726"/>
                  </a:lnTo>
                  <a:lnTo>
                    <a:pt x="583" y="718"/>
                  </a:lnTo>
                  <a:lnTo>
                    <a:pt x="559" y="703"/>
                  </a:lnTo>
                  <a:lnTo>
                    <a:pt x="537" y="695"/>
                  </a:lnTo>
                  <a:lnTo>
                    <a:pt x="518" y="688"/>
                  </a:lnTo>
                  <a:lnTo>
                    <a:pt x="498" y="681"/>
                  </a:lnTo>
                  <a:lnTo>
                    <a:pt x="468" y="674"/>
                  </a:lnTo>
                  <a:lnTo>
                    <a:pt x="440" y="669"/>
                  </a:lnTo>
                  <a:lnTo>
                    <a:pt x="411" y="666"/>
                  </a:lnTo>
                  <a:lnTo>
                    <a:pt x="383" y="664"/>
                  </a:lnTo>
                  <a:lnTo>
                    <a:pt x="367" y="663"/>
                  </a:lnTo>
                  <a:lnTo>
                    <a:pt x="367" y="903"/>
                  </a:lnTo>
                  <a:lnTo>
                    <a:pt x="0" y="458"/>
                  </a:lnTo>
                  <a:lnTo>
                    <a:pt x="366" y="0"/>
                  </a:lnTo>
                  <a:lnTo>
                    <a:pt x="366" y="206"/>
                  </a:lnTo>
                  <a:lnTo>
                    <a:pt x="386" y="207"/>
                  </a:lnTo>
                  <a:lnTo>
                    <a:pt x="414" y="208"/>
                  </a:lnTo>
                  <a:lnTo>
                    <a:pt x="444" y="210"/>
                  </a:lnTo>
                  <a:lnTo>
                    <a:pt x="473" y="213"/>
                  </a:lnTo>
                  <a:lnTo>
                    <a:pt x="497" y="2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68760" y="1257120"/>
              <a:ext cx="1798200" cy="942840"/>
            </a:xfrm>
            <a:custGeom>
              <a:avLst/>
              <a:gdLst/>
              <a:ahLst/>
              <a:rect l="l" t="t" r="r" b="b"/>
              <a:pathLst>
                <a:path w="1737" h="911">
                  <a:moveTo>
                    <a:pt x="872" y="899"/>
                  </a:moveTo>
                  <a:lnTo>
                    <a:pt x="890" y="896"/>
                  </a:lnTo>
                  <a:lnTo>
                    <a:pt x="914" y="892"/>
                  </a:lnTo>
                  <a:lnTo>
                    <a:pt x="938" y="887"/>
                  </a:lnTo>
                  <a:lnTo>
                    <a:pt x="955" y="883"/>
                  </a:lnTo>
                  <a:lnTo>
                    <a:pt x="975" y="878"/>
                  </a:lnTo>
                  <a:lnTo>
                    <a:pt x="994" y="872"/>
                  </a:lnTo>
                  <a:lnTo>
                    <a:pt x="1014" y="867"/>
                  </a:lnTo>
                  <a:lnTo>
                    <a:pt x="1032" y="861"/>
                  </a:lnTo>
                  <a:lnTo>
                    <a:pt x="1052" y="853"/>
                  </a:lnTo>
                  <a:lnTo>
                    <a:pt x="1077" y="845"/>
                  </a:lnTo>
                  <a:lnTo>
                    <a:pt x="1098" y="836"/>
                  </a:lnTo>
                  <a:lnTo>
                    <a:pt x="1118" y="827"/>
                  </a:lnTo>
                  <a:lnTo>
                    <a:pt x="1141" y="817"/>
                  </a:lnTo>
                  <a:lnTo>
                    <a:pt x="1163" y="806"/>
                  </a:lnTo>
                  <a:lnTo>
                    <a:pt x="1183" y="796"/>
                  </a:lnTo>
                  <a:lnTo>
                    <a:pt x="1200" y="784"/>
                  </a:lnTo>
                  <a:lnTo>
                    <a:pt x="1217" y="774"/>
                  </a:lnTo>
                  <a:lnTo>
                    <a:pt x="1234" y="762"/>
                  </a:lnTo>
                  <a:lnTo>
                    <a:pt x="1253" y="751"/>
                  </a:lnTo>
                  <a:lnTo>
                    <a:pt x="1274" y="738"/>
                  </a:lnTo>
                  <a:lnTo>
                    <a:pt x="1293" y="724"/>
                  </a:lnTo>
                  <a:lnTo>
                    <a:pt x="1311" y="710"/>
                  </a:lnTo>
                  <a:lnTo>
                    <a:pt x="1327" y="698"/>
                  </a:lnTo>
                  <a:lnTo>
                    <a:pt x="1355" y="676"/>
                  </a:lnTo>
                  <a:lnTo>
                    <a:pt x="1380" y="654"/>
                  </a:lnTo>
                  <a:lnTo>
                    <a:pt x="1405" y="629"/>
                  </a:lnTo>
                  <a:lnTo>
                    <a:pt x="1430" y="601"/>
                  </a:lnTo>
                  <a:lnTo>
                    <a:pt x="1448" y="580"/>
                  </a:lnTo>
                  <a:lnTo>
                    <a:pt x="1468" y="556"/>
                  </a:lnTo>
                  <a:lnTo>
                    <a:pt x="1490" y="530"/>
                  </a:lnTo>
                  <a:lnTo>
                    <a:pt x="1509" y="505"/>
                  </a:lnTo>
                  <a:lnTo>
                    <a:pt x="1527" y="477"/>
                  </a:lnTo>
                  <a:lnTo>
                    <a:pt x="1549" y="445"/>
                  </a:lnTo>
                  <a:lnTo>
                    <a:pt x="1736" y="554"/>
                  </a:lnTo>
                  <a:lnTo>
                    <a:pt x="1553" y="0"/>
                  </a:lnTo>
                  <a:lnTo>
                    <a:pt x="959" y="105"/>
                  </a:lnTo>
                  <a:lnTo>
                    <a:pt x="1159" y="218"/>
                  </a:lnTo>
                  <a:lnTo>
                    <a:pt x="1142" y="242"/>
                  </a:lnTo>
                  <a:lnTo>
                    <a:pt x="1124" y="263"/>
                  </a:lnTo>
                  <a:lnTo>
                    <a:pt x="1106" y="284"/>
                  </a:lnTo>
                  <a:lnTo>
                    <a:pt x="1088" y="303"/>
                  </a:lnTo>
                  <a:lnTo>
                    <a:pt x="1073" y="318"/>
                  </a:lnTo>
                  <a:lnTo>
                    <a:pt x="1057" y="335"/>
                  </a:lnTo>
                  <a:lnTo>
                    <a:pt x="1039" y="349"/>
                  </a:lnTo>
                  <a:lnTo>
                    <a:pt x="1019" y="364"/>
                  </a:lnTo>
                  <a:lnTo>
                    <a:pt x="995" y="380"/>
                  </a:lnTo>
                  <a:lnTo>
                    <a:pt x="976" y="393"/>
                  </a:lnTo>
                  <a:lnTo>
                    <a:pt x="959" y="402"/>
                  </a:lnTo>
                  <a:lnTo>
                    <a:pt x="934" y="416"/>
                  </a:lnTo>
                  <a:lnTo>
                    <a:pt x="912" y="425"/>
                  </a:lnTo>
                  <a:lnTo>
                    <a:pt x="893" y="431"/>
                  </a:lnTo>
                  <a:lnTo>
                    <a:pt x="873" y="438"/>
                  </a:lnTo>
                  <a:lnTo>
                    <a:pt x="844" y="446"/>
                  </a:lnTo>
                  <a:lnTo>
                    <a:pt x="815" y="450"/>
                  </a:lnTo>
                  <a:lnTo>
                    <a:pt x="786" y="453"/>
                  </a:lnTo>
                  <a:lnTo>
                    <a:pt x="744" y="455"/>
                  </a:lnTo>
                  <a:lnTo>
                    <a:pt x="689" y="456"/>
                  </a:lnTo>
                  <a:lnTo>
                    <a:pt x="646" y="450"/>
                  </a:lnTo>
                  <a:lnTo>
                    <a:pt x="607" y="441"/>
                  </a:lnTo>
                  <a:lnTo>
                    <a:pt x="562" y="428"/>
                  </a:lnTo>
                  <a:lnTo>
                    <a:pt x="523" y="411"/>
                  </a:lnTo>
                  <a:lnTo>
                    <a:pt x="483" y="392"/>
                  </a:lnTo>
                  <a:lnTo>
                    <a:pt x="447" y="369"/>
                  </a:lnTo>
                  <a:lnTo>
                    <a:pt x="412" y="338"/>
                  </a:lnTo>
                  <a:lnTo>
                    <a:pt x="0" y="575"/>
                  </a:lnTo>
                  <a:lnTo>
                    <a:pt x="17" y="595"/>
                  </a:lnTo>
                  <a:lnTo>
                    <a:pt x="41" y="618"/>
                  </a:lnTo>
                  <a:lnTo>
                    <a:pt x="61" y="637"/>
                  </a:lnTo>
                  <a:lnTo>
                    <a:pt x="81" y="656"/>
                  </a:lnTo>
                  <a:lnTo>
                    <a:pt x="101" y="675"/>
                  </a:lnTo>
                  <a:lnTo>
                    <a:pt x="124" y="695"/>
                  </a:lnTo>
                  <a:lnTo>
                    <a:pt x="146" y="712"/>
                  </a:lnTo>
                  <a:lnTo>
                    <a:pt x="168" y="728"/>
                  </a:lnTo>
                  <a:lnTo>
                    <a:pt x="193" y="743"/>
                  </a:lnTo>
                  <a:lnTo>
                    <a:pt x="217" y="760"/>
                  </a:lnTo>
                  <a:lnTo>
                    <a:pt x="242" y="776"/>
                  </a:lnTo>
                  <a:lnTo>
                    <a:pt x="265" y="789"/>
                  </a:lnTo>
                  <a:lnTo>
                    <a:pt x="288" y="802"/>
                  </a:lnTo>
                  <a:lnTo>
                    <a:pt x="310" y="813"/>
                  </a:lnTo>
                  <a:lnTo>
                    <a:pt x="339" y="827"/>
                  </a:lnTo>
                  <a:lnTo>
                    <a:pt x="367" y="839"/>
                  </a:lnTo>
                  <a:lnTo>
                    <a:pt x="399" y="851"/>
                  </a:lnTo>
                  <a:lnTo>
                    <a:pt x="423" y="859"/>
                  </a:lnTo>
                  <a:lnTo>
                    <a:pt x="446" y="868"/>
                  </a:lnTo>
                  <a:lnTo>
                    <a:pt x="473" y="876"/>
                  </a:lnTo>
                  <a:lnTo>
                    <a:pt x="499" y="883"/>
                  </a:lnTo>
                  <a:lnTo>
                    <a:pt x="525" y="889"/>
                  </a:lnTo>
                  <a:lnTo>
                    <a:pt x="554" y="895"/>
                  </a:lnTo>
                  <a:lnTo>
                    <a:pt x="584" y="900"/>
                  </a:lnTo>
                  <a:lnTo>
                    <a:pt x="615" y="904"/>
                  </a:lnTo>
                  <a:lnTo>
                    <a:pt x="647" y="907"/>
                  </a:lnTo>
                  <a:lnTo>
                    <a:pt x="671" y="908"/>
                  </a:lnTo>
                  <a:lnTo>
                    <a:pt x="704" y="910"/>
                  </a:lnTo>
                  <a:lnTo>
                    <a:pt x="736" y="910"/>
                  </a:lnTo>
                  <a:lnTo>
                    <a:pt x="761" y="909"/>
                  </a:lnTo>
                  <a:lnTo>
                    <a:pt x="789" y="908"/>
                  </a:lnTo>
                  <a:lnTo>
                    <a:pt x="820" y="906"/>
                  </a:lnTo>
                  <a:lnTo>
                    <a:pt x="848" y="902"/>
                  </a:lnTo>
                  <a:lnTo>
                    <a:pt x="872" y="899"/>
                  </a:lnTo>
                </a:path>
              </a:pathLst>
            </a:custGeom>
            <a:gradFill rotWithShape="0">
              <a:gsLst>
                <a:gs pos="0">
                  <a:srgbClr val="00004b"/>
                </a:gs>
                <a:gs pos="50000">
                  <a:srgbClr val="0000ff"/>
                </a:gs>
                <a:gs pos="100000">
                  <a:srgbClr val="0000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7360" y="229320"/>
              <a:ext cx="908640" cy="1685880"/>
            </a:xfrm>
            <a:custGeom>
              <a:avLst/>
              <a:gdLst/>
              <a:ahLst/>
              <a:rect l="l" t="t" r="r" b="b"/>
              <a:pathLst>
                <a:path w="878" h="1629">
                  <a:moveTo>
                    <a:pt x="877" y="0"/>
                  </a:moveTo>
                  <a:lnTo>
                    <a:pt x="858" y="3"/>
                  </a:lnTo>
                  <a:lnTo>
                    <a:pt x="839" y="6"/>
                  </a:lnTo>
                  <a:lnTo>
                    <a:pt x="814" y="12"/>
                  </a:lnTo>
                  <a:lnTo>
                    <a:pt x="795" y="16"/>
                  </a:lnTo>
                  <a:lnTo>
                    <a:pt x="775" y="22"/>
                  </a:lnTo>
                  <a:lnTo>
                    <a:pt x="756" y="28"/>
                  </a:lnTo>
                  <a:lnTo>
                    <a:pt x="736" y="33"/>
                  </a:lnTo>
                  <a:lnTo>
                    <a:pt x="717" y="39"/>
                  </a:lnTo>
                  <a:lnTo>
                    <a:pt x="698" y="47"/>
                  </a:lnTo>
                  <a:lnTo>
                    <a:pt x="674" y="56"/>
                  </a:lnTo>
                  <a:lnTo>
                    <a:pt x="654" y="65"/>
                  </a:lnTo>
                  <a:lnTo>
                    <a:pt x="633" y="74"/>
                  </a:lnTo>
                  <a:lnTo>
                    <a:pt x="611" y="84"/>
                  </a:lnTo>
                  <a:lnTo>
                    <a:pt x="590" y="95"/>
                  </a:lnTo>
                  <a:lnTo>
                    <a:pt x="570" y="104"/>
                  </a:lnTo>
                  <a:lnTo>
                    <a:pt x="551" y="116"/>
                  </a:lnTo>
                  <a:lnTo>
                    <a:pt x="534" y="126"/>
                  </a:lnTo>
                  <a:lnTo>
                    <a:pt x="517" y="138"/>
                  </a:lnTo>
                  <a:lnTo>
                    <a:pt x="498" y="149"/>
                  </a:lnTo>
                  <a:lnTo>
                    <a:pt x="478" y="163"/>
                  </a:lnTo>
                  <a:lnTo>
                    <a:pt x="459" y="178"/>
                  </a:lnTo>
                  <a:lnTo>
                    <a:pt x="441" y="192"/>
                  </a:lnTo>
                  <a:lnTo>
                    <a:pt x="424" y="204"/>
                  </a:lnTo>
                  <a:lnTo>
                    <a:pt x="396" y="227"/>
                  </a:lnTo>
                  <a:lnTo>
                    <a:pt x="369" y="254"/>
                  </a:lnTo>
                  <a:lnTo>
                    <a:pt x="347" y="274"/>
                  </a:lnTo>
                  <a:lnTo>
                    <a:pt x="321" y="303"/>
                  </a:lnTo>
                  <a:lnTo>
                    <a:pt x="303" y="323"/>
                  </a:lnTo>
                  <a:lnTo>
                    <a:pt x="283" y="347"/>
                  </a:lnTo>
                  <a:lnTo>
                    <a:pt x="262" y="374"/>
                  </a:lnTo>
                  <a:lnTo>
                    <a:pt x="244" y="399"/>
                  </a:lnTo>
                  <a:lnTo>
                    <a:pt x="226" y="428"/>
                  </a:lnTo>
                  <a:lnTo>
                    <a:pt x="208" y="456"/>
                  </a:lnTo>
                  <a:lnTo>
                    <a:pt x="190" y="486"/>
                  </a:lnTo>
                  <a:lnTo>
                    <a:pt x="175" y="511"/>
                  </a:lnTo>
                  <a:lnTo>
                    <a:pt x="162" y="543"/>
                  </a:lnTo>
                  <a:lnTo>
                    <a:pt x="148" y="574"/>
                  </a:lnTo>
                  <a:lnTo>
                    <a:pt x="136" y="606"/>
                  </a:lnTo>
                  <a:lnTo>
                    <a:pt x="124" y="641"/>
                  </a:lnTo>
                  <a:lnTo>
                    <a:pt x="109" y="684"/>
                  </a:lnTo>
                  <a:lnTo>
                    <a:pt x="99" y="723"/>
                  </a:lnTo>
                  <a:lnTo>
                    <a:pt x="89" y="764"/>
                  </a:lnTo>
                  <a:lnTo>
                    <a:pt x="84" y="804"/>
                  </a:lnTo>
                  <a:lnTo>
                    <a:pt x="77" y="850"/>
                  </a:lnTo>
                  <a:lnTo>
                    <a:pt x="72" y="908"/>
                  </a:lnTo>
                  <a:lnTo>
                    <a:pt x="71" y="953"/>
                  </a:lnTo>
                  <a:lnTo>
                    <a:pt x="72" y="998"/>
                  </a:lnTo>
                  <a:lnTo>
                    <a:pt x="76" y="1041"/>
                  </a:lnTo>
                  <a:lnTo>
                    <a:pt x="81" y="1081"/>
                  </a:lnTo>
                  <a:lnTo>
                    <a:pt x="86" y="1122"/>
                  </a:lnTo>
                  <a:lnTo>
                    <a:pt x="95" y="1165"/>
                  </a:lnTo>
                  <a:lnTo>
                    <a:pt x="107" y="1211"/>
                  </a:lnTo>
                  <a:lnTo>
                    <a:pt x="122" y="1258"/>
                  </a:lnTo>
                  <a:lnTo>
                    <a:pt x="137" y="1302"/>
                  </a:lnTo>
                  <a:lnTo>
                    <a:pt x="154" y="1344"/>
                  </a:lnTo>
                  <a:lnTo>
                    <a:pt x="173" y="1386"/>
                  </a:lnTo>
                  <a:lnTo>
                    <a:pt x="197" y="1426"/>
                  </a:lnTo>
                  <a:lnTo>
                    <a:pt x="0" y="1538"/>
                  </a:lnTo>
                  <a:lnTo>
                    <a:pt x="602" y="1628"/>
                  </a:lnTo>
                  <a:lnTo>
                    <a:pt x="822" y="1073"/>
                  </a:lnTo>
                  <a:lnTo>
                    <a:pt x="592" y="1197"/>
                  </a:lnTo>
                  <a:lnTo>
                    <a:pt x="569" y="1161"/>
                  </a:lnTo>
                  <a:lnTo>
                    <a:pt x="555" y="1129"/>
                  </a:lnTo>
                  <a:lnTo>
                    <a:pt x="542" y="1097"/>
                  </a:lnTo>
                  <a:lnTo>
                    <a:pt x="533" y="1064"/>
                  </a:lnTo>
                  <a:lnTo>
                    <a:pt x="527" y="1032"/>
                  </a:lnTo>
                  <a:lnTo>
                    <a:pt x="525" y="1001"/>
                  </a:lnTo>
                  <a:lnTo>
                    <a:pt x="522" y="970"/>
                  </a:lnTo>
                  <a:lnTo>
                    <a:pt x="522" y="939"/>
                  </a:lnTo>
                  <a:lnTo>
                    <a:pt x="524" y="903"/>
                  </a:lnTo>
                  <a:lnTo>
                    <a:pt x="528" y="867"/>
                  </a:lnTo>
                  <a:lnTo>
                    <a:pt x="536" y="828"/>
                  </a:lnTo>
                  <a:lnTo>
                    <a:pt x="545" y="796"/>
                  </a:lnTo>
                  <a:lnTo>
                    <a:pt x="559" y="760"/>
                  </a:lnTo>
                  <a:lnTo>
                    <a:pt x="571" y="729"/>
                  </a:lnTo>
                  <a:lnTo>
                    <a:pt x="588" y="700"/>
                  </a:lnTo>
                  <a:lnTo>
                    <a:pt x="602" y="677"/>
                  </a:lnTo>
                  <a:lnTo>
                    <a:pt x="615" y="658"/>
                  </a:lnTo>
                  <a:lnTo>
                    <a:pt x="629" y="639"/>
                  </a:lnTo>
                  <a:lnTo>
                    <a:pt x="645" y="620"/>
                  </a:lnTo>
                  <a:lnTo>
                    <a:pt x="662" y="600"/>
                  </a:lnTo>
                  <a:lnTo>
                    <a:pt x="677" y="586"/>
                  </a:lnTo>
                  <a:lnTo>
                    <a:pt x="694" y="568"/>
                  </a:lnTo>
                  <a:lnTo>
                    <a:pt x="711" y="554"/>
                  </a:lnTo>
                  <a:lnTo>
                    <a:pt x="730" y="539"/>
                  </a:lnTo>
                  <a:lnTo>
                    <a:pt x="754" y="523"/>
                  </a:lnTo>
                  <a:lnTo>
                    <a:pt x="774" y="510"/>
                  </a:lnTo>
                  <a:lnTo>
                    <a:pt x="791" y="501"/>
                  </a:lnTo>
                  <a:lnTo>
                    <a:pt x="816" y="487"/>
                  </a:lnTo>
                  <a:lnTo>
                    <a:pt x="839" y="477"/>
                  </a:lnTo>
                  <a:lnTo>
                    <a:pt x="877" y="466"/>
                  </a:lnTo>
                  <a:lnTo>
                    <a:pt x="877" y="0"/>
                  </a:lnTo>
                </a:path>
              </a:pathLst>
            </a:custGeom>
            <a:gradFill rotWithShape="0">
              <a:gsLst>
                <a:gs pos="0">
                  <a:srgbClr val="002600"/>
                </a:gs>
                <a:gs pos="50000">
                  <a:srgbClr val="008000"/>
                </a:gs>
                <a:gs pos="100000">
                  <a:srgbClr val="00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64400" y="0"/>
              <a:ext cx="1352880" cy="1525320"/>
            </a:xfrm>
            <a:custGeom>
              <a:avLst/>
              <a:gdLst/>
              <a:ahLst/>
              <a:rect l="l" t="t" r="r" b="b"/>
              <a:pathLst>
                <a:path w="1307" h="1474">
                  <a:moveTo>
                    <a:pt x="497" y="216"/>
                  </a:moveTo>
                  <a:lnTo>
                    <a:pt x="515" y="219"/>
                  </a:lnTo>
                  <a:lnTo>
                    <a:pt x="539" y="223"/>
                  </a:lnTo>
                  <a:lnTo>
                    <a:pt x="563" y="229"/>
                  </a:lnTo>
                  <a:lnTo>
                    <a:pt x="579" y="233"/>
                  </a:lnTo>
                  <a:lnTo>
                    <a:pt x="599" y="238"/>
                  </a:lnTo>
                  <a:lnTo>
                    <a:pt x="618" y="244"/>
                  </a:lnTo>
                  <a:lnTo>
                    <a:pt x="638" y="250"/>
                  </a:lnTo>
                  <a:lnTo>
                    <a:pt x="656" y="255"/>
                  </a:lnTo>
                  <a:lnTo>
                    <a:pt x="677" y="263"/>
                  </a:lnTo>
                  <a:lnTo>
                    <a:pt x="701" y="273"/>
                  </a:lnTo>
                  <a:lnTo>
                    <a:pt x="722" y="280"/>
                  </a:lnTo>
                  <a:lnTo>
                    <a:pt x="741" y="289"/>
                  </a:lnTo>
                  <a:lnTo>
                    <a:pt x="764" y="299"/>
                  </a:lnTo>
                  <a:lnTo>
                    <a:pt x="786" y="310"/>
                  </a:lnTo>
                  <a:lnTo>
                    <a:pt x="806" y="320"/>
                  </a:lnTo>
                  <a:lnTo>
                    <a:pt x="825" y="332"/>
                  </a:lnTo>
                  <a:lnTo>
                    <a:pt x="842" y="342"/>
                  </a:lnTo>
                  <a:lnTo>
                    <a:pt x="859" y="354"/>
                  </a:lnTo>
                  <a:lnTo>
                    <a:pt x="878" y="365"/>
                  </a:lnTo>
                  <a:lnTo>
                    <a:pt x="898" y="379"/>
                  </a:lnTo>
                  <a:lnTo>
                    <a:pt x="917" y="393"/>
                  </a:lnTo>
                  <a:lnTo>
                    <a:pt x="935" y="407"/>
                  </a:lnTo>
                  <a:lnTo>
                    <a:pt x="952" y="420"/>
                  </a:lnTo>
                  <a:lnTo>
                    <a:pt x="979" y="443"/>
                  </a:lnTo>
                  <a:lnTo>
                    <a:pt x="1007" y="468"/>
                  </a:lnTo>
                  <a:lnTo>
                    <a:pt x="1029" y="488"/>
                  </a:lnTo>
                  <a:lnTo>
                    <a:pt x="1055" y="517"/>
                  </a:lnTo>
                  <a:lnTo>
                    <a:pt x="1072" y="538"/>
                  </a:lnTo>
                  <a:lnTo>
                    <a:pt x="1092" y="562"/>
                  </a:lnTo>
                  <a:lnTo>
                    <a:pt x="1114" y="589"/>
                  </a:lnTo>
                  <a:lnTo>
                    <a:pt x="1132" y="615"/>
                  </a:lnTo>
                  <a:lnTo>
                    <a:pt x="1150" y="644"/>
                  </a:lnTo>
                  <a:lnTo>
                    <a:pt x="1169" y="671"/>
                  </a:lnTo>
                  <a:lnTo>
                    <a:pt x="1185" y="701"/>
                  </a:lnTo>
                  <a:lnTo>
                    <a:pt x="1201" y="727"/>
                  </a:lnTo>
                  <a:lnTo>
                    <a:pt x="1216" y="759"/>
                  </a:lnTo>
                  <a:lnTo>
                    <a:pt x="1229" y="790"/>
                  </a:lnTo>
                  <a:lnTo>
                    <a:pt x="1241" y="822"/>
                  </a:lnTo>
                  <a:lnTo>
                    <a:pt x="1253" y="856"/>
                  </a:lnTo>
                  <a:lnTo>
                    <a:pt x="1268" y="899"/>
                  </a:lnTo>
                  <a:lnTo>
                    <a:pt x="1278" y="939"/>
                  </a:lnTo>
                  <a:lnTo>
                    <a:pt x="1288" y="980"/>
                  </a:lnTo>
                  <a:lnTo>
                    <a:pt x="1293" y="1019"/>
                  </a:lnTo>
                  <a:lnTo>
                    <a:pt x="1300" y="1065"/>
                  </a:lnTo>
                  <a:lnTo>
                    <a:pt x="1305" y="1123"/>
                  </a:lnTo>
                  <a:lnTo>
                    <a:pt x="1306" y="1168"/>
                  </a:lnTo>
                  <a:lnTo>
                    <a:pt x="1305" y="1212"/>
                  </a:lnTo>
                  <a:lnTo>
                    <a:pt x="1301" y="1255"/>
                  </a:lnTo>
                  <a:lnTo>
                    <a:pt x="1296" y="1295"/>
                  </a:lnTo>
                  <a:lnTo>
                    <a:pt x="1291" y="1337"/>
                  </a:lnTo>
                  <a:lnTo>
                    <a:pt x="1282" y="1380"/>
                  </a:lnTo>
                  <a:lnTo>
                    <a:pt x="1270" y="1425"/>
                  </a:lnTo>
                  <a:lnTo>
                    <a:pt x="1255" y="1473"/>
                  </a:lnTo>
                  <a:lnTo>
                    <a:pt x="1170" y="1206"/>
                  </a:lnTo>
                  <a:lnTo>
                    <a:pt x="844" y="1262"/>
                  </a:lnTo>
                  <a:lnTo>
                    <a:pt x="851" y="1215"/>
                  </a:lnTo>
                  <a:lnTo>
                    <a:pt x="854" y="1186"/>
                  </a:lnTo>
                  <a:lnTo>
                    <a:pt x="854" y="1154"/>
                  </a:lnTo>
                  <a:lnTo>
                    <a:pt x="852" y="1117"/>
                  </a:lnTo>
                  <a:lnTo>
                    <a:pt x="847" y="1082"/>
                  </a:lnTo>
                  <a:lnTo>
                    <a:pt x="840" y="1043"/>
                  </a:lnTo>
                  <a:lnTo>
                    <a:pt x="831" y="1012"/>
                  </a:lnTo>
                  <a:lnTo>
                    <a:pt x="817" y="976"/>
                  </a:lnTo>
                  <a:lnTo>
                    <a:pt x="804" y="945"/>
                  </a:lnTo>
                  <a:lnTo>
                    <a:pt x="788" y="915"/>
                  </a:lnTo>
                  <a:lnTo>
                    <a:pt x="774" y="892"/>
                  </a:lnTo>
                  <a:lnTo>
                    <a:pt x="760" y="873"/>
                  </a:lnTo>
                  <a:lnTo>
                    <a:pt x="746" y="854"/>
                  </a:lnTo>
                  <a:lnTo>
                    <a:pt x="731" y="835"/>
                  </a:lnTo>
                  <a:lnTo>
                    <a:pt x="713" y="816"/>
                  </a:lnTo>
                  <a:lnTo>
                    <a:pt x="698" y="802"/>
                  </a:lnTo>
                  <a:lnTo>
                    <a:pt x="681" y="785"/>
                  </a:lnTo>
                  <a:lnTo>
                    <a:pt x="664" y="770"/>
                  </a:lnTo>
                  <a:lnTo>
                    <a:pt x="644" y="755"/>
                  </a:lnTo>
                  <a:lnTo>
                    <a:pt x="620" y="740"/>
                  </a:lnTo>
                  <a:lnTo>
                    <a:pt x="600" y="726"/>
                  </a:lnTo>
                  <a:lnTo>
                    <a:pt x="583" y="717"/>
                  </a:lnTo>
                  <a:lnTo>
                    <a:pt x="559" y="702"/>
                  </a:lnTo>
                  <a:lnTo>
                    <a:pt x="537" y="694"/>
                  </a:lnTo>
                  <a:lnTo>
                    <a:pt x="518" y="687"/>
                  </a:lnTo>
                  <a:lnTo>
                    <a:pt x="498" y="680"/>
                  </a:lnTo>
                  <a:lnTo>
                    <a:pt x="468" y="673"/>
                  </a:lnTo>
                  <a:lnTo>
                    <a:pt x="440" y="668"/>
                  </a:lnTo>
                  <a:lnTo>
                    <a:pt x="411" y="665"/>
                  </a:lnTo>
                  <a:lnTo>
                    <a:pt x="383" y="663"/>
                  </a:lnTo>
                  <a:lnTo>
                    <a:pt x="367" y="662"/>
                  </a:lnTo>
                  <a:lnTo>
                    <a:pt x="367" y="902"/>
                  </a:lnTo>
                  <a:lnTo>
                    <a:pt x="0" y="458"/>
                  </a:lnTo>
                  <a:lnTo>
                    <a:pt x="366" y="0"/>
                  </a:lnTo>
                  <a:lnTo>
                    <a:pt x="366" y="206"/>
                  </a:lnTo>
                  <a:lnTo>
                    <a:pt x="386" y="207"/>
                  </a:lnTo>
                  <a:lnTo>
                    <a:pt x="414" y="208"/>
                  </a:lnTo>
                  <a:lnTo>
                    <a:pt x="444" y="210"/>
                  </a:lnTo>
                  <a:lnTo>
                    <a:pt x="473" y="213"/>
                  </a:lnTo>
                  <a:lnTo>
                    <a:pt x="497" y="216"/>
                  </a:lnTo>
                </a:path>
              </a:pathLst>
            </a:custGeom>
            <a:gradFill rotWithShape="0">
              <a:gsLst>
                <a:gs pos="0">
                  <a:srgbClr val="4b0000"/>
                </a:gs>
                <a:gs pos="50000">
                  <a:srgbClr val="ff0000"/>
                </a:gs>
                <a:gs pos="100000">
                  <a:srgbClr val="4b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ROLE OF MANAGER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INTERPERSONAL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Figureheads, leaders, liais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INFORMATIONAL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Receive &amp; disseminate critical inform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ECISIONAL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Initiate activities, handle disturbances, allocate resources, negotiate conflic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onnect to the INTERNET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71600" y="41911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 LEFT MOUSE BUTTON ON ICON TO CONNECT TO THE LAUDON &amp; LAUDON WEB SITE FOR MORE INFORMATION ON THIS CH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8640" y="6326280"/>
            <a:ext cx="144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657600" y="2819520"/>
          <a:ext cx="1779480" cy="11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819520"/>
                    <a:ext cx="177948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>
            <a:hlinkClick r:id="rId3"/>
          </p:cNvPr>
          <p:cNvSpPr/>
          <p:nvPr/>
        </p:nvSpPr>
        <p:spPr>
          <a:xfrm>
            <a:off x="4013280" y="28814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5880" y="4681440"/>
          <a:ext cx="227664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681440"/>
                    <a:ext cx="227664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MPARE THEORIES OF ORGANIZATIO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NALYZE IMPACT OF INFO SYSTEM ON ORGANIZ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ESCRIBE IMPLICATIONS OF  SYSTEM DESIGN &amp; IMPLEMENTATIO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2520" y="6243480"/>
            <a:ext cx="6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029200" y="2895480"/>
            <a:ext cx="3657600" cy="3657600"/>
          </a:xfrm>
          <a:custGeom>
            <a:avLst/>
            <a:gdLst>
              <a:gd name="textAreaLeft" fmla="*/ 834840 w 3657600"/>
              <a:gd name="textAreaRight" fmla="*/ 2822760 w 3657600"/>
              <a:gd name="textAreaTop" fmla="*/ 834840 h 3657600"/>
              <a:gd name="textAreaBottom" fmla="*/ 2822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33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2520" y="6243480"/>
            <a:ext cx="95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244600" y="1770120"/>
            <a:ext cx="4657680" cy="33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Humanst521 BT"/>
              </a:rPr>
              <a:t>3. INFORMATION SYSTEMS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Humanst521 BT"/>
              <a:ea typeface="Humanst521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Humanst521 BT"/>
              </a:rPr>
              <a:t>ORGANIZATIONS, 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Humanst521 BT"/>
              <a:ea typeface="Humanst521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Humanst521 BT"/>
              </a:rPr>
              <a:t>BUSINESS PROCES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Humanst521 BT"/>
              <a:ea typeface="Humanst521 BT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MANAGEMENT CHALLENG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IFFICULTIES OF MANAGING CHANG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DJUSTING TECHNOLOGY AND ORGANIZATION FOR OPTIMAL FI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2520" y="6243480"/>
            <a:ext cx="6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441600" y="5513400"/>
            <a:ext cx="2254320" cy="1236600"/>
            <a:chOff x="3441600" y="5513400"/>
            <a:chExt cx="2254320" cy="1236600"/>
          </a:xfrm>
        </p:grpSpPr>
        <p:sp>
          <p:nvSpPr>
            <p:cNvPr id="56" name=""/>
            <p:cNvSpPr/>
            <p:nvPr/>
          </p:nvSpPr>
          <p:spPr>
            <a:xfrm>
              <a:off x="4076640" y="5513400"/>
              <a:ext cx="933480" cy="412560"/>
            </a:xfrm>
            <a:custGeom>
              <a:avLst/>
              <a:gdLst/>
              <a:ahLst/>
              <a:rect l="l" t="t" r="r" b="b"/>
              <a:pathLst>
                <a:path w="1764" h="779">
                  <a:moveTo>
                    <a:pt x="1477" y="21"/>
                  </a:moveTo>
                  <a:lnTo>
                    <a:pt x="1492" y="0"/>
                  </a:lnTo>
                  <a:lnTo>
                    <a:pt x="313" y="0"/>
                  </a:lnTo>
                  <a:lnTo>
                    <a:pt x="304" y="12"/>
                  </a:lnTo>
                  <a:lnTo>
                    <a:pt x="300" y="30"/>
                  </a:lnTo>
                  <a:lnTo>
                    <a:pt x="300" y="49"/>
                  </a:lnTo>
                  <a:lnTo>
                    <a:pt x="304" y="65"/>
                  </a:lnTo>
                  <a:lnTo>
                    <a:pt x="314" y="83"/>
                  </a:lnTo>
                  <a:lnTo>
                    <a:pt x="325" y="99"/>
                  </a:lnTo>
                  <a:lnTo>
                    <a:pt x="334" y="113"/>
                  </a:lnTo>
                  <a:lnTo>
                    <a:pt x="344" y="127"/>
                  </a:lnTo>
                  <a:lnTo>
                    <a:pt x="352" y="142"/>
                  </a:lnTo>
                  <a:lnTo>
                    <a:pt x="360" y="160"/>
                  </a:lnTo>
                  <a:lnTo>
                    <a:pt x="365" y="176"/>
                  </a:lnTo>
                  <a:lnTo>
                    <a:pt x="368" y="192"/>
                  </a:lnTo>
                  <a:lnTo>
                    <a:pt x="368" y="207"/>
                  </a:lnTo>
                  <a:lnTo>
                    <a:pt x="366" y="223"/>
                  </a:lnTo>
                  <a:lnTo>
                    <a:pt x="363" y="234"/>
                  </a:lnTo>
                  <a:lnTo>
                    <a:pt x="359" y="250"/>
                  </a:lnTo>
                  <a:lnTo>
                    <a:pt x="353" y="263"/>
                  </a:lnTo>
                  <a:lnTo>
                    <a:pt x="344" y="274"/>
                  </a:lnTo>
                  <a:lnTo>
                    <a:pt x="334" y="284"/>
                  </a:lnTo>
                  <a:lnTo>
                    <a:pt x="320" y="291"/>
                  </a:lnTo>
                  <a:lnTo>
                    <a:pt x="298" y="296"/>
                  </a:lnTo>
                  <a:lnTo>
                    <a:pt x="280" y="294"/>
                  </a:lnTo>
                  <a:lnTo>
                    <a:pt x="263" y="288"/>
                  </a:lnTo>
                  <a:lnTo>
                    <a:pt x="242" y="279"/>
                  </a:lnTo>
                  <a:lnTo>
                    <a:pt x="219" y="269"/>
                  </a:lnTo>
                  <a:lnTo>
                    <a:pt x="205" y="259"/>
                  </a:lnTo>
                  <a:lnTo>
                    <a:pt x="188" y="248"/>
                  </a:lnTo>
                  <a:lnTo>
                    <a:pt x="174" y="240"/>
                  </a:lnTo>
                  <a:lnTo>
                    <a:pt x="160" y="231"/>
                  </a:lnTo>
                  <a:lnTo>
                    <a:pt x="145" y="223"/>
                  </a:lnTo>
                  <a:lnTo>
                    <a:pt x="129" y="219"/>
                  </a:lnTo>
                  <a:lnTo>
                    <a:pt x="111" y="217"/>
                  </a:lnTo>
                  <a:lnTo>
                    <a:pt x="95" y="220"/>
                  </a:lnTo>
                  <a:lnTo>
                    <a:pt x="77" y="226"/>
                  </a:lnTo>
                  <a:lnTo>
                    <a:pt x="64" y="235"/>
                  </a:lnTo>
                  <a:lnTo>
                    <a:pt x="49" y="246"/>
                  </a:lnTo>
                  <a:lnTo>
                    <a:pt x="34" y="260"/>
                  </a:lnTo>
                  <a:lnTo>
                    <a:pt x="22" y="277"/>
                  </a:lnTo>
                  <a:lnTo>
                    <a:pt x="10" y="299"/>
                  </a:lnTo>
                  <a:lnTo>
                    <a:pt x="4" y="318"/>
                  </a:lnTo>
                  <a:lnTo>
                    <a:pt x="0" y="337"/>
                  </a:lnTo>
                  <a:lnTo>
                    <a:pt x="1" y="359"/>
                  </a:lnTo>
                  <a:lnTo>
                    <a:pt x="3" y="378"/>
                  </a:lnTo>
                  <a:lnTo>
                    <a:pt x="9" y="401"/>
                  </a:lnTo>
                  <a:lnTo>
                    <a:pt x="16" y="418"/>
                  </a:lnTo>
                  <a:lnTo>
                    <a:pt x="27" y="438"/>
                  </a:lnTo>
                  <a:lnTo>
                    <a:pt x="39" y="452"/>
                  </a:lnTo>
                  <a:lnTo>
                    <a:pt x="53" y="466"/>
                  </a:lnTo>
                  <a:lnTo>
                    <a:pt x="70" y="479"/>
                  </a:lnTo>
                  <a:lnTo>
                    <a:pt x="93" y="491"/>
                  </a:lnTo>
                  <a:lnTo>
                    <a:pt x="117" y="500"/>
                  </a:lnTo>
                  <a:lnTo>
                    <a:pt x="144" y="506"/>
                  </a:lnTo>
                  <a:lnTo>
                    <a:pt x="174" y="509"/>
                  </a:lnTo>
                  <a:lnTo>
                    <a:pt x="209" y="507"/>
                  </a:lnTo>
                  <a:lnTo>
                    <a:pt x="234" y="506"/>
                  </a:lnTo>
                  <a:lnTo>
                    <a:pt x="260" y="504"/>
                  </a:lnTo>
                  <a:lnTo>
                    <a:pt x="283" y="509"/>
                  </a:lnTo>
                  <a:lnTo>
                    <a:pt x="300" y="517"/>
                  </a:lnTo>
                  <a:lnTo>
                    <a:pt x="314" y="534"/>
                  </a:lnTo>
                  <a:lnTo>
                    <a:pt x="323" y="553"/>
                  </a:lnTo>
                  <a:lnTo>
                    <a:pt x="325" y="572"/>
                  </a:lnTo>
                  <a:lnTo>
                    <a:pt x="323" y="588"/>
                  </a:lnTo>
                  <a:lnTo>
                    <a:pt x="317" y="607"/>
                  </a:lnTo>
                  <a:lnTo>
                    <a:pt x="307" y="631"/>
                  </a:lnTo>
                  <a:lnTo>
                    <a:pt x="298" y="650"/>
                  </a:lnTo>
                  <a:lnTo>
                    <a:pt x="286" y="673"/>
                  </a:lnTo>
                  <a:lnTo>
                    <a:pt x="274" y="695"/>
                  </a:lnTo>
                  <a:lnTo>
                    <a:pt x="258" y="724"/>
                  </a:lnTo>
                  <a:lnTo>
                    <a:pt x="276" y="727"/>
                  </a:lnTo>
                  <a:lnTo>
                    <a:pt x="301" y="730"/>
                  </a:lnTo>
                  <a:lnTo>
                    <a:pt x="328" y="733"/>
                  </a:lnTo>
                  <a:lnTo>
                    <a:pt x="357" y="738"/>
                  </a:lnTo>
                  <a:lnTo>
                    <a:pt x="387" y="740"/>
                  </a:lnTo>
                  <a:lnTo>
                    <a:pt x="420" y="745"/>
                  </a:lnTo>
                  <a:lnTo>
                    <a:pt x="454" y="748"/>
                  </a:lnTo>
                  <a:lnTo>
                    <a:pt x="491" y="749"/>
                  </a:lnTo>
                  <a:lnTo>
                    <a:pt x="564" y="749"/>
                  </a:lnTo>
                  <a:lnTo>
                    <a:pt x="589" y="748"/>
                  </a:lnTo>
                  <a:lnTo>
                    <a:pt x="614" y="746"/>
                  </a:lnTo>
                  <a:lnTo>
                    <a:pt x="642" y="742"/>
                  </a:lnTo>
                  <a:lnTo>
                    <a:pt x="666" y="735"/>
                  </a:lnTo>
                  <a:lnTo>
                    <a:pt x="684" y="726"/>
                  </a:lnTo>
                  <a:lnTo>
                    <a:pt x="699" y="715"/>
                  </a:lnTo>
                  <a:lnTo>
                    <a:pt x="709" y="705"/>
                  </a:lnTo>
                  <a:lnTo>
                    <a:pt x="713" y="693"/>
                  </a:lnTo>
                  <a:lnTo>
                    <a:pt x="713" y="675"/>
                  </a:lnTo>
                  <a:lnTo>
                    <a:pt x="709" y="655"/>
                  </a:lnTo>
                  <a:lnTo>
                    <a:pt x="702" y="634"/>
                  </a:lnTo>
                  <a:lnTo>
                    <a:pt x="694" y="615"/>
                  </a:lnTo>
                  <a:lnTo>
                    <a:pt x="694" y="597"/>
                  </a:lnTo>
                  <a:lnTo>
                    <a:pt x="703" y="581"/>
                  </a:lnTo>
                  <a:lnTo>
                    <a:pt x="716" y="566"/>
                  </a:lnTo>
                  <a:lnTo>
                    <a:pt x="736" y="554"/>
                  </a:lnTo>
                  <a:lnTo>
                    <a:pt x="758" y="545"/>
                  </a:lnTo>
                  <a:lnTo>
                    <a:pt x="783" y="538"/>
                  </a:lnTo>
                  <a:lnTo>
                    <a:pt x="808" y="534"/>
                  </a:lnTo>
                  <a:lnTo>
                    <a:pt x="840" y="529"/>
                  </a:lnTo>
                  <a:lnTo>
                    <a:pt x="865" y="526"/>
                  </a:lnTo>
                  <a:lnTo>
                    <a:pt x="893" y="526"/>
                  </a:lnTo>
                  <a:lnTo>
                    <a:pt x="917" y="528"/>
                  </a:lnTo>
                  <a:lnTo>
                    <a:pt x="942" y="534"/>
                  </a:lnTo>
                  <a:lnTo>
                    <a:pt x="966" y="541"/>
                  </a:lnTo>
                  <a:lnTo>
                    <a:pt x="988" y="551"/>
                  </a:lnTo>
                  <a:lnTo>
                    <a:pt x="1006" y="563"/>
                  </a:lnTo>
                  <a:lnTo>
                    <a:pt x="1022" y="578"/>
                  </a:lnTo>
                  <a:lnTo>
                    <a:pt x="1029" y="593"/>
                  </a:lnTo>
                  <a:lnTo>
                    <a:pt x="1032" y="607"/>
                  </a:lnTo>
                  <a:lnTo>
                    <a:pt x="1028" y="625"/>
                  </a:lnTo>
                  <a:lnTo>
                    <a:pt x="1021" y="640"/>
                  </a:lnTo>
                  <a:lnTo>
                    <a:pt x="1007" y="664"/>
                  </a:lnTo>
                  <a:lnTo>
                    <a:pt x="998" y="683"/>
                  </a:lnTo>
                  <a:lnTo>
                    <a:pt x="991" y="704"/>
                  </a:lnTo>
                  <a:lnTo>
                    <a:pt x="991" y="721"/>
                  </a:lnTo>
                  <a:lnTo>
                    <a:pt x="998" y="739"/>
                  </a:lnTo>
                  <a:lnTo>
                    <a:pt x="1013" y="752"/>
                  </a:lnTo>
                  <a:lnTo>
                    <a:pt x="1026" y="760"/>
                  </a:lnTo>
                  <a:lnTo>
                    <a:pt x="1047" y="767"/>
                  </a:lnTo>
                  <a:lnTo>
                    <a:pt x="1072" y="773"/>
                  </a:lnTo>
                  <a:lnTo>
                    <a:pt x="1096" y="776"/>
                  </a:lnTo>
                  <a:lnTo>
                    <a:pt x="1127" y="779"/>
                  </a:lnTo>
                  <a:lnTo>
                    <a:pt x="1161" y="779"/>
                  </a:lnTo>
                  <a:lnTo>
                    <a:pt x="1190" y="774"/>
                  </a:lnTo>
                  <a:lnTo>
                    <a:pt x="1231" y="771"/>
                  </a:lnTo>
                  <a:lnTo>
                    <a:pt x="1273" y="766"/>
                  </a:lnTo>
                  <a:lnTo>
                    <a:pt x="1308" y="760"/>
                  </a:lnTo>
                  <a:lnTo>
                    <a:pt x="1344" y="754"/>
                  </a:lnTo>
                  <a:lnTo>
                    <a:pt x="1385" y="745"/>
                  </a:lnTo>
                  <a:lnTo>
                    <a:pt x="1434" y="735"/>
                  </a:lnTo>
                  <a:lnTo>
                    <a:pt x="1504" y="721"/>
                  </a:lnTo>
                  <a:lnTo>
                    <a:pt x="1495" y="705"/>
                  </a:lnTo>
                  <a:lnTo>
                    <a:pt x="1486" y="687"/>
                  </a:lnTo>
                  <a:lnTo>
                    <a:pt x="1477" y="668"/>
                  </a:lnTo>
                  <a:lnTo>
                    <a:pt x="1470" y="649"/>
                  </a:lnTo>
                  <a:lnTo>
                    <a:pt x="1464" y="625"/>
                  </a:lnTo>
                  <a:lnTo>
                    <a:pt x="1460" y="599"/>
                  </a:lnTo>
                  <a:lnTo>
                    <a:pt x="1461" y="574"/>
                  </a:lnTo>
                  <a:lnTo>
                    <a:pt x="1466" y="548"/>
                  </a:lnTo>
                  <a:lnTo>
                    <a:pt x="1476" y="522"/>
                  </a:lnTo>
                  <a:lnTo>
                    <a:pt x="1491" y="495"/>
                  </a:lnTo>
                  <a:lnTo>
                    <a:pt x="1507" y="472"/>
                  </a:lnTo>
                  <a:lnTo>
                    <a:pt x="1528" y="452"/>
                  </a:lnTo>
                  <a:lnTo>
                    <a:pt x="1550" y="438"/>
                  </a:lnTo>
                  <a:lnTo>
                    <a:pt x="1574" y="426"/>
                  </a:lnTo>
                  <a:lnTo>
                    <a:pt x="1598" y="414"/>
                  </a:lnTo>
                  <a:lnTo>
                    <a:pt x="1621" y="405"/>
                  </a:lnTo>
                  <a:lnTo>
                    <a:pt x="1645" y="395"/>
                  </a:lnTo>
                  <a:lnTo>
                    <a:pt x="1675" y="380"/>
                  </a:lnTo>
                  <a:lnTo>
                    <a:pt x="1694" y="371"/>
                  </a:lnTo>
                  <a:lnTo>
                    <a:pt x="1712" y="358"/>
                  </a:lnTo>
                  <a:lnTo>
                    <a:pt x="1728" y="343"/>
                  </a:lnTo>
                  <a:lnTo>
                    <a:pt x="1743" y="327"/>
                  </a:lnTo>
                  <a:lnTo>
                    <a:pt x="1753" y="308"/>
                  </a:lnTo>
                  <a:lnTo>
                    <a:pt x="1761" y="287"/>
                  </a:lnTo>
                  <a:lnTo>
                    <a:pt x="1764" y="263"/>
                  </a:lnTo>
                  <a:lnTo>
                    <a:pt x="1759" y="241"/>
                  </a:lnTo>
                  <a:lnTo>
                    <a:pt x="1749" y="217"/>
                  </a:lnTo>
                  <a:lnTo>
                    <a:pt x="1734" y="200"/>
                  </a:lnTo>
                  <a:lnTo>
                    <a:pt x="1715" y="186"/>
                  </a:lnTo>
                  <a:lnTo>
                    <a:pt x="1693" y="179"/>
                  </a:lnTo>
                  <a:lnTo>
                    <a:pt x="1672" y="179"/>
                  </a:lnTo>
                  <a:lnTo>
                    <a:pt x="1651" y="186"/>
                  </a:lnTo>
                  <a:lnTo>
                    <a:pt x="1630" y="200"/>
                  </a:lnTo>
                  <a:lnTo>
                    <a:pt x="1615" y="216"/>
                  </a:lnTo>
                  <a:lnTo>
                    <a:pt x="1599" y="234"/>
                  </a:lnTo>
                  <a:lnTo>
                    <a:pt x="1584" y="250"/>
                  </a:lnTo>
                  <a:lnTo>
                    <a:pt x="1568" y="260"/>
                  </a:lnTo>
                  <a:lnTo>
                    <a:pt x="1547" y="265"/>
                  </a:lnTo>
                  <a:lnTo>
                    <a:pt x="1520" y="265"/>
                  </a:lnTo>
                  <a:lnTo>
                    <a:pt x="1498" y="260"/>
                  </a:lnTo>
                  <a:lnTo>
                    <a:pt x="1482" y="247"/>
                  </a:lnTo>
                  <a:lnTo>
                    <a:pt x="1467" y="234"/>
                  </a:lnTo>
                  <a:lnTo>
                    <a:pt x="1455" y="217"/>
                  </a:lnTo>
                  <a:lnTo>
                    <a:pt x="1446" y="197"/>
                  </a:lnTo>
                  <a:lnTo>
                    <a:pt x="1442" y="178"/>
                  </a:lnTo>
                  <a:lnTo>
                    <a:pt x="1440" y="155"/>
                  </a:lnTo>
                  <a:lnTo>
                    <a:pt x="1442" y="132"/>
                  </a:lnTo>
                  <a:lnTo>
                    <a:pt x="1446" y="110"/>
                  </a:lnTo>
                  <a:lnTo>
                    <a:pt x="1454" y="80"/>
                  </a:lnTo>
                  <a:lnTo>
                    <a:pt x="1463" y="55"/>
                  </a:lnTo>
                  <a:lnTo>
                    <a:pt x="1469" y="39"/>
                  </a:lnTo>
                  <a:lnTo>
                    <a:pt x="1477" y="21"/>
                  </a:lnTo>
                  <a:close/>
                </a:path>
              </a:pathLst>
            </a:custGeom>
            <a:solidFill>
              <a:srgbClr val="5f009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36960" y="5870520"/>
              <a:ext cx="746280" cy="527040"/>
            </a:xfrm>
            <a:custGeom>
              <a:avLst/>
              <a:gdLst/>
              <a:ahLst/>
              <a:rect l="l" t="t" r="r" b="b"/>
              <a:pathLst>
                <a:path w="1411" h="996">
                  <a:moveTo>
                    <a:pt x="56" y="812"/>
                  </a:moveTo>
                  <a:lnTo>
                    <a:pt x="74" y="807"/>
                  </a:lnTo>
                  <a:lnTo>
                    <a:pt x="98" y="803"/>
                  </a:lnTo>
                  <a:lnTo>
                    <a:pt x="117" y="806"/>
                  </a:lnTo>
                  <a:lnTo>
                    <a:pt x="138" y="809"/>
                  </a:lnTo>
                  <a:lnTo>
                    <a:pt x="157" y="813"/>
                  </a:lnTo>
                  <a:lnTo>
                    <a:pt x="178" y="817"/>
                  </a:lnTo>
                  <a:lnTo>
                    <a:pt x="202" y="822"/>
                  </a:lnTo>
                  <a:lnTo>
                    <a:pt x="219" y="825"/>
                  </a:lnTo>
                  <a:lnTo>
                    <a:pt x="243" y="826"/>
                  </a:lnTo>
                  <a:lnTo>
                    <a:pt x="265" y="825"/>
                  </a:lnTo>
                  <a:lnTo>
                    <a:pt x="285" y="820"/>
                  </a:lnTo>
                  <a:lnTo>
                    <a:pt x="307" y="815"/>
                  </a:lnTo>
                  <a:lnTo>
                    <a:pt x="328" y="807"/>
                  </a:lnTo>
                  <a:lnTo>
                    <a:pt x="347" y="798"/>
                  </a:lnTo>
                  <a:lnTo>
                    <a:pt x="368" y="789"/>
                  </a:lnTo>
                  <a:lnTo>
                    <a:pt x="387" y="781"/>
                  </a:lnTo>
                  <a:lnTo>
                    <a:pt x="411" y="773"/>
                  </a:lnTo>
                  <a:lnTo>
                    <a:pt x="430" y="769"/>
                  </a:lnTo>
                  <a:lnTo>
                    <a:pt x="452" y="767"/>
                  </a:lnTo>
                  <a:lnTo>
                    <a:pt x="473" y="770"/>
                  </a:lnTo>
                  <a:lnTo>
                    <a:pt x="492" y="776"/>
                  </a:lnTo>
                  <a:lnTo>
                    <a:pt x="512" y="788"/>
                  </a:lnTo>
                  <a:lnTo>
                    <a:pt x="524" y="798"/>
                  </a:lnTo>
                  <a:lnTo>
                    <a:pt x="530" y="817"/>
                  </a:lnTo>
                  <a:lnTo>
                    <a:pt x="527" y="838"/>
                  </a:lnTo>
                  <a:lnTo>
                    <a:pt x="521" y="862"/>
                  </a:lnTo>
                  <a:lnTo>
                    <a:pt x="512" y="887"/>
                  </a:lnTo>
                  <a:lnTo>
                    <a:pt x="504" y="908"/>
                  </a:lnTo>
                  <a:lnTo>
                    <a:pt x="506" y="928"/>
                  </a:lnTo>
                  <a:lnTo>
                    <a:pt x="515" y="949"/>
                  </a:lnTo>
                  <a:lnTo>
                    <a:pt x="530" y="965"/>
                  </a:lnTo>
                  <a:lnTo>
                    <a:pt x="544" y="976"/>
                  </a:lnTo>
                  <a:lnTo>
                    <a:pt x="565" y="981"/>
                  </a:lnTo>
                  <a:lnTo>
                    <a:pt x="587" y="987"/>
                  </a:lnTo>
                  <a:lnTo>
                    <a:pt x="619" y="992"/>
                  </a:lnTo>
                  <a:lnTo>
                    <a:pt x="645" y="995"/>
                  </a:lnTo>
                  <a:lnTo>
                    <a:pt x="678" y="996"/>
                  </a:lnTo>
                  <a:lnTo>
                    <a:pt x="708" y="993"/>
                  </a:lnTo>
                  <a:lnTo>
                    <a:pt x="734" y="989"/>
                  </a:lnTo>
                  <a:lnTo>
                    <a:pt x="762" y="981"/>
                  </a:lnTo>
                  <a:lnTo>
                    <a:pt x="788" y="973"/>
                  </a:lnTo>
                  <a:lnTo>
                    <a:pt x="807" y="962"/>
                  </a:lnTo>
                  <a:lnTo>
                    <a:pt x="826" y="950"/>
                  </a:lnTo>
                  <a:lnTo>
                    <a:pt x="841" y="937"/>
                  </a:lnTo>
                  <a:lnTo>
                    <a:pt x="854" y="921"/>
                  </a:lnTo>
                  <a:lnTo>
                    <a:pt x="862" y="900"/>
                  </a:lnTo>
                  <a:lnTo>
                    <a:pt x="863" y="868"/>
                  </a:lnTo>
                  <a:lnTo>
                    <a:pt x="863" y="843"/>
                  </a:lnTo>
                  <a:lnTo>
                    <a:pt x="868" y="820"/>
                  </a:lnTo>
                  <a:lnTo>
                    <a:pt x="877" y="804"/>
                  </a:lnTo>
                  <a:lnTo>
                    <a:pt x="890" y="789"/>
                  </a:lnTo>
                  <a:lnTo>
                    <a:pt x="905" y="776"/>
                  </a:lnTo>
                  <a:lnTo>
                    <a:pt x="924" y="764"/>
                  </a:lnTo>
                  <a:lnTo>
                    <a:pt x="943" y="755"/>
                  </a:lnTo>
                  <a:lnTo>
                    <a:pt x="970" y="748"/>
                  </a:lnTo>
                  <a:lnTo>
                    <a:pt x="995" y="745"/>
                  </a:lnTo>
                  <a:lnTo>
                    <a:pt x="1022" y="742"/>
                  </a:lnTo>
                  <a:lnTo>
                    <a:pt x="1050" y="741"/>
                  </a:lnTo>
                  <a:lnTo>
                    <a:pt x="1080" y="739"/>
                  </a:lnTo>
                  <a:lnTo>
                    <a:pt x="1113" y="741"/>
                  </a:lnTo>
                  <a:lnTo>
                    <a:pt x="1138" y="742"/>
                  </a:lnTo>
                  <a:lnTo>
                    <a:pt x="1160" y="745"/>
                  </a:lnTo>
                  <a:lnTo>
                    <a:pt x="1184" y="748"/>
                  </a:lnTo>
                  <a:lnTo>
                    <a:pt x="1206" y="751"/>
                  </a:lnTo>
                  <a:lnTo>
                    <a:pt x="1230" y="752"/>
                  </a:lnTo>
                  <a:lnTo>
                    <a:pt x="1411" y="757"/>
                  </a:lnTo>
                  <a:lnTo>
                    <a:pt x="1230" y="60"/>
                  </a:lnTo>
                  <a:lnTo>
                    <a:pt x="1204" y="46"/>
                  </a:lnTo>
                  <a:lnTo>
                    <a:pt x="1187" y="36"/>
                  </a:lnTo>
                  <a:lnTo>
                    <a:pt x="1166" y="27"/>
                  </a:lnTo>
                  <a:lnTo>
                    <a:pt x="1141" y="18"/>
                  </a:lnTo>
                  <a:lnTo>
                    <a:pt x="1114" y="12"/>
                  </a:lnTo>
                  <a:lnTo>
                    <a:pt x="1086" y="8"/>
                  </a:lnTo>
                  <a:lnTo>
                    <a:pt x="1052" y="3"/>
                  </a:lnTo>
                  <a:lnTo>
                    <a:pt x="1021" y="2"/>
                  </a:lnTo>
                  <a:lnTo>
                    <a:pt x="989" y="0"/>
                  </a:lnTo>
                  <a:lnTo>
                    <a:pt x="954" y="0"/>
                  </a:lnTo>
                  <a:lnTo>
                    <a:pt x="912" y="0"/>
                  </a:lnTo>
                  <a:lnTo>
                    <a:pt x="880" y="3"/>
                  </a:lnTo>
                  <a:lnTo>
                    <a:pt x="847" y="6"/>
                  </a:lnTo>
                  <a:lnTo>
                    <a:pt x="819" y="9"/>
                  </a:lnTo>
                  <a:lnTo>
                    <a:pt x="792" y="15"/>
                  </a:lnTo>
                  <a:lnTo>
                    <a:pt x="771" y="21"/>
                  </a:lnTo>
                  <a:lnTo>
                    <a:pt x="754" y="29"/>
                  </a:lnTo>
                  <a:lnTo>
                    <a:pt x="739" y="37"/>
                  </a:lnTo>
                  <a:lnTo>
                    <a:pt x="728" y="46"/>
                  </a:lnTo>
                  <a:lnTo>
                    <a:pt x="722" y="60"/>
                  </a:lnTo>
                  <a:lnTo>
                    <a:pt x="722" y="73"/>
                  </a:lnTo>
                  <a:lnTo>
                    <a:pt x="730" y="86"/>
                  </a:lnTo>
                  <a:lnTo>
                    <a:pt x="739" y="98"/>
                  </a:lnTo>
                  <a:lnTo>
                    <a:pt x="745" y="110"/>
                  </a:lnTo>
                  <a:lnTo>
                    <a:pt x="745" y="128"/>
                  </a:lnTo>
                  <a:lnTo>
                    <a:pt x="736" y="142"/>
                  </a:lnTo>
                  <a:lnTo>
                    <a:pt x="724" y="157"/>
                  </a:lnTo>
                  <a:lnTo>
                    <a:pt x="706" y="172"/>
                  </a:lnTo>
                  <a:lnTo>
                    <a:pt x="688" y="185"/>
                  </a:lnTo>
                  <a:lnTo>
                    <a:pt x="670" y="194"/>
                  </a:lnTo>
                  <a:lnTo>
                    <a:pt x="653" y="201"/>
                  </a:lnTo>
                  <a:lnTo>
                    <a:pt x="633" y="210"/>
                  </a:lnTo>
                  <a:lnTo>
                    <a:pt x="613" y="216"/>
                  </a:lnTo>
                  <a:lnTo>
                    <a:pt x="592" y="221"/>
                  </a:lnTo>
                  <a:lnTo>
                    <a:pt x="571" y="224"/>
                  </a:lnTo>
                  <a:lnTo>
                    <a:pt x="553" y="227"/>
                  </a:lnTo>
                  <a:lnTo>
                    <a:pt x="530" y="227"/>
                  </a:lnTo>
                  <a:lnTo>
                    <a:pt x="509" y="224"/>
                  </a:lnTo>
                  <a:lnTo>
                    <a:pt x="489" y="221"/>
                  </a:lnTo>
                  <a:lnTo>
                    <a:pt x="472" y="215"/>
                  </a:lnTo>
                  <a:lnTo>
                    <a:pt x="452" y="207"/>
                  </a:lnTo>
                  <a:lnTo>
                    <a:pt x="436" y="198"/>
                  </a:lnTo>
                  <a:lnTo>
                    <a:pt x="426" y="188"/>
                  </a:lnTo>
                  <a:lnTo>
                    <a:pt x="421" y="178"/>
                  </a:lnTo>
                  <a:lnTo>
                    <a:pt x="420" y="167"/>
                  </a:lnTo>
                  <a:lnTo>
                    <a:pt x="421" y="153"/>
                  </a:lnTo>
                  <a:lnTo>
                    <a:pt x="426" y="138"/>
                  </a:lnTo>
                  <a:lnTo>
                    <a:pt x="436" y="120"/>
                  </a:lnTo>
                  <a:lnTo>
                    <a:pt x="449" y="104"/>
                  </a:lnTo>
                  <a:lnTo>
                    <a:pt x="460" y="91"/>
                  </a:lnTo>
                  <a:lnTo>
                    <a:pt x="467" y="80"/>
                  </a:lnTo>
                  <a:lnTo>
                    <a:pt x="473" y="64"/>
                  </a:lnTo>
                  <a:lnTo>
                    <a:pt x="478" y="48"/>
                  </a:lnTo>
                  <a:lnTo>
                    <a:pt x="473" y="34"/>
                  </a:lnTo>
                  <a:lnTo>
                    <a:pt x="464" y="23"/>
                  </a:lnTo>
                  <a:lnTo>
                    <a:pt x="448" y="12"/>
                  </a:lnTo>
                  <a:lnTo>
                    <a:pt x="430" y="8"/>
                  </a:lnTo>
                  <a:lnTo>
                    <a:pt x="412" y="3"/>
                  </a:lnTo>
                  <a:lnTo>
                    <a:pt x="387" y="0"/>
                  </a:lnTo>
                  <a:lnTo>
                    <a:pt x="337" y="0"/>
                  </a:lnTo>
                  <a:lnTo>
                    <a:pt x="300" y="3"/>
                  </a:lnTo>
                  <a:lnTo>
                    <a:pt x="265" y="8"/>
                  </a:lnTo>
                  <a:lnTo>
                    <a:pt x="221" y="14"/>
                  </a:lnTo>
                  <a:lnTo>
                    <a:pt x="181" y="21"/>
                  </a:lnTo>
                  <a:lnTo>
                    <a:pt x="136" y="29"/>
                  </a:lnTo>
                  <a:lnTo>
                    <a:pt x="107" y="34"/>
                  </a:lnTo>
                  <a:lnTo>
                    <a:pt x="82" y="40"/>
                  </a:lnTo>
                  <a:lnTo>
                    <a:pt x="68" y="46"/>
                  </a:lnTo>
                  <a:lnTo>
                    <a:pt x="73" y="60"/>
                  </a:lnTo>
                  <a:lnTo>
                    <a:pt x="79" y="82"/>
                  </a:lnTo>
                  <a:lnTo>
                    <a:pt x="82" y="102"/>
                  </a:lnTo>
                  <a:lnTo>
                    <a:pt x="83" y="119"/>
                  </a:lnTo>
                  <a:lnTo>
                    <a:pt x="80" y="138"/>
                  </a:lnTo>
                  <a:lnTo>
                    <a:pt x="76" y="154"/>
                  </a:lnTo>
                  <a:lnTo>
                    <a:pt x="70" y="172"/>
                  </a:lnTo>
                  <a:lnTo>
                    <a:pt x="64" y="187"/>
                  </a:lnTo>
                  <a:lnTo>
                    <a:pt x="56" y="209"/>
                  </a:lnTo>
                  <a:lnTo>
                    <a:pt x="47" y="231"/>
                  </a:lnTo>
                  <a:lnTo>
                    <a:pt x="38" y="253"/>
                  </a:lnTo>
                  <a:lnTo>
                    <a:pt x="27" y="275"/>
                  </a:lnTo>
                  <a:lnTo>
                    <a:pt x="19" y="296"/>
                  </a:lnTo>
                  <a:lnTo>
                    <a:pt x="13" y="314"/>
                  </a:lnTo>
                  <a:lnTo>
                    <a:pt x="7" y="333"/>
                  </a:lnTo>
                  <a:lnTo>
                    <a:pt x="1" y="358"/>
                  </a:lnTo>
                  <a:lnTo>
                    <a:pt x="0" y="380"/>
                  </a:lnTo>
                  <a:lnTo>
                    <a:pt x="3" y="399"/>
                  </a:lnTo>
                  <a:lnTo>
                    <a:pt x="9" y="419"/>
                  </a:lnTo>
                  <a:lnTo>
                    <a:pt x="19" y="432"/>
                  </a:lnTo>
                  <a:lnTo>
                    <a:pt x="33" y="444"/>
                  </a:lnTo>
                  <a:lnTo>
                    <a:pt x="50" y="450"/>
                  </a:lnTo>
                  <a:lnTo>
                    <a:pt x="70" y="450"/>
                  </a:lnTo>
                  <a:lnTo>
                    <a:pt x="95" y="445"/>
                  </a:lnTo>
                  <a:lnTo>
                    <a:pt x="117" y="435"/>
                  </a:lnTo>
                  <a:lnTo>
                    <a:pt x="136" y="423"/>
                  </a:lnTo>
                  <a:lnTo>
                    <a:pt x="151" y="404"/>
                  </a:lnTo>
                  <a:lnTo>
                    <a:pt x="162" y="382"/>
                  </a:lnTo>
                  <a:lnTo>
                    <a:pt x="165" y="359"/>
                  </a:lnTo>
                  <a:lnTo>
                    <a:pt x="172" y="342"/>
                  </a:lnTo>
                  <a:lnTo>
                    <a:pt x="184" y="326"/>
                  </a:lnTo>
                  <a:lnTo>
                    <a:pt x="199" y="312"/>
                  </a:lnTo>
                  <a:lnTo>
                    <a:pt x="217" y="302"/>
                  </a:lnTo>
                  <a:lnTo>
                    <a:pt x="236" y="297"/>
                  </a:lnTo>
                  <a:lnTo>
                    <a:pt x="252" y="296"/>
                  </a:lnTo>
                  <a:lnTo>
                    <a:pt x="271" y="296"/>
                  </a:lnTo>
                  <a:lnTo>
                    <a:pt x="294" y="299"/>
                  </a:lnTo>
                  <a:lnTo>
                    <a:pt x="311" y="305"/>
                  </a:lnTo>
                  <a:lnTo>
                    <a:pt x="328" y="314"/>
                  </a:lnTo>
                  <a:lnTo>
                    <a:pt x="344" y="328"/>
                  </a:lnTo>
                  <a:lnTo>
                    <a:pt x="356" y="343"/>
                  </a:lnTo>
                  <a:lnTo>
                    <a:pt x="366" y="365"/>
                  </a:lnTo>
                  <a:lnTo>
                    <a:pt x="369" y="386"/>
                  </a:lnTo>
                  <a:lnTo>
                    <a:pt x="368" y="405"/>
                  </a:lnTo>
                  <a:lnTo>
                    <a:pt x="362" y="427"/>
                  </a:lnTo>
                  <a:lnTo>
                    <a:pt x="353" y="450"/>
                  </a:lnTo>
                  <a:lnTo>
                    <a:pt x="341" y="469"/>
                  </a:lnTo>
                  <a:lnTo>
                    <a:pt x="325" y="490"/>
                  </a:lnTo>
                  <a:lnTo>
                    <a:pt x="310" y="506"/>
                  </a:lnTo>
                  <a:lnTo>
                    <a:pt x="291" y="523"/>
                  </a:lnTo>
                  <a:lnTo>
                    <a:pt x="274" y="537"/>
                  </a:lnTo>
                  <a:lnTo>
                    <a:pt x="257" y="549"/>
                  </a:lnTo>
                  <a:lnTo>
                    <a:pt x="240" y="555"/>
                  </a:lnTo>
                  <a:lnTo>
                    <a:pt x="217" y="560"/>
                  </a:lnTo>
                  <a:lnTo>
                    <a:pt x="199" y="563"/>
                  </a:lnTo>
                  <a:lnTo>
                    <a:pt x="178" y="568"/>
                  </a:lnTo>
                  <a:lnTo>
                    <a:pt x="160" y="574"/>
                  </a:lnTo>
                  <a:lnTo>
                    <a:pt x="138" y="584"/>
                  </a:lnTo>
                  <a:lnTo>
                    <a:pt x="119" y="596"/>
                  </a:lnTo>
                  <a:lnTo>
                    <a:pt x="104" y="609"/>
                  </a:lnTo>
                  <a:lnTo>
                    <a:pt x="87" y="625"/>
                  </a:lnTo>
                  <a:lnTo>
                    <a:pt x="76" y="640"/>
                  </a:lnTo>
                  <a:lnTo>
                    <a:pt x="62" y="661"/>
                  </a:lnTo>
                  <a:lnTo>
                    <a:pt x="55" y="679"/>
                  </a:lnTo>
                  <a:lnTo>
                    <a:pt x="47" y="699"/>
                  </a:lnTo>
                  <a:lnTo>
                    <a:pt x="44" y="720"/>
                  </a:lnTo>
                  <a:lnTo>
                    <a:pt x="44" y="738"/>
                  </a:lnTo>
                  <a:lnTo>
                    <a:pt x="47" y="760"/>
                  </a:lnTo>
                  <a:lnTo>
                    <a:pt x="52" y="786"/>
                  </a:lnTo>
                  <a:lnTo>
                    <a:pt x="56" y="812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40360" y="5791320"/>
              <a:ext cx="892080" cy="560160"/>
            </a:xfrm>
            <a:custGeom>
              <a:avLst/>
              <a:gdLst/>
              <a:ahLst/>
              <a:rect l="l" t="t" r="r" b="b"/>
              <a:pathLst>
                <a:path w="1685" h="1060">
                  <a:moveTo>
                    <a:pt x="1386" y="210"/>
                  </a:moveTo>
                  <a:lnTo>
                    <a:pt x="1392" y="237"/>
                  </a:lnTo>
                  <a:lnTo>
                    <a:pt x="1396" y="257"/>
                  </a:lnTo>
                  <a:lnTo>
                    <a:pt x="1398" y="274"/>
                  </a:lnTo>
                  <a:lnTo>
                    <a:pt x="1393" y="291"/>
                  </a:lnTo>
                  <a:lnTo>
                    <a:pt x="1386" y="316"/>
                  </a:lnTo>
                  <a:lnTo>
                    <a:pt x="1377" y="342"/>
                  </a:lnTo>
                  <a:lnTo>
                    <a:pt x="1368" y="365"/>
                  </a:lnTo>
                  <a:lnTo>
                    <a:pt x="1359" y="387"/>
                  </a:lnTo>
                  <a:lnTo>
                    <a:pt x="1347" y="415"/>
                  </a:lnTo>
                  <a:lnTo>
                    <a:pt x="1337" y="438"/>
                  </a:lnTo>
                  <a:lnTo>
                    <a:pt x="1329" y="457"/>
                  </a:lnTo>
                  <a:lnTo>
                    <a:pt x="1322" y="483"/>
                  </a:lnTo>
                  <a:lnTo>
                    <a:pt x="1314" y="506"/>
                  </a:lnTo>
                  <a:lnTo>
                    <a:pt x="1313" y="528"/>
                  </a:lnTo>
                  <a:lnTo>
                    <a:pt x="1317" y="551"/>
                  </a:lnTo>
                  <a:lnTo>
                    <a:pt x="1325" y="572"/>
                  </a:lnTo>
                  <a:lnTo>
                    <a:pt x="1340" y="590"/>
                  </a:lnTo>
                  <a:lnTo>
                    <a:pt x="1354" y="600"/>
                  </a:lnTo>
                  <a:lnTo>
                    <a:pt x="1377" y="602"/>
                  </a:lnTo>
                  <a:lnTo>
                    <a:pt x="1402" y="600"/>
                  </a:lnTo>
                  <a:lnTo>
                    <a:pt x="1420" y="593"/>
                  </a:lnTo>
                  <a:lnTo>
                    <a:pt x="1441" y="584"/>
                  </a:lnTo>
                  <a:lnTo>
                    <a:pt x="1457" y="571"/>
                  </a:lnTo>
                  <a:lnTo>
                    <a:pt x="1470" y="553"/>
                  </a:lnTo>
                  <a:lnTo>
                    <a:pt x="1478" y="532"/>
                  </a:lnTo>
                  <a:lnTo>
                    <a:pt x="1481" y="510"/>
                  </a:lnTo>
                  <a:lnTo>
                    <a:pt x="1491" y="489"/>
                  </a:lnTo>
                  <a:lnTo>
                    <a:pt x="1504" y="472"/>
                  </a:lnTo>
                  <a:lnTo>
                    <a:pt x="1524" y="458"/>
                  </a:lnTo>
                  <a:lnTo>
                    <a:pt x="1543" y="451"/>
                  </a:lnTo>
                  <a:lnTo>
                    <a:pt x="1564" y="448"/>
                  </a:lnTo>
                  <a:lnTo>
                    <a:pt x="1580" y="446"/>
                  </a:lnTo>
                  <a:lnTo>
                    <a:pt x="1601" y="449"/>
                  </a:lnTo>
                  <a:lnTo>
                    <a:pt x="1622" y="455"/>
                  </a:lnTo>
                  <a:lnTo>
                    <a:pt x="1641" y="463"/>
                  </a:lnTo>
                  <a:lnTo>
                    <a:pt x="1654" y="478"/>
                  </a:lnTo>
                  <a:lnTo>
                    <a:pt x="1666" y="492"/>
                  </a:lnTo>
                  <a:lnTo>
                    <a:pt x="1678" y="506"/>
                  </a:lnTo>
                  <a:lnTo>
                    <a:pt x="1684" y="525"/>
                  </a:lnTo>
                  <a:lnTo>
                    <a:pt x="1685" y="543"/>
                  </a:lnTo>
                  <a:lnTo>
                    <a:pt x="1682" y="562"/>
                  </a:lnTo>
                  <a:lnTo>
                    <a:pt x="1676" y="578"/>
                  </a:lnTo>
                  <a:lnTo>
                    <a:pt x="1672" y="591"/>
                  </a:lnTo>
                  <a:lnTo>
                    <a:pt x="1665" y="609"/>
                  </a:lnTo>
                  <a:lnTo>
                    <a:pt x="1648" y="631"/>
                  </a:lnTo>
                  <a:lnTo>
                    <a:pt x="1633" y="649"/>
                  </a:lnTo>
                  <a:lnTo>
                    <a:pt x="1616" y="667"/>
                  </a:lnTo>
                  <a:lnTo>
                    <a:pt x="1596" y="683"/>
                  </a:lnTo>
                  <a:lnTo>
                    <a:pt x="1576" y="698"/>
                  </a:lnTo>
                  <a:lnTo>
                    <a:pt x="1558" y="705"/>
                  </a:lnTo>
                  <a:lnTo>
                    <a:pt x="1538" y="709"/>
                  </a:lnTo>
                  <a:lnTo>
                    <a:pt x="1513" y="714"/>
                  </a:lnTo>
                  <a:lnTo>
                    <a:pt x="1495" y="718"/>
                  </a:lnTo>
                  <a:lnTo>
                    <a:pt x="1473" y="726"/>
                  </a:lnTo>
                  <a:lnTo>
                    <a:pt x="1454" y="735"/>
                  </a:lnTo>
                  <a:lnTo>
                    <a:pt x="1436" y="745"/>
                  </a:lnTo>
                  <a:lnTo>
                    <a:pt x="1423" y="758"/>
                  </a:lnTo>
                  <a:lnTo>
                    <a:pt x="1408" y="770"/>
                  </a:lnTo>
                  <a:lnTo>
                    <a:pt x="1395" y="785"/>
                  </a:lnTo>
                  <a:lnTo>
                    <a:pt x="1381" y="804"/>
                  </a:lnTo>
                  <a:lnTo>
                    <a:pt x="1371" y="825"/>
                  </a:lnTo>
                  <a:lnTo>
                    <a:pt x="1363" y="847"/>
                  </a:lnTo>
                  <a:lnTo>
                    <a:pt x="1359" y="871"/>
                  </a:lnTo>
                  <a:lnTo>
                    <a:pt x="1359" y="891"/>
                  </a:lnTo>
                  <a:lnTo>
                    <a:pt x="1363" y="915"/>
                  </a:lnTo>
                  <a:lnTo>
                    <a:pt x="1368" y="936"/>
                  </a:lnTo>
                  <a:lnTo>
                    <a:pt x="1371" y="958"/>
                  </a:lnTo>
                  <a:lnTo>
                    <a:pt x="1360" y="953"/>
                  </a:lnTo>
                  <a:lnTo>
                    <a:pt x="1344" y="946"/>
                  </a:lnTo>
                  <a:lnTo>
                    <a:pt x="1328" y="940"/>
                  </a:lnTo>
                  <a:lnTo>
                    <a:pt x="1310" y="937"/>
                  </a:lnTo>
                  <a:lnTo>
                    <a:pt x="1291" y="934"/>
                  </a:lnTo>
                  <a:lnTo>
                    <a:pt x="1268" y="936"/>
                  </a:lnTo>
                  <a:lnTo>
                    <a:pt x="1243" y="940"/>
                  </a:lnTo>
                  <a:lnTo>
                    <a:pt x="1221" y="944"/>
                  </a:lnTo>
                  <a:lnTo>
                    <a:pt x="1191" y="952"/>
                  </a:lnTo>
                  <a:lnTo>
                    <a:pt x="1162" y="961"/>
                  </a:lnTo>
                  <a:lnTo>
                    <a:pt x="1133" y="969"/>
                  </a:lnTo>
                  <a:lnTo>
                    <a:pt x="1105" y="980"/>
                  </a:lnTo>
                  <a:lnTo>
                    <a:pt x="1082" y="990"/>
                  </a:lnTo>
                  <a:lnTo>
                    <a:pt x="1056" y="1002"/>
                  </a:lnTo>
                  <a:lnTo>
                    <a:pt x="1028" y="1012"/>
                  </a:lnTo>
                  <a:lnTo>
                    <a:pt x="1001" y="1021"/>
                  </a:lnTo>
                  <a:lnTo>
                    <a:pt x="967" y="1033"/>
                  </a:lnTo>
                  <a:lnTo>
                    <a:pt x="933" y="1045"/>
                  </a:lnTo>
                  <a:lnTo>
                    <a:pt x="908" y="1052"/>
                  </a:lnTo>
                  <a:lnTo>
                    <a:pt x="875" y="1057"/>
                  </a:lnTo>
                  <a:lnTo>
                    <a:pt x="847" y="1060"/>
                  </a:lnTo>
                  <a:lnTo>
                    <a:pt x="813" y="1057"/>
                  </a:lnTo>
                  <a:lnTo>
                    <a:pt x="788" y="1052"/>
                  </a:lnTo>
                  <a:lnTo>
                    <a:pt x="764" y="1045"/>
                  </a:lnTo>
                  <a:lnTo>
                    <a:pt x="748" y="1035"/>
                  </a:lnTo>
                  <a:lnTo>
                    <a:pt x="736" y="1020"/>
                  </a:lnTo>
                  <a:lnTo>
                    <a:pt x="728" y="999"/>
                  </a:lnTo>
                  <a:lnTo>
                    <a:pt x="728" y="981"/>
                  </a:lnTo>
                  <a:lnTo>
                    <a:pt x="734" y="965"/>
                  </a:lnTo>
                  <a:lnTo>
                    <a:pt x="743" y="949"/>
                  </a:lnTo>
                  <a:lnTo>
                    <a:pt x="757" y="933"/>
                  </a:lnTo>
                  <a:lnTo>
                    <a:pt x="774" y="916"/>
                  </a:lnTo>
                  <a:lnTo>
                    <a:pt x="797" y="900"/>
                  </a:lnTo>
                  <a:lnTo>
                    <a:pt x="820" y="890"/>
                  </a:lnTo>
                  <a:lnTo>
                    <a:pt x="849" y="881"/>
                  </a:lnTo>
                  <a:lnTo>
                    <a:pt x="871" y="875"/>
                  </a:lnTo>
                  <a:lnTo>
                    <a:pt x="893" y="868"/>
                  </a:lnTo>
                  <a:lnTo>
                    <a:pt x="918" y="859"/>
                  </a:lnTo>
                  <a:lnTo>
                    <a:pt x="942" y="847"/>
                  </a:lnTo>
                  <a:lnTo>
                    <a:pt x="961" y="837"/>
                  </a:lnTo>
                  <a:lnTo>
                    <a:pt x="975" y="825"/>
                  </a:lnTo>
                  <a:lnTo>
                    <a:pt x="979" y="811"/>
                  </a:lnTo>
                  <a:lnTo>
                    <a:pt x="976" y="797"/>
                  </a:lnTo>
                  <a:lnTo>
                    <a:pt x="966" y="782"/>
                  </a:lnTo>
                  <a:lnTo>
                    <a:pt x="950" y="770"/>
                  </a:lnTo>
                  <a:lnTo>
                    <a:pt x="936" y="763"/>
                  </a:lnTo>
                  <a:lnTo>
                    <a:pt x="921" y="758"/>
                  </a:lnTo>
                  <a:lnTo>
                    <a:pt x="898" y="755"/>
                  </a:lnTo>
                  <a:lnTo>
                    <a:pt x="869" y="755"/>
                  </a:lnTo>
                  <a:lnTo>
                    <a:pt x="841" y="757"/>
                  </a:lnTo>
                  <a:lnTo>
                    <a:pt x="815" y="760"/>
                  </a:lnTo>
                  <a:lnTo>
                    <a:pt x="789" y="764"/>
                  </a:lnTo>
                  <a:lnTo>
                    <a:pt x="767" y="770"/>
                  </a:lnTo>
                  <a:lnTo>
                    <a:pt x="743" y="777"/>
                  </a:lnTo>
                  <a:lnTo>
                    <a:pt x="715" y="788"/>
                  </a:lnTo>
                  <a:lnTo>
                    <a:pt x="690" y="800"/>
                  </a:lnTo>
                  <a:lnTo>
                    <a:pt x="668" y="810"/>
                  </a:lnTo>
                  <a:lnTo>
                    <a:pt x="638" y="826"/>
                  </a:lnTo>
                  <a:lnTo>
                    <a:pt x="610" y="844"/>
                  </a:lnTo>
                  <a:lnTo>
                    <a:pt x="583" y="859"/>
                  </a:lnTo>
                  <a:lnTo>
                    <a:pt x="558" y="875"/>
                  </a:lnTo>
                  <a:lnTo>
                    <a:pt x="528" y="891"/>
                  </a:lnTo>
                  <a:lnTo>
                    <a:pt x="500" y="904"/>
                  </a:lnTo>
                  <a:lnTo>
                    <a:pt x="469" y="916"/>
                  </a:lnTo>
                  <a:lnTo>
                    <a:pt x="436" y="927"/>
                  </a:lnTo>
                  <a:lnTo>
                    <a:pt x="404" y="934"/>
                  </a:lnTo>
                  <a:lnTo>
                    <a:pt x="365" y="940"/>
                  </a:lnTo>
                  <a:lnTo>
                    <a:pt x="334" y="944"/>
                  </a:lnTo>
                  <a:lnTo>
                    <a:pt x="289" y="949"/>
                  </a:lnTo>
                  <a:lnTo>
                    <a:pt x="257" y="952"/>
                  </a:lnTo>
                  <a:lnTo>
                    <a:pt x="224" y="950"/>
                  </a:lnTo>
                  <a:lnTo>
                    <a:pt x="203" y="950"/>
                  </a:lnTo>
                  <a:lnTo>
                    <a:pt x="211" y="934"/>
                  </a:lnTo>
                  <a:lnTo>
                    <a:pt x="224" y="915"/>
                  </a:lnTo>
                  <a:lnTo>
                    <a:pt x="242" y="897"/>
                  </a:lnTo>
                  <a:lnTo>
                    <a:pt x="260" y="878"/>
                  </a:lnTo>
                  <a:lnTo>
                    <a:pt x="282" y="854"/>
                  </a:lnTo>
                  <a:lnTo>
                    <a:pt x="300" y="838"/>
                  </a:lnTo>
                  <a:lnTo>
                    <a:pt x="315" y="820"/>
                  </a:lnTo>
                  <a:lnTo>
                    <a:pt x="328" y="798"/>
                  </a:lnTo>
                  <a:lnTo>
                    <a:pt x="337" y="776"/>
                  </a:lnTo>
                  <a:lnTo>
                    <a:pt x="343" y="752"/>
                  </a:lnTo>
                  <a:lnTo>
                    <a:pt x="347" y="730"/>
                  </a:lnTo>
                  <a:lnTo>
                    <a:pt x="344" y="705"/>
                  </a:lnTo>
                  <a:lnTo>
                    <a:pt x="338" y="689"/>
                  </a:lnTo>
                  <a:lnTo>
                    <a:pt x="326" y="674"/>
                  </a:lnTo>
                  <a:lnTo>
                    <a:pt x="316" y="665"/>
                  </a:lnTo>
                  <a:lnTo>
                    <a:pt x="303" y="658"/>
                  </a:lnTo>
                  <a:lnTo>
                    <a:pt x="288" y="655"/>
                  </a:lnTo>
                  <a:lnTo>
                    <a:pt x="272" y="653"/>
                  </a:lnTo>
                  <a:lnTo>
                    <a:pt x="255" y="658"/>
                  </a:lnTo>
                  <a:lnTo>
                    <a:pt x="239" y="668"/>
                  </a:lnTo>
                  <a:lnTo>
                    <a:pt x="226" y="681"/>
                  </a:lnTo>
                  <a:lnTo>
                    <a:pt x="212" y="698"/>
                  </a:lnTo>
                  <a:lnTo>
                    <a:pt x="200" y="715"/>
                  </a:lnTo>
                  <a:lnTo>
                    <a:pt x="189" y="730"/>
                  </a:lnTo>
                  <a:lnTo>
                    <a:pt x="175" y="745"/>
                  </a:lnTo>
                  <a:lnTo>
                    <a:pt x="160" y="760"/>
                  </a:lnTo>
                  <a:lnTo>
                    <a:pt x="141" y="770"/>
                  </a:lnTo>
                  <a:lnTo>
                    <a:pt x="122" y="774"/>
                  </a:lnTo>
                  <a:lnTo>
                    <a:pt x="101" y="777"/>
                  </a:lnTo>
                  <a:lnTo>
                    <a:pt x="80" y="774"/>
                  </a:lnTo>
                  <a:lnTo>
                    <a:pt x="59" y="769"/>
                  </a:lnTo>
                  <a:lnTo>
                    <a:pt x="40" y="757"/>
                  </a:lnTo>
                  <a:lnTo>
                    <a:pt x="25" y="745"/>
                  </a:lnTo>
                  <a:lnTo>
                    <a:pt x="13" y="727"/>
                  </a:lnTo>
                  <a:lnTo>
                    <a:pt x="6" y="707"/>
                  </a:lnTo>
                  <a:lnTo>
                    <a:pt x="2" y="687"/>
                  </a:lnTo>
                  <a:lnTo>
                    <a:pt x="0" y="667"/>
                  </a:lnTo>
                  <a:lnTo>
                    <a:pt x="3" y="649"/>
                  </a:lnTo>
                  <a:lnTo>
                    <a:pt x="10" y="633"/>
                  </a:lnTo>
                  <a:lnTo>
                    <a:pt x="24" y="613"/>
                  </a:lnTo>
                  <a:lnTo>
                    <a:pt x="42" y="597"/>
                  </a:lnTo>
                  <a:lnTo>
                    <a:pt x="62" y="584"/>
                  </a:lnTo>
                  <a:lnTo>
                    <a:pt x="80" y="575"/>
                  </a:lnTo>
                  <a:lnTo>
                    <a:pt x="104" y="563"/>
                  </a:lnTo>
                  <a:lnTo>
                    <a:pt x="125" y="551"/>
                  </a:lnTo>
                  <a:lnTo>
                    <a:pt x="145" y="537"/>
                  </a:lnTo>
                  <a:lnTo>
                    <a:pt x="165" y="519"/>
                  </a:lnTo>
                  <a:lnTo>
                    <a:pt x="180" y="500"/>
                  </a:lnTo>
                  <a:lnTo>
                    <a:pt x="187" y="475"/>
                  </a:lnTo>
                  <a:lnTo>
                    <a:pt x="190" y="451"/>
                  </a:lnTo>
                  <a:lnTo>
                    <a:pt x="189" y="429"/>
                  </a:lnTo>
                  <a:lnTo>
                    <a:pt x="184" y="404"/>
                  </a:lnTo>
                  <a:lnTo>
                    <a:pt x="175" y="379"/>
                  </a:lnTo>
                  <a:lnTo>
                    <a:pt x="162" y="349"/>
                  </a:lnTo>
                  <a:lnTo>
                    <a:pt x="150" y="322"/>
                  </a:lnTo>
                  <a:lnTo>
                    <a:pt x="137" y="294"/>
                  </a:lnTo>
                  <a:lnTo>
                    <a:pt x="131" y="263"/>
                  </a:lnTo>
                  <a:lnTo>
                    <a:pt x="131" y="241"/>
                  </a:lnTo>
                  <a:lnTo>
                    <a:pt x="134" y="216"/>
                  </a:lnTo>
                  <a:lnTo>
                    <a:pt x="135" y="198"/>
                  </a:lnTo>
                  <a:lnTo>
                    <a:pt x="153" y="201"/>
                  </a:lnTo>
                  <a:lnTo>
                    <a:pt x="178" y="204"/>
                  </a:lnTo>
                  <a:lnTo>
                    <a:pt x="205" y="207"/>
                  </a:lnTo>
                  <a:lnTo>
                    <a:pt x="234" y="212"/>
                  </a:lnTo>
                  <a:lnTo>
                    <a:pt x="264" y="215"/>
                  </a:lnTo>
                  <a:lnTo>
                    <a:pt x="297" y="219"/>
                  </a:lnTo>
                  <a:lnTo>
                    <a:pt x="331" y="222"/>
                  </a:lnTo>
                  <a:lnTo>
                    <a:pt x="368" y="223"/>
                  </a:lnTo>
                  <a:lnTo>
                    <a:pt x="441" y="223"/>
                  </a:lnTo>
                  <a:lnTo>
                    <a:pt x="466" y="222"/>
                  </a:lnTo>
                  <a:lnTo>
                    <a:pt x="491" y="220"/>
                  </a:lnTo>
                  <a:lnTo>
                    <a:pt x="519" y="216"/>
                  </a:lnTo>
                  <a:lnTo>
                    <a:pt x="543" y="209"/>
                  </a:lnTo>
                  <a:lnTo>
                    <a:pt x="561" y="200"/>
                  </a:lnTo>
                  <a:lnTo>
                    <a:pt x="576" y="189"/>
                  </a:lnTo>
                  <a:lnTo>
                    <a:pt x="586" y="179"/>
                  </a:lnTo>
                  <a:lnTo>
                    <a:pt x="591" y="167"/>
                  </a:lnTo>
                  <a:lnTo>
                    <a:pt x="591" y="150"/>
                  </a:lnTo>
                  <a:lnTo>
                    <a:pt x="586" y="129"/>
                  </a:lnTo>
                  <a:lnTo>
                    <a:pt x="579" y="108"/>
                  </a:lnTo>
                  <a:lnTo>
                    <a:pt x="571" y="89"/>
                  </a:lnTo>
                  <a:lnTo>
                    <a:pt x="571" y="71"/>
                  </a:lnTo>
                  <a:lnTo>
                    <a:pt x="580" y="55"/>
                  </a:lnTo>
                  <a:lnTo>
                    <a:pt x="593" y="40"/>
                  </a:lnTo>
                  <a:lnTo>
                    <a:pt x="613" y="28"/>
                  </a:lnTo>
                  <a:lnTo>
                    <a:pt x="635" y="19"/>
                  </a:lnTo>
                  <a:lnTo>
                    <a:pt x="660" y="12"/>
                  </a:lnTo>
                  <a:lnTo>
                    <a:pt x="685" y="8"/>
                  </a:lnTo>
                  <a:lnTo>
                    <a:pt x="717" y="3"/>
                  </a:lnTo>
                  <a:lnTo>
                    <a:pt x="742" y="0"/>
                  </a:lnTo>
                  <a:lnTo>
                    <a:pt x="770" y="0"/>
                  </a:lnTo>
                  <a:lnTo>
                    <a:pt x="794" y="2"/>
                  </a:lnTo>
                  <a:lnTo>
                    <a:pt x="819" y="8"/>
                  </a:lnTo>
                  <a:lnTo>
                    <a:pt x="843" y="15"/>
                  </a:lnTo>
                  <a:lnTo>
                    <a:pt x="865" y="25"/>
                  </a:lnTo>
                  <a:lnTo>
                    <a:pt x="883" y="37"/>
                  </a:lnTo>
                  <a:lnTo>
                    <a:pt x="899" y="52"/>
                  </a:lnTo>
                  <a:lnTo>
                    <a:pt x="906" y="67"/>
                  </a:lnTo>
                  <a:lnTo>
                    <a:pt x="909" y="82"/>
                  </a:lnTo>
                  <a:lnTo>
                    <a:pt x="905" y="99"/>
                  </a:lnTo>
                  <a:lnTo>
                    <a:pt x="898" y="114"/>
                  </a:lnTo>
                  <a:lnTo>
                    <a:pt x="884" y="138"/>
                  </a:lnTo>
                  <a:lnTo>
                    <a:pt x="875" y="157"/>
                  </a:lnTo>
                  <a:lnTo>
                    <a:pt x="868" y="178"/>
                  </a:lnTo>
                  <a:lnTo>
                    <a:pt x="868" y="195"/>
                  </a:lnTo>
                  <a:lnTo>
                    <a:pt x="875" y="213"/>
                  </a:lnTo>
                  <a:lnTo>
                    <a:pt x="890" y="226"/>
                  </a:lnTo>
                  <a:lnTo>
                    <a:pt x="904" y="234"/>
                  </a:lnTo>
                  <a:lnTo>
                    <a:pt x="924" y="241"/>
                  </a:lnTo>
                  <a:lnTo>
                    <a:pt x="950" y="247"/>
                  </a:lnTo>
                  <a:lnTo>
                    <a:pt x="973" y="250"/>
                  </a:lnTo>
                  <a:lnTo>
                    <a:pt x="1004" y="253"/>
                  </a:lnTo>
                  <a:lnTo>
                    <a:pt x="1039" y="253"/>
                  </a:lnTo>
                  <a:lnTo>
                    <a:pt x="1067" y="248"/>
                  </a:lnTo>
                  <a:lnTo>
                    <a:pt x="1108" y="246"/>
                  </a:lnTo>
                  <a:lnTo>
                    <a:pt x="1150" y="240"/>
                  </a:lnTo>
                  <a:lnTo>
                    <a:pt x="1185" y="234"/>
                  </a:lnTo>
                  <a:lnTo>
                    <a:pt x="1221" y="228"/>
                  </a:lnTo>
                  <a:lnTo>
                    <a:pt x="1263" y="219"/>
                  </a:lnTo>
                  <a:lnTo>
                    <a:pt x="1311" y="209"/>
                  </a:lnTo>
                  <a:lnTo>
                    <a:pt x="1381" y="195"/>
                  </a:lnTo>
                  <a:lnTo>
                    <a:pt x="1386" y="210"/>
                  </a:lnTo>
                  <a:close/>
                </a:path>
              </a:pathLst>
            </a:custGeom>
            <a:solidFill>
              <a:srgbClr val="0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14760" y="5513400"/>
              <a:ext cx="657360" cy="498600"/>
            </a:xfrm>
            <a:custGeom>
              <a:avLst/>
              <a:gdLst/>
              <a:ahLst/>
              <a:rect l="l" t="t" r="r" b="b"/>
              <a:pathLst>
                <a:path w="1240" h="940">
                  <a:moveTo>
                    <a:pt x="0" y="771"/>
                  </a:moveTo>
                  <a:lnTo>
                    <a:pt x="163" y="0"/>
                  </a:lnTo>
                  <a:lnTo>
                    <a:pt x="1185" y="0"/>
                  </a:lnTo>
                  <a:lnTo>
                    <a:pt x="1176" y="12"/>
                  </a:lnTo>
                  <a:lnTo>
                    <a:pt x="1172" y="30"/>
                  </a:lnTo>
                  <a:lnTo>
                    <a:pt x="1172" y="49"/>
                  </a:lnTo>
                  <a:lnTo>
                    <a:pt x="1176" y="65"/>
                  </a:lnTo>
                  <a:lnTo>
                    <a:pt x="1186" y="83"/>
                  </a:lnTo>
                  <a:lnTo>
                    <a:pt x="1197" y="99"/>
                  </a:lnTo>
                  <a:lnTo>
                    <a:pt x="1206" y="113"/>
                  </a:lnTo>
                  <a:lnTo>
                    <a:pt x="1216" y="127"/>
                  </a:lnTo>
                  <a:lnTo>
                    <a:pt x="1224" y="142"/>
                  </a:lnTo>
                  <a:lnTo>
                    <a:pt x="1232" y="160"/>
                  </a:lnTo>
                  <a:lnTo>
                    <a:pt x="1237" y="176"/>
                  </a:lnTo>
                  <a:lnTo>
                    <a:pt x="1240" y="192"/>
                  </a:lnTo>
                  <a:lnTo>
                    <a:pt x="1240" y="207"/>
                  </a:lnTo>
                  <a:lnTo>
                    <a:pt x="1238" y="223"/>
                  </a:lnTo>
                  <a:lnTo>
                    <a:pt x="1235" y="234"/>
                  </a:lnTo>
                  <a:lnTo>
                    <a:pt x="1231" y="250"/>
                  </a:lnTo>
                  <a:lnTo>
                    <a:pt x="1225" y="263"/>
                  </a:lnTo>
                  <a:lnTo>
                    <a:pt x="1216" y="274"/>
                  </a:lnTo>
                  <a:lnTo>
                    <a:pt x="1206" y="284"/>
                  </a:lnTo>
                  <a:lnTo>
                    <a:pt x="1192" y="291"/>
                  </a:lnTo>
                  <a:lnTo>
                    <a:pt x="1170" y="296"/>
                  </a:lnTo>
                  <a:lnTo>
                    <a:pt x="1152" y="294"/>
                  </a:lnTo>
                  <a:lnTo>
                    <a:pt x="1135" y="288"/>
                  </a:lnTo>
                  <a:lnTo>
                    <a:pt x="1114" y="279"/>
                  </a:lnTo>
                  <a:lnTo>
                    <a:pt x="1091" y="269"/>
                  </a:lnTo>
                  <a:lnTo>
                    <a:pt x="1077" y="259"/>
                  </a:lnTo>
                  <a:lnTo>
                    <a:pt x="1060" y="248"/>
                  </a:lnTo>
                  <a:lnTo>
                    <a:pt x="1046" y="240"/>
                  </a:lnTo>
                  <a:lnTo>
                    <a:pt x="1032" y="231"/>
                  </a:lnTo>
                  <a:lnTo>
                    <a:pt x="1017" y="223"/>
                  </a:lnTo>
                  <a:lnTo>
                    <a:pt x="1001" y="219"/>
                  </a:lnTo>
                  <a:lnTo>
                    <a:pt x="983" y="217"/>
                  </a:lnTo>
                  <a:lnTo>
                    <a:pt x="967" y="220"/>
                  </a:lnTo>
                  <a:lnTo>
                    <a:pt x="949" y="226"/>
                  </a:lnTo>
                  <a:lnTo>
                    <a:pt x="936" y="235"/>
                  </a:lnTo>
                  <a:lnTo>
                    <a:pt x="921" y="246"/>
                  </a:lnTo>
                  <a:lnTo>
                    <a:pt x="906" y="260"/>
                  </a:lnTo>
                  <a:lnTo>
                    <a:pt x="894" y="277"/>
                  </a:lnTo>
                  <a:lnTo>
                    <a:pt x="882" y="299"/>
                  </a:lnTo>
                  <a:lnTo>
                    <a:pt x="876" y="318"/>
                  </a:lnTo>
                  <a:lnTo>
                    <a:pt x="872" y="337"/>
                  </a:lnTo>
                  <a:lnTo>
                    <a:pt x="873" y="359"/>
                  </a:lnTo>
                  <a:lnTo>
                    <a:pt x="875" y="378"/>
                  </a:lnTo>
                  <a:lnTo>
                    <a:pt x="881" y="401"/>
                  </a:lnTo>
                  <a:lnTo>
                    <a:pt x="888" y="418"/>
                  </a:lnTo>
                  <a:lnTo>
                    <a:pt x="899" y="438"/>
                  </a:lnTo>
                  <a:lnTo>
                    <a:pt x="911" y="452"/>
                  </a:lnTo>
                  <a:lnTo>
                    <a:pt x="925" y="466"/>
                  </a:lnTo>
                  <a:lnTo>
                    <a:pt x="942" y="479"/>
                  </a:lnTo>
                  <a:lnTo>
                    <a:pt x="965" y="491"/>
                  </a:lnTo>
                  <a:lnTo>
                    <a:pt x="989" y="500"/>
                  </a:lnTo>
                  <a:lnTo>
                    <a:pt x="1016" y="506"/>
                  </a:lnTo>
                  <a:lnTo>
                    <a:pt x="1046" y="509"/>
                  </a:lnTo>
                  <a:lnTo>
                    <a:pt x="1081" y="507"/>
                  </a:lnTo>
                  <a:lnTo>
                    <a:pt x="1106" y="506"/>
                  </a:lnTo>
                  <a:lnTo>
                    <a:pt x="1132" y="504"/>
                  </a:lnTo>
                  <a:lnTo>
                    <a:pt x="1155" y="509"/>
                  </a:lnTo>
                  <a:lnTo>
                    <a:pt x="1172" y="517"/>
                  </a:lnTo>
                  <a:lnTo>
                    <a:pt x="1186" y="534"/>
                  </a:lnTo>
                  <a:lnTo>
                    <a:pt x="1195" y="553"/>
                  </a:lnTo>
                  <a:lnTo>
                    <a:pt x="1197" y="572"/>
                  </a:lnTo>
                  <a:lnTo>
                    <a:pt x="1195" y="588"/>
                  </a:lnTo>
                  <a:lnTo>
                    <a:pt x="1189" y="607"/>
                  </a:lnTo>
                  <a:lnTo>
                    <a:pt x="1179" y="631"/>
                  </a:lnTo>
                  <a:lnTo>
                    <a:pt x="1170" y="650"/>
                  </a:lnTo>
                  <a:lnTo>
                    <a:pt x="1158" y="673"/>
                  </a:lnTo>
                  <a:lnTo>
                    <a:pt x="1146" y="695"/>
                  </a:lnTo>
                  <a:lnTo>
                    <a:pt x="1133" y="718"/>
                  </a:lnTo>
                  <a:lnTo>
                    <a:pt x="1043" y="718"/>
                  </a:lnTo>
                  <a:lnTo>
                    <a:pt x="1008" y="715"/>
                  </a:lnTo>
                  <a:lnTo>
                    <a:pt x="974" y="712"/>
                  </a:lnTo>
                  <a:lnTo>
                    <a:pt x="934" y="709"/>
                  </a:lnTo>
                  <a:lnTo>
                    <a:pt x="893" y="705"/>
                  </a:lnTo>
                  <a:lnTo>
                    <a:pt x="844" y="701"/>
                  </a:lnTo>
                  <a:lnTo>
                    <a:pt x="805" y="698"/>
                  </a:lnTo>
                  <a:lnTo>
                    <a:pt x="777" y="699"/>
                  </a:lnTo>
                  <a:lnTo>
                    <a:pt x="750" y="704"/>
                  </a:lnTo>
                  <a:lnTo>
                    <a:pt x="734" y="709"/>
                  </a:lnTo>
                  <a:lnTo>
                    <a:pt x="721" y="718"/>
                  </a:lnTo>
                  <a:lnTo>
                    <a:pt x="710" y="730"/>
                  </a:lnTo>
                  <a:lnTo>
                    <a:pt x="706" y="743"/>
                  </a:lnTo>
                  <a:lnTo>
                    <a:pt x="709" y="757"/>
                  </a:lnTo>
                  <a:lnTo>
                    <a:pt x="715" y="771"/>
                  </a:lnTo>
                  <a:lnTo>
                    <a:pt x="725" y="789"/>
                  </a:lnTo>
                  <a:lnTo>
                    <a:pt x="734" y="805"/>
                  </a:lnTo>
                  <a:lnTo>
                    <a:pt x="738" y="823"/>
                  </a:lnTo>
                  <a:lnTo>
                    <a:pt x="738" y="841"/>
                  </a:lnTo>
                  <a:lnTo>
                    <a:pt x="734" y="859"/>
                  </a:lnTo>
                  <a:lnTo>
                    <a:pt x="724" y="875"/>
                  </a:lnTo>
                  <a:lnTo>
                    <a:pt x="712" y="890"/>
                  </a:lnTo>
                  <a:lnTo>
                    <a:pt x="695" y="903"/>
                  </a:lnTo>
                  <a:lnTo>
                    <a:pt x="676" y="915"/>
                  </a:lnTo>
                  <a:lnTo>
                    <a:pt x="655" y="924"/>
                  </a:lnTo>
                  <a:lnTo>
                    <a:pt x="633" y="930"/>
                  </a:lnTo>
                  <a:lnTo>
                    <a:pt x="612" y="934"/>
                  </a:lnTo>
                  <a:lnTo>
                    <a:pt x="590" y="937"/>
                  </a:lnTo>
                  <a:lnTo>
                    <a:pt x="569" y="940"/>
                  </a:lnTo>
                  <a:lnTo>
                    <a:pt x="550" y="940"/>
                  </a:lnTo>
                  <a:lnTo>
                    <a:pt x="531" y="937"/>
                  </a:lnTo>
                  <a:lnTo>
                    <a:pt x="513" y="934"/>
                  </a:lnTo>
                  <a:lnTo>
                    <a:pt x="497" y="930"/>
                  </a:lnTo>
                  <a:lnTo>
                    <a:pt x="483" y="925"/>
                  </a:lnTo>
                  <a:lnTo>
                    <a:pt x="468" y="916"/>
                  </a:lnTo>
                  <a:lnTo>
                    <a:pt x="457" y="907"/>
                  </a:lnTo>
                  <a:lnTo>
                    <a:pt x="446" y="894"/>
                  </a:lnTo>
                  <a:lnTo>
                    <a:pt x="433" y="879"/>
                  </a:lnTo>
                  <a:lnTo>
                    <a:pt x="422" y="865"/>
                  </a:lnTo>
                  <a:lnTo>
                    <a:pt x="412" y="851"/>
                  </a:lnTo>
                  <a:lnTo>
                    <a:pt x="400" y="834"/>
                  </a:lnTo>
                  <a:lnTo>
                    <a:pt x="388" y="817"/>
                  </a:lnTo>
                  <a:lnTo>
                    <a:pt x="374" y="801"/>
                  </a:lnTo>
                  <a:lnTo>
                    <a:pt x="357" y="785"/>
                  </a:lnTo>
                  <a:lnTo>
                    <a:pt x="341" y="773"/>
                  </a:lnTo>
                  <a:lnTo>
                    <a:pt x="323" y="763"/>
                  </a:lnTo>
                  <a:lnTo>
                    <a:pt x="304" y="755"/>
                  </a:lnTo>
                  <a:lnTo>
                    <a:pt x="283" y="749"/>
                  </a:lnTo>
                  <a:lnTo>
                    <a:pt x="256" y="745"/>
                  </a:lnTo>
                  <a:lnTo>
                    <a:pt x="227" y="743"/>
                  </a:lnTo>
                  <a:lnTo>
                    <a:pt x="201" y="742"/>
                  </a:lnTo>
                  <a:lnTo>
                    <a:pt x="178" y="742"/>
                  </a:lnTo>
                  <a:lnTo>
                    <a:pt x="150" y="743"/>
                  </a:lnTo>
                  <a:lnTo>
                    <a:pt x="124" y="748"/>
                  </a:lnTo>
                  <a:lnTo>
                    <a:pt x="98" y="752"/>
                  </a:lnTo>
                  <a:lnTo>
                    <a:pt x="68" y="758"/>
                  </a:lnTo>
                  <a:lnTo>
                    <a:pt x="38" y="764"/>
                  </a:lnTo>
                  <a:lnTo>
                    <a:pt x="0" y="771"/>
                  </a:lnTo>
                  <a:close/>
                </a:path>
              </a:pathLst>
            </a:custGeom>
            <a:solidFill>
              <a:srgbClr val="00bf9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38760" y="5513400"/>
              <a:ext cx="649080" cy="477720"/>
            </a:xfrm>
            <a:custGeom>
              <a:avLst/>
              <a:gdLst/>
              <a:ahLst/>
              <a:rect l="l" t="t" r="r" b="b"/>
              <a:pathLst>
                <a:path w="1226" h="902">
                  <a:moveTo>
                    <a:pt x="37" y="21"/>
                  </a:moveTo>
                  <a:lnTo>
                    <a:pt x="52" y="0"/>
                  </a:lnTo>
                  <a:lnTo>
                    <a:pt x="1022" y="0"/>
                  </a:lnTo>
                  <a:lnTo>
                    <a:pt x="1226" y="735"/>
                  </a:lnTo>
                  <a:lnTo>
                    <a:pt x="1200" y="721"/>
                  </a:lnTo>
                  <a:lnTo>
                    <a:pt x="1183" y="711"/>
                  </a:lnTo>
                  <a:lnTo>
                    <a:pt x="1162" y="702"/>
                  </a:lnTo>
                  <a:lnTo>
                    <a:pt x="1137" y="693"/>
                  </a:lnTo>
                  <a:lnTo>
                    <a:pt x="1110" y="687"/>
                  </a:lnTo>
                  <a:lnTo>
                    <a:pt x="1082" y="683"/>
                  </a:lnTo>
                  <a:lnTo>
                    <a:pt x="1048" y="678"/>
                  </a:lnTo>
                  <a:lnTo>
                    <a:pt x="1017" y="677"/>
                  </a:lnTo>
                  <a:lnTo>
                    <a:pt x="985" y="675"/>
                  </a:lnTo>
                  <a:lnTo>
                    <a:pt x="950" y="675"/>
                  </a:lnTo>
                  <a:lnTo>
                    <a:pt x="908" y="675"/>
                  </a:lnTo>
                  <a:lnTo>
                    <a:pt x="876" y="678"/>
                  </a:lnTo>
                  <a:lnTo>
                    <a:pt x="843" y="681"/>
                  </a:lnTo>
                  <a:lnTo>
                    <a:pt x="815" y="684"/>
                  </a:lnTo>
                  <a:lnTo>
                    <a:pt x="788" y="690"/>
                  </a:lnTo>
                  <a:lnTo>
                    <a:pt x="767" y="696"/>
                  </a:lnTo>
                  <a:lnTo>
                    <a:pt x="750" y="704"/>
                  </a:lnTo>
                  <a:lnTo>
                    <a:pt x="735" y="712"/>
                  </a:lnTo>
                  <a:lnTo>
                    <a:pt x="724" y="721"/>
                  </a:lnTo>
                  <a:lnTo>
                    <a:pt x="718" y="735"/>
                  </a:lnTo>
                  <a:lnTo>
                    <a:pt x="718" y="748"/>
                  </a:lnTo>
                  <a:lnTo>
                    <a:pt x="726" y="761"/>
                  </a:lnTo>
                  <a:lnTo>
                    <a:pt x="735" y="773"/>
                  </a:lnTo>
                  <a:lnTo>
                    <a:pt x="741" y="785"/>
                  </a:lnTo>
                  <a:lnTo>
                    <a:pt x="741" y="803"/>
                  </a:lnTo>
                  <a:lnTo>
                    <a:pt x="732" y="817"/>
                  </a:lnTo>
                  <a:lnTo>
                    <a:pt x="720" y="832"/>
                  </a:lnTo>
                  <a:lnTo>
                    <a:pt x="702" y="847"/>
                  </a:lnTo>
                  <a:lnTo>
                    <a:pt x="684" y="860"/>
                  </a:lnTo>
                  <a:lnTo>
                    <a:pt x="666" y="869"/>
                  </a:lnTo>
                  <a:lnTo>
                    <a:pt x="649" y="876"/>
                  </a:lnTo>
                  <a:lnTo>
                    <a:pt x="629" y="885"/>
                  </a:lnTo>
                  <a:lnTo>
                    <a:pt x="609" y="891"/>
                  </a:lnTo>
                  <a:lnTo>
                    <a:pt x="588" y="896"/>
                  </a:lnTo>
                  <a:lnTo>
                    <a:pt x="567" y="899"/>
                  </a:lnTo>
                  <a:lnTo>
                    <a:pt x="549" y="902"/>
                  </a:lnTo>
                  <a:lnTo>
                    <a:pt x="526" y="902"/>
                  </a:lnTo>
                  <a:lnTo>
                    <a:pt x="505" y="899"/>
                  </a:lnTo>
                  <a:lnTo>
                    <a:pt x="485" y="896"/>
                  </a:lnTo>
                  <a:lnTo>
                    <a:pt x="468" y="890"/>
                  </a:lnTo>
                  <a:lnTo>
                    <a:pt x="448" y="882"/>
                  </a:lnTo>
                  <a:lnTo>
                    <a:pt x="432" y="873"/>
                  </a:lnTo>
                  <a:lnTo>
                    <a:pt x="422" y="863"/>
                  </a:lnTo>
                  <a:lnTo>
                    <a:pt x="417" y="853"/>
                  </a:lnTo>
                  <a:lnTo>
                    <a:pt x="416" y="842"/>
                  </a:lnTo>
                  <a:lnTo>
                    <a:pt x="417" y="828"/>
                  </a:lnTo>
                  <a:lnTo>
                    <a:pt x="422" y="813"/>
                  </a:lnTo>
                  <a:lnTo>
                    <a:pt x="432" y="795"/>
                  </a:lnTo>
                  <a:lnTo>
                    <a:pt x="445" y="779"/>
                  </a:lnTo>
                  <a:lnTo>
                    <a:pt x="456" y="766"/>
                  </a:lnTo>
                  <a:lnTo>
                    <a:pt x="463" y="755"/>
                  </a:lnTo>
                  <a:lnTo>
                    <a:pt x="469" y="739"/>
                  </a:lnTo>
                  <a:lnTo>
                    <a:pt x="474" y="723"/>
                  </a:lnTo>
                  <a:lnTo>
                    <a:pt x="469" y="709"/>
                  </a:lnTo>
                  <a:lnTo>
                    <a:pt x="460" y="698"/>
                  </a:lnTo>
                  <a:lnTo>
                    <a:pt x="444" y="687"/>
                  </a:lnTo>
                  <a:lnTo>
                    <a:pt x="426" y="683"/>
                  </a:lnTo>
                  <a:lnTo>
                    <a:pt x="408" y="678"/>
                  </a:lnTo>
                  <a:lnTo>
                    <a:pt x="383" y="675"/>
                  </a:lnTo>
                  <a:lnTo>
                    <a:pt x="333" y="675"/>
                  </a:lnTo>
                  <a:lnTo>
                    <a:pt x="296" y="678"/>
                  </a:lnTo>
                  <a:lnTo>
                    <a:pt x="261" y="683"/>
                  </a:lnTo>
                  <a:lnTo>
                    <a:pt x="217" y="689"/>
                  </a:lnTo>
                  <a:lnTo>
                    <a:pt x="177" y="696"/>
                  </a:lnTo>
                  <a:lnTo>
                    <a:pt x="132" y="704"/>
                  </a:lnTo>
                  <a:lnTo>
                    <a:pt x="100" y="709"/>
                  </a:lnTo>
                  <a:lnTo>
                    <a:pt x="78" y="714"/>
                  </a:lnTo>
                  <a:lnTo>
                    <a:pt x="64" y="721"/>
                  </a:lnTo>
                  <a:lnTo>
                    <a:pt x="55" y="705"/>
                  </a:lnTo>
                  <a:lnTo>
                    <a:pt x="46" y="687"/>
                  </a:lnTo>
                  <a:lnTo>
                    <a:pt x="37" y="668"/>
                  </a:lnTo>
                  <a:lnTo>
                    <a:pt x="30" y="649"/>
                  </a:lnTo>
                  <a:lnTo>
                    <a:pt x="24" y="625"/>
                  </a:lnTo>
                  <a:lnTo>
                    <a:pt x="20" y="599"/>
                  </a:lnTo>
                  <a:lnTo>
                    <a:pt x="21" y="574"/>
                  </a:lnTo>
                  <a:lnTo>
                    <a:pt x="26" y="548"/>
                  </a:lnTo>
                  <a:lnTo>
                    <a:pt x="36" y="522"/>
                  </a:lnTo>
                  <a:lnTo>
                    <a:pt x="51" y="495"/>
                  </a:lnTo>
                  <a:lnTo>
                    <a:pt x="67" y="472"/>
                  </a:lnTo>
                  <a:lnTo>
                    <a:pt x="88" y="452"/>
                  </a:lnTo>
                  <a:lnTo>
                    <a:pt x="110" y="438"/>
                  </a:lnTo>
                  <a:lnTo>
                    <a:pt x="134" y="426"/>
                  </a:lnTo>
                  <a:lnTo>
                    <a:pt x="158" y="414"/>
                  </a:lnTo>
                  <a:lnTo>
                    <a:pt x="181" y="405"/>
                  </a:lnTo>
                  <a:lnTo>
                    <a:pt x="205" y="395"/>
                  </a:lnTo>
                  <a:lnTo>
                    <a:pt x="235" y="380"/>
                  </a:lnTo>
                  <a:lnTo>
                    <a:pt x="254" y="371"/>
                  </a:lnTo>
                  <a:lnTo>
                    <a:pt x="272" y="358"/>
                  </a:lnTo>
                  <a:lnTo>
                    <a:pt x="288" y="343"/>
                  </a:lnTo>
                  <a:lnTo>
                    <a:pt x="303" y="327"/>
                  </a:lnTo>
                  <a:lnTo>
                    <a:pt x="313" y="308"/>
                  </a:lnTo>
                  <a:lnTo>
                    <a:pt x="321" y="287"/>
                  </a:lnTo>
                  <a:lnTo>
                    <a:pt x="324" y="263"/>
                  </a:lnTo>
                  <a:lnTo>
                    <a:pt x="319" y="241"/>
                  </a:lnTo>
                  <a:lnTo>
                    <a:pt x="309" y="217"/>
                  </a:lnTo>
                  <a:lnTo>
                    <a:pt x="294" y="200"/>
                  </a:lnTo>
                  <a:lnTo>
                    <a:pt x="275" y="186"/>
                  </a:lnTo>
                  <a:lnTo>
                    <a:pt x="253" y="179"/>
                  </a:lnTo>
                  <a:lnTo>
                    <a:pt x="232" y="179"/>
                  </a:lnTo>
                  <a:lnTo>
                    <a:pt x="211" y="186"/>
                  </a:lnTo>
                  <a:lnTo>
                    <a:pt x="190" y="200"/>
                  </a:lnTo>
                  <a:lnTo>
                    <a:pt x="175" y="216"/>
                  </a:lnTo>
                  <a:lnTo>
                    <a:pt x="159" y="234"/>
                  </a:lnTo>
                  <a:lnTo>
                    <a:pt x="144" y="250"/>
                  </a:lnTo>
                  <a:lnTo>
                    <a:pt x="128" y="260"/>
                  </a:lnTo>
                  <a:lnTo>
                    <a:pt x="107" y="265"/>
                  </a:lnTo>
                  <a:lnTo>
                    <a:pt x="80" y="265"/>
                  </a:lnTo>
                  <a:lnTo>
                    <a:pt x="58" y="260"/>
                  </a:lnTo>
                  <a:lnTo>
                    <a:pt x="42" y="247"/>
                  </a:lnTo>
                  <a:lnTo>
                    <a:pt x="27" y="234"/>
                  </a:lnTo>
                  <a:lnTo>
                    <a:pt x="15" y="217"/>
                  </a:lnTo>
                  <a:lnTo>
                    <a:pt x="6" y="197"/>
                  </a:lnTo>
                  <a:lnTo>
                    <a:pt x="2" y="178"/>
                  </a:lnTo>
                  <a:lnTo>
                    <a:pt x="0" y="155"/>
                  </a:lnTo>
                  <a:lnTo>
                    <a:pt x="2" y="132"/>
                  </a:lnTo>
                  <a:lnTo>
                    <a:pt x="6" y="110"/>
                  </a:lnTo>
                  <a:lnTo>
                    <a:pt x="14" y="80"/>
                  </a:lnTo>
                  <a:lnTo>
                    <a:pt x="23" y="55"/>
                  </a:lnTo>
                  <a:lnTo>
                    <a:pt x="29" y="39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f5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21160" y="5883120"/>
              <a:ext cx="803160" cy="541440"/>
            </a:xfrm>
            <a:custGeom>
              <a:avLst/>
              <a:gdLst/>
              <a:ahLst/>
              <a:rect l="l" t="t" r="r" b="b"/>
              <a:pathLst>
                <a:path w="1517" h="1022">
                  <a:moveTo>
                    <a:pt x="178" y="73"/>
                  </a:moveTo>
                  <a:lnTo>
                    <a:pt x="0" y="834"/>
                  </a:lnTo>
                  <a:lnTo>
                    <a:pt x="22" y="833"/>
                  </a:lnTo>
                  <a:lnTo>
                    <a:pt x="47" y="830"/>
                  </a:lnTo>
                  <a:lnTo>
                    <a:pt x="93" y="821"/>
                  </a:lnTo>
                  <a:lnTo>
                    <a:pt x="127" y="814"/>
                  </a:lnTo>
                  <a:lnTo>
                    <a:pt x="170" y="805"/>
                  </a:lnTo>
                  <a:lnTo>
                    <a:pt x="218" y="793"/>
                  </a:lnTo>
                  <a:lnTo>
                    <a:pt x="262" y="780"/>
                  </a:lnTo>
                  <a:lnTo>
                    <a:pt x="304" y="765"/>
                  </a:lnTo>
                  <a:lnTo>
                    <a:pt x="351" y="749"/>
                  </a:lnTo>
                  <a:lnTo>
                    <a:pt x="382" y="741"/>
                  </a:lnTo>
                  <a:lnTo>
                    <a:pt x="409" y="737"/>
                  </a:lnTo>
                  <a:lnTo>
                    <a:pt x="433" y="735"/>
                  </a:lnTo>
                  <a:lnTo>
                    <a:pt x="455" y="735"/>
                  </a:lnTo>
                  <a:lnTo>
                    <a:pt x="488" y="740"/>
                  </a:lnTo>
                  <a:lnTo>
                    <a:pt x="510" y="744"/>
                  </a:lnTo>
                  <a:lnTo>
                    <a:pt x="534" y="752"/>
                  </a:lnTo>
                  <a:lnTo>
                    <a:pt x="550" y="761"/>
                  </a:lnTo>
                  <a:lnTo>
                    <a:pt x="562" y="771"/>
                  </a:lnTo>
                  <a:lnTo>
                    <a:pt x="571" y="787"/>
                  </a:lnTo>
                  <a:lnTo>
                    <a:pt x="574" y="799"/>
                  </a:lnTo>
                  <a:lnTo>
                    <a:pt x="572" y="815"/>
                  </a:lnTo>
                  <a:lnTo>
                    <a:pt x="566" y="831"/>
                  </a:lnTo>
                  <a:lnTo>
                    <a:pt x="552" y="852"/>
                  </a:lnTo>
                  <a:lnTo>
                    <a:pt x="537" y="876"/>
                  </a:lnTo>
                  <a:lnTo>
                    <a:pt x="528" y="898"/>
                  </a:lnTo>
                  <a:lnTo>
                    <a:pt x="523" y="914"/>
                  </a:lnTo>
                  <a:lnTo>
                    <a:pt x="522" y="932"/>
                  </a:lnTo>
                  <a:lnTo>
                    <a:pt x="523" y="945"/>
                  </a:lnTo>
                  <a:lnTo>
                    <a:pt x="531" y="963"/>
                  </a:lnTo>
                  <a:lnTo>
                    <a:pt x="544" y="981"/>
                  </a:lnTo>
                  <a:lnTo>
                    <a:pt x="562" y="995"/>
                  </a:lnTo>
                  <a:lnTo>
                    <a:pt x="580" y="1006"/>
                  </a:lnTo>
                  <a:lnTo>
                    <a:pt x="602" y="1013"/>
                  </a:lnTo>
                  <a:lnTo>
                    <a:pt x="627" y="1019"/>
                  </a:lnTo>
                  <a:lnTo>
                    <a:pt x="646" y="1022"/>
                  </a:lnTo>
                  <a:lnTo>
                    <a:pt x="667" y="1019"/>
                  </a:lnTo>
                  <a:lnTo>
                    <a:pt x="689" y="1015"/>
                  </a:lnTo>
                  <a:lnTo>
                    <a:pt x="710" y="1007"/>
                  </a:lnTo>
                  <a:lnTo>
                    <a:pt x="732" y="997"/>
                  </a:lnTo>
                  <a:lnTo>
                    <a:pt x="756" y="984"/>
                  </a:lnTo>
                  <a:lnTo>
                    <a:pt x="776" y="970"/>
                  </a:lnTo>
                  <a:lnTo>
                    <a:pt x="792" y="957"/>
                  </a:lnTo>
                  <a:lnTo>
                    <a:pt x="805" y="941"/>
                  </a:lnTo>
                  <a:lnTo>
                    <a:pt x="816" y="922"/>
                  </a:lnTo>
                  <a:lnTo>
                    <a:pt x="821" y="901"/>
                  </a:lnTo>
                  <a:lnTo>
                    <a:pt x="824" y="876"/>
                  </a:lnTo>
                  <a:lnTo>
                    <a:pt x="832" y="857"/>
                  </a:lnTo>
                  <a:lnTo>
                    <a:pt x="838" y="848"/>
                  </a:lnTo>
                  <a:lnTo>
                    <a:pt x="851" y="837"/>
                  </a:lnTo>
                  <a:lnTo>
                    <a:pt x="873" y="827"/>
                  </a:lnTo>
                  <a:lnTo>
                    <a:pt x="903" y="817"/>
                  </a:lnTo>
                  <a:lnTo>
                    <a:pt x="934" y="808"/>
                  </a:lnTo>
                  <a:lnTo>
                    <a:pt x="962" y="799"/>
                  </a:lnTo>
                  <a:lnTo>
                    <a:pt x="992" y="792"/>
                  </a:lnTo>
                  <a:lnTo>
                    <a:pt x="1035" y="784"/>
                  </a:lnTo>
                  <a:lnTo>
                    <a:pt x="1094" y="774"/>
                  </a:lnTo>
                  <a:lnTo>
                    <a:pt x="1161" y="768"/>
                  </a:lnTo>
                  <a:lnTo>
                    <a:pt x="1234" y="768"/>
                  </a:lnTo>
                  <a:lnTo>
                    <a:pt x="1305" y="768"/>
                  </a:lnTo>
                  <a:lnTo>
                    <a:pt x="1370" y="775"/>
                  </a:lnTo>
                  <a:lnTo>
                    <a:pt x="1379" y="762"/>
                  </a:lnTo>
                  <a:lnTo>
                    <a:pt x="1388" y="747"/>
                  </a:lnTo>
                  <a:lnTo>
                    <a:pt x="1400" y="734"/>
                  </a:lnTo>
                  <a:lnTo>
                    <a:pt x="1416" y="718"/>
                  </a:lnTo>
                  <a:lnTo>
                    <a:pt x="1428" y="706"/>
                  </a:lnTo>
                  <a:lnTo>
                    <a:pt x="1446" y="687"/>
                  </a:lnTo>
                  <a:lnTo>
                    <a:pt x="1461" y="670"/>
                  </a:lnTo>
                  <a:lnTo>
                    <a:pt x="1474" y="657"/>
                  </a:lnTo>
                  <a:lnTo>
                    <a:pt x="1488" y="641"/>
                  </a:lnTo>
                  <a:lnTo>
                    <a:pt x="1499" y="620"/>
                  </a:lnTo>
                  <a:lnTo>
                    <a:pt x="1504" y="607"/>
                  </a:lnTo>
                  <a:lnTo>
                    <a:pt x="1510" y="585"/>
                  </a:lnTo>
                  <a:lnTo>
                    <a:pt x="1516" y="567"/>
                  </a:lnTo>
                  <a:lnTo>
                    <a:pt x="1517" y="543"/>
                  </a:lnTo>
                  <a:lnTo>
                    <a:pt x="1511" y="524"/>
                  </a:lnTo>
                  <a:lnTo>
                    <a:pt x="1502" y="505"/>
                  </a:lnTo>
                  <a:lnTo>
                    <a:pt x="1492" y="493"/>
                  </a:lnTo>
                  <a:lnTo>
                    <a:pt x="1477" y="486"/>
                  </a:lnTo>
                  <a:lnTo>
                    <a:pt x="1462" y="480"/>
                  </a:lnTo>
                  <a:lnTo>
                    <a:pt x="1446" y="480"/>
                  </a:lnTo>
                  <a:lnTo>
                    <a:pt x="1430" y="480"/>
                  </a:lnTo>
                  <a:lnTo>
                    <a:pt x="1410" y="492"/>
                  </a:lnTo>
                  <a:lnTo>
                    <a:pt x="1396" y="508"/>
                  </a:lnTo>
                  <a:lnTo>
                    <a:pt x="1381" y="527"/>
                  </a:lnTo>
                  <a:lnTo>
                    <a:pt x="1364" y="551"/>
                  </a:lnTo>
                  <a:lnTo>
                    <a:pt x="1347" y="570"/>
                  </a:lnTo>
                  <a:lnTo>
                    <a:pt x="1329" y="585"/>
                  </a:lnTo>
                  <a:lnTo>
                    <a:pt x="1307" y="595"/>
                  </a:lnTo>
                  <a:lnTo>
                    <a:pt x="1281" y="602"/>
                  </a:lnTo>
                  <a:lnTo>
                    <a:pt x="1265" y="602"/>
                  </a:lnTo>
                  <a:lnTo>
                    <a:pt x="1246" y="598"/>
                  </a:lnTo>
                  <a:lnTo>
                    <a:pt x="1231" y="594"/>
                  </a:lnTo>
                  <a:lnTo>
                    <a:pt x="1216" y="588"/>
                  </a:lnTo>
                  <a:lnTo>
                    <a:pt x="1200" y="574"/>
                  </a:lnTo>
                  <a:lnTo>
                    <a:pt x="1189" y="563"/>
                  </a:lnTo>
                  <a:lnTo>
                    <a:pt x="1180" y="548"/>
                  </a:lnTo>
                  <a:lnTo>
                    <a:pt x="1176" y="533"/>
                  </a:lnTo>
                  <a:lnTo>
                    <a:pt x="1170" y="509"/>
                  </a:lnTo>
                  <a:lnTo>
                    <a:pt x="1169" y="489"/>
                  </a:lnTo>
                  <a:lnTo>
                    <a:pt x="1173" y="472"/>
                  </a:lnTo>
                  <a:lnTo>
                    <a:pt x="1183" y="455"/>
                  </a:lnTo>
                  <a:lnTo>
                    <a:pt x="1192" y="440"/>
                  </a:lnTo>
                  <a:lnTo>
                    <a:pt x="1209" y="422"/>
                  </a:lnTo>
                  <a:lnTo>
                    <a:pt x="1231" y="410"/>
                  </a:lnTo>
                  <a:lnTo>
                    <a:pt x="1247" y="401"/>
                  </a:lnTo>
                  <a:lnTo>
                    <a:pt x="1275" y="387"/>
                  </a:lnTo>
                  <a:lnTo>
                    <a:pt x="1302" y="372"/>
                  </a:lnTo>
                  <a:lnTo>
                    <a:pt x="1318" y="359"/>
                  </a:lnTo>
                  <a:lnTo>
                    <a:pt x="1333" y="347"/>
                  </a:lnTo>
                  <a:lnTo>
                    <a:pt x="1350" y="325"/>
                  </a:lnTo>
                  <a:lnTo>
                    <a:pt x="1356" y="301"/>
                  </a:lnTo>
                  <a:lnTo>
                    <a:pt x="1359" y="277"/>
                  </a:lnTo>
                  <a:lnTo>
                    <a:pt x="1360" y="258"/>
                  </a:lnTo>
                  <a:lnTo>
                    <a:pt x="1354" y="230"/>
                  </a:lnTo>
                  <a:lnTo>
                    <a:pt x="1347" y="209"/>
                  </a:lnTo>
                  <a:lnTo>
                    <a:pt x="1336" y="186"/>
                  </a:lnTo>
                  <a:lnTo>
                    <a:pt x="1326" y="164"/>
                  </a:lnTo>
                  <a:lnTo>
                    <a:pt x="1314" y="136"/>
                  </a:lnTo>
                  <a:lnTo>
                    <a:pt x="1304" y="112"/>
                  </a:lnTo>
                  <a:lnTo>
                    <a:pt x="1301" y="90"/>
                  </a:lnTo>
                  <a:lnTo>
                    <a:pt x="1299" y="68"/>
                  </a:lnTo>
                  <a:lnTo>
                    <a:pt x="1302" y="45"/>
                  </a:lnTo>
                  <a:lnTo>
                    <a:pt x="1302" y="22"/>
                  </a:lnTo>
                  <a:lnTo>
                    <a:pt x="1261" y="19"/>
                  </a:lnTo>
                  <a:lnTo>
                    <a:pt x="1204" y="19"/>
                  </a:lnTo>
                  <a:lnTo>
                    <a:pt x="1152" y="14"/>
                  </a:lnTo>
                  <a:lnTo>
                    <a:pt x="1112" y="11"/>
                  </a:lnTo>
                  <a:lnTo>
                    <a:pt x="1071" y="7"/>
                  </a:lnTo>
                  <a:lnTo>
                    <a:pt x="1022" y="3"/>
                  </a:lnTo>
                  <a:lnTo>
                    <a:pt x="983" y="0"/>
                  </a:lnTo>
                  <a:lnTo>
                    <a:pt x="955" y="1"/>
                  </a:lnTo>
                  <a:lnTo>
                    <a:pt x="928" y="6"/>
                  </a:lnTo>
                  <a:lnTo>
                    <a:pt x="912" y="11"/>
                  </a:lnTo>
                  <a:lnTo>
                    <a:pt x="899" y="20"/>
                  </a:lnTo>
                  <a:lnTo>
                    <a:pt x="888" y="32"/>
                  </a:lnTo>
                  <a:lnTo>
                    <a:pt x="884" y="45"/>
                  </a:lnTo>
                  <a:lnTo>
                    <a:pt x="887" y="59"/>
                  </a:lnTo>
                  <a:lnTo>
                    <a:pt x="893" y="73"/>
                  </a:lnTo>
                  <a:lnTo>
                    <a:pt x="903" y="91"/>
                  </a:lnTo>
                  <a:lnTo>
                    <a:pt x="912" y="107"/>
                  </a:lnTo>
                  <a:lnTo>
                    <a:pt x="916" y="125"/>
                  </a:lnTo>
                  <a:lnTo>
                    <a:pt x="916" y="143"/>
                  </a:lnTo>
                  <a:lnTo>
                    <a:pt x="912" y="161"/>
                  </a:lnTo>
                  <a:lnTo>
                    <a:pt x="902" y="177"/>
                  </a:lnTo>
                  <a:lnTo>
                    <a:pt x="890" y="192"/>
                  </a:lnTo>
                  <a:lnTo>
                    <a:pt x="873" y="205"/>
                  </a:lnTo>
                  <a:lnTo>
                    <a:pt x="854" y="217"/>
                  </a:lnTo>
                  <a:lnTo>
                    <a:pt x="833" y="226"/>
                  </a:lnTo>
                  <a:lnTo>
                    <a:pt x="811" y="232"/>
                  </a:lnTo>
                  <a:lnTo>
                    <a:pt x="790" y="236"/>
                  </a:lnTo>
                  <a:lnTo>
                    <a:pt x="768" y="239"/>
                  </a:lnTo>
                  <a:lnTo>
                    <a:pt x="747" y="242"/>
                  </a:lnTo>
                  <a:lnTo>
                    <a:pt x="728" y="242"/>
                  </a:lnTo>
                  <a:lnTo>
                    <a:pt x="709" y="239"/>
                  </a:lnTo>
                  <a:lnTo>
                    <a:pt x="691" y="236"/>
                  </a:lnTo>
                  <a:lnTo>
                    <a:pt x="675" y="232"/>
                  </a:lnTo>
                  <a:lnTo>
                    <a:pt x="661" y="227"/>
                  </a:lnTo>
                  <a:lnTo>
                    <a:pt x="646" y="218"/>
                  </a:lnTo>
                  <a:lnTo>
                    <a:pt x="635" y="209"/>
                  </a:lnTo>
                  <a:lnTo>
                    <a:pt x="624" y="196"/>
                  </a:lnTo>
                  <a:lnTo>
                    <a:pt x="611" y="181"/>
                  </a:lnTo>
                  <a:lnTo>
                    <a:pt x="600" y="167"/>
                  </a:lnTo>
                  <a:lnTo>
                    <a:pt x="590" y="153"/>
                  </a:lnTo>
                  <a:lnTo>
                    <a:pt x="578" y="136"/>
                  </a:lnTo>
                  <a:lnTo>
                    <a:pt x="566" y="119"/>
                  </a:lnTo>
                  <a:lnTo>
                    <a:pt x="552" y="103"/>
                  </a:lnTo>
                  <a:lnTo>
                    <a:pt x="535" y="87"/>
                  </a:lnTo>
                  <a:lnTo>
                    <a:pt x="519" y="75"/>
                  </a:lnTo>
                  <a:lnTo>
                    <a:pt x="501" y="65"/>
                  </a:lnTo>
                  <a:lnTo>
                    <a:pt x="482" y="57"/>
                  </a:lnTo>
                  <a:lnTo>
                    <a:pt x="461" y="51"/>
                  </a:lnTo>
                  <a:lnTo>
                    <a:pt x="434" y="47"/>
                  </a:lnTo>
                  <a:lnTo>
                    <a:pt x="405" y="45"/>
                  </a:lnTo>
                  <a:lnTo>
                    <a:pt x="379" y="44"/>
                  </a:lnTo>
                  <a:lnTo>
                    <a:pt x="356" y="44"/>
                  </a:lnTo>
                  <a:lnTo>
                    <a:pt x="328" y="45"/>
                  </a:lnTo>
                  <a:lnTo>
                    <a:pt x="302" y="50"/>
                  </a:lnTo>
                  <a:lnTo>
                    <a:pt x="276" y="54"/>
                  </a:lnTo>
                  <a:lnTo>
                    <a:pt x="246" y="60"/>
                  </a:lnTo>
                  <a:lnTo>
                    <a:pt x="216" y="66"/>
                  </a:lnTo>
                  <a:lnTo>
                    <a:pt x="178" y="73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4138560" y="6189840"/>
              <a:ext cx="773280" cy="560160"/>
              <a:chOff x="4138560" y="6189840"/>
              <a:chExt cx="773280" cy="560160"/>
            </a:xfrm>
          </p:grpSpPr>
          <p:sp>
            <p:nvSpPr>
              <p:cNvPr id="63" name=""/>
              <p:cNvSpPr/>
              <p:nvPr/>
            </p:nvSpPr>
            <p:spPr>
              <a:xfrm>
                <a:off x="4214880" y="6676920"/>
                <a:ext cx="631800" cy="73080"/>
              </a:xfrm>
              <a:prstGeom prst="rect">
                <a:avLst/>
              </a:prstGeom>
              <a:solidFill>
                <a:srgbClr val="808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138560" y="6189840"/>
                <a:ext cx="773280" cy="485640"/>
              </a:xfrm>
              <a:custGeom>
                <a:avLst/>
                <a:gdLst/>
                <a:ahLst/>
                <a:rect l="l" t="t" r="r" b="b"/>
                <a:pathLst>
                  <a:path w="1460" h="916">
                    <a:moveTo>
                      <a:pt x="1356" y="194"/>
                    </a:moveTo>
                    <a:lnTo>
                      <a:pt x="1344" y="188"/>
                    </a:lnTo>
                    <a:lnTo>
                      <a:pt x="1320" y="182"/>
                    </a:lnTo>
                    <a:lnTo>
                      <a:pt x="1298" y="179"/>
                    </a:lnTo>
                    <a:lnTo>
                      <a:pt x="1274" y="182"/>
                    </a:lnTo>
                    <a:lnTo>
                      <a:pt x="1245" y="186"/>
                    </a:lnTo>
                    <a:lnTo>
                      <a:pt x="1222" y="189"/>
                    </a:lnTo>
                    <a:lnTo>
                      <a:pt x="1194" y="197"/>
                    </a:lnTo>
                    <a:lnTo>
                      <a:pt x="1169" y="204"/>
                    </a:lnTo>
                    <a:lnTo>
                      <a:pt x="1136" y="214"/>
                    </a:lnTo>
                    <a:lnTo>
                      <a:pt x="1107" y="225"/>
                    </a:lnTo>
                    <a:lnTo>
                      <a:pt x="1079" y="238"/>
                    </a:lnTo>
                    <a:lnTo>
                      <a:pt x="1050" y="250"/>
                    </a:lnTo>
                    <a:lnTo>
                      <a:pt x="1016" y="263"/>
                    </a:lnTo>
                    <a:lnTo>
                      <a:pt x="984" y="274"/>
                    </a:lnTo>
                    <a:lnTo>
                      <a:pt x="947" y="285"/>
                    </a:lnTo>
                    <a:lnTo>
                      <a:pt x="909" y="296"/>
                    </a:lnTo>
                    <a:lnTo>
                      <a:pt x="886" y="302"/>
                    </a:lnTo>
                    <a:lnTo>
                      <a:pt x="861" y="305"/>
                    </a:lnTo>
                    <a:lnTo>
                      <a:pt x="832" y="305"/>
                    </a:lnTo>
                    <a:lnTo>
                      <a:pt x="803" y="300"/>
                    </a:lnTo>
                    <a:lnTo>
                      <a:pt x="783" y="296"/>
                    </a:lnTo>
                    <a:lnTo>
                      <a:pt x="767" y="288"/>
                    </a:lnTo>
                    <a:lnTo>
                      <a:pt x="752" y="280"/>
                    </a:lnTo>
                    <a:lnTo>
                      <a:pt x="742" y="271"/>
                    </a:lnTo>
                    <a:lnTo>
                      <a:pt x="736" y="259"/>
                    </a:lnTo>
                    <a:lnTo>
                      <a:pt x="730" y="246"/>
                    </a:lnTo>
                    <a:lnTo>
                      <a:pt x="730" y="232"/>
                    </a:lnTo>
                    <a:lnTo>
                      <a:pt x="734" y="216"/>
                    </a:lnTo>
                    <a:lnTo>
                      <a:pt x="742" y="200"/>
                    </a:lnTo>
                    <a:lnTo>
                      <a:pt x="752" y="186"/>
                    </a:lnTo>
                    <a:lnTo>
                      <a:pt x="766" y="170"/>
                    </a:lnTo>
                    <a:lnTo>
                      <a:pt x="779" y="161"/>
                    </a:lnTo>
                    <a:lnTo>
                      <a:pt x="797" y="148"/>
                    </a:lnTo>
                    <a:lnTo>
                      <a:pt x="822" y="135"/>
                    </a:lnTo>
                    <a:lnTo>
                      <a:pt x="847" y="126"/>
                    </a:lnTo>
                    <a:lnTo>
                      <a:pt x="872" y="120"/>
                    </a:lnTo>
                    <a:lnTo>
                      <a:pt x="895" y="113"/>
                    </a:lnTo>
                    <a:lnTo>
                      <a:pt x="920" y="104"/>
                    </a:lnTo>
                    <a:lnTo>
                      <a:pt x="941" y="93"/>
                    </a:lnTo>
                    <a:lnTo>
                      <a:pt x="960" y="83"/>
                    </a:lnTo>
                    <a:lnTo>
                      <a:pt x="975" y="71"/>
                    </a:lnTo>
                    <a:lnTo>
                      <a:pt x="981" y="56"/>
                    </a:lnTo>
                    <a:lnTo>
                      <a:pt x="978" y="40"/>
                    </a:lnTo>
                    <a:lnTo>
                      <a:pt x="967" y="25"/>
                    </a:lnTo>
                    <a:lnTo>
                      <a:pt x="957" y="15"/>
                    </a:lnTo>
                    <a:lnTo>
                      <a:pt x="942" y="8"/>
                    </a:lnTo>
                    <a:lnTo>
                      <a:pt x="924" y="2"/>
                    </a:lnTo>
                    <a:lnTo>
                      <a:pt x="901" y="0"/>
                    </a:lnTo>
                    <a:lnTo>
                      <a:pt x="877" y="0"/>
                    </a:lnTo>
                    <a:lnTo>
                      <a:pt x="843" y="2"/>
                    </a:lnTo>
                    <a:lnTo>
                      <a:pt x="809" y="5"/>
                    </a:lnTo>
                    <a:lnTo>
                      <a:pt x="786" y="11"/>
                    </a:lnTo>
                    <a:lnTo>
                      <a:pt x="754" y="19"/>
                    </a:lnTo>
                    <a:lnTo>
                      <a:pt x="720" y="31"/>
                    </a:lnTo>
                    <a:lnTo>
                      <a:pt x="696" y="43"/>
                    </a:lnTo>
                    <a:lnTo>
                      <a:pt x="668" y="58"/>
                    </a:lnTo>
                    <a:lnTo>
                      <a:pt x="641" y="71"/>
                    </a:lnTo>
                    <a:lnTo>
                      <a:pt x="613" y="89"/>
                    </a:lnTo>
                    <a:lnTo>
                      <a:pt x="571" y="113"/>
                    </a:lnTo>
                    <a:lnTo>
                      <a:pt x="543" y="130"/>
                    </a:lnTo>
                    <a:lnTo>
                      <a:pt x="518" y="145"/>
                    </a:lnTo>
                    <a:lnTo>
                      <a:pt x="482" y="158"/>
                    </a:lnTo>
                    <a:lnTo>
                      <a:pt x="450" y="169"/>
                    </a:lnTo>
                    <a:lnTo>
                      <a:pt x="416" y="178"/>
                    </a:lnTo>
                    <a:lnTo>
                      <a:pt x="380" y="183"/>
                    </a:lnTo>
                    <a:lnTo>
                      <a:pt x="344" y="189"/>
                    </a:lnTo>
                    <a:lnTo>
                      <a:pt x="316" y="192"/>
                    </a:lnTo>
                    <a:lnTo>
                      <a:pt x="285" y="195"/>
                    </a:lnTo>
                    <a:lnTo>
                      <a:pt x="255" y="195"/>
                    </a:lnTo>
                    <a:lnTo>
                      <a:pt x="226" y="197"/>
                    </a:lnTo>
                    <a:lnTo>
                      <a:pt x="202" y="195"/>
                    </a:lnTo>
                    <a:lnTo>
                      <a:pt x="205" y="219"/>
                    </a:lnTo>
                    <a:lnTo>
                      <a:pt x="212" y="250"/>
                    </a:lnTo>
                    <a:lnTo>
                      <a:pt x="221" y="281"/>
                    </a:lnTo>
                    <a:lnTo>
                      <a:pt x="235" y="318"/>
                    </a:lnTo>
                    <a:lnTo>
                      <a:pt x="245" y="347"/>
                    </a:lnTo>
                    <a:lnTo>
                      <a:pt x="258" y="373"/>
                    </a:lnTo>
                    <a:lnTo>
                      <a:pt x="266" y="396"/>
                    </a:lnTo>
                    <a:lnTo>
                      <a:pt x="267" y="420"/>
                    </a:lnTo>
                    <a:lnTo>
                      <a:pt x="266" y="441"/>
                    </a:lnTo>
                    <a:lnTo>
                      <a:pt x="258" y="457"/>
                    </a:lnTo>
                    <a:lnTo>
                      <a:pt x="249" y="470"/>
                    </a:lnTo>
                    <a:lnTo>
                      <a:pt x="240" y="482"/>
                    </a:lnTo>
                    <a:lnTo>
                      <a:pt x="227" y="491"/>
                    </a:lnTo>
                    <a:lnTo>
                      <a:pt x="215" y="495"/>
                    </a:lnTo>
                    <a:lnTo>
                      <a:pt x="203" y="498"/>
                    </a:lnTo>
                    <a:lnTo>
                      <a:pt x="186" y="497"/>
                    </a:lnTo>
                    <a:lnTo>
                      <a:pt x="172" y="492"/>
                    </a:lnTo>
                    <a:lnTo>
                      <a:pt x="156" y="488"/>
                    </a:lnTo>
                    <a:lnTo>
                      <a:pt x="144" y="482"/>
                    </a:lnTo>
                    <a:lnTo>
                      <a:pt x="126" y="473"/>
                    </a:lnTo>
                    <a:lnTo>
                      <a:pt x="113" y="466"/>
                    </a:lnTo>
                    <a:lnTo>
                      <a:pt x="100" y="460"/>
                    </a:lnTo>
                    <a:lnTo>
                      <a:pt x="85" y="454"/>
                    </a:lnTo>
                    <a:lnTo>
                      <a:pt x="57" y="454"/>
                    </a:lnTo>
                    <a:lnTo>
                      <a:pt x="42" y="460"/>
                    </a:lnTo>
                    <a:lnTo>
                      <a:pt x="28" y="469"/>
                    </a:lnTo>
                    <a:lnTo>
                      <a:pt x="19" y="482"/>
                    </a:lnTo>
                    <a:lnTo>
                      <a:pt x="11" y="498"/>
                    </a:lnTo>
                    <a:lnTo>
                      <a:pt x="5" y="514"/>
                    </a:lnTo>
                    <a:lnTo>
                      <a:pt x="0" y="532"/>
                    </a:lnTo>
                    <a:lnTo>
                      <a:pt x="0" y="553"/>
                    </a:lnTo>
                    <a:lnTo>
                      <a:pt x="3" y="571"/>
                    </a:lnTo>
                    <a:lnTo>
                      <a:pt x="8" y="591"/>
                    </a:lnTo>
                    <a:lnTo>
                      <a:pt x="18" y="610"/>
                    </a:lnTo>
                    <a:lnTo>
                      <a:pt x="28" y="631"/>
                    </a:lnTo>
                    <a:lnTo>
                      <a:pt x="43" y="652"/>
                    </a:lnTo>
                    <a:lnTo>
                      <a:pt x="59" y="664"/>
                    </a:lnTo>
                    <a:lnTo>
                      <a:pt x="80" y="677"/>
                    </a:lnTo>
                    <a:lnTo>
                      <a:pt x="100" y="686"/>
                    </a:lnTo>
                    <a:lnTo>
                      <a:pt x="122" y="690"/>
                    </a:lnTo>
                    <a:lnTo>
                      <a:pt x="141" y="695"/>
                    </a:lnTo>
                    <a:lnTo>
                      <a:pt x="171" y="695"/>
                    </a:lnTo>
                    <a:lnTo>
                      <a:pt x="194" y="692"/>
                    </a:lnTo>
                    <a:lnTo>
                      <a:pt x="223" y="690"/>
                    </a:lnTo>
                    <a:lnTo>
                      <a:pt x="243" y="690"/>
                    </a:lnTo>
                    <a:lnTo>
                      <a:pt x="257" y="699"/>
                    </a:lnTo>
                    <a:lnTo>
                      <a:pt x="261" y="714"/>
                    </a:lnTo>
                    <a:lnTo>
                      <a:pt x="261" y="730"/>
                    </a:lnTo>
                    <a:lnTo>
                      <a:pt x="254" y="752"/>
                    </a:lnTo>
                    <a:lnTo>
                      <a:pt x="246" y="774"/>
                    </a:lnTo>
                    <a:lnTo>
                      <a:pt x="237" y="794"/>
                    </a:lnTo>
                    <a:lnTo>
                      <a:pt x="226" y="819"/>
                    </a:lnTo>
                    <a:lnTo>
                      <a:pt x="212" y="841"/>
                    </a:lnTo>
                    <a:lnTo>
                      <a:pt x="199" y="862"/>
                    </a:lnTo>
                    <a:lnTo>
                      <a:pt x="183" y="882"/>
                    </a:lnTo>
                    <a:lnTo>
                      <a:pt x="171" y="899"/>
                    </a:lnTo>
                    <a:lnTo>
                      <a:pt x="146" y="916"/>
                    </a:lnTo>
                    <a:lnTo>
                      <a:pt x="1349" y="915"/>
                    </a:lnTo>
                    <a:lnTo>
                      <a:pt x="1350" y="896"/>
                    </a:lnTo>
                    <a:lnTo>
                      <a:pt x="1355" y="878"/>
                    </a:lnTo>
                    <a:lnTo>
                      <a:pt x="1360" y="862"/>
                    </a:lnTo>
                    <a:lnTo>
                      <a:pt x="1366" y="848"/>
                    </a:lnTo>
                    <a:lnTo>
                      <a:pt x="1375" y="834"/>
                    </a:lnTo>
                    <a:lnTo>
                      <a:pt x="1387" y="817"/>
                    </a:lnTo>
                    <a:lnTo>
                      <a:pt x="1401" y="803"/>
                    </a:lnTo>
                    <a:lnTo>
                      <a:pt x="1412" y="791"/>
                    </a:lnTo>
                    <a:lnTo>
                      <a:pt x="1427" y="776"/>
                    </a:lnTo>
                    <a:lnTo>
                      <a:pt x="1439" y="764"/>
                    </a:lnTo>
                    <a:lnTo>
                      <a:pt x="1448" y="749"/>
                    </a:lnTo>
                    <a:lnTo>
                      <a:pt x="1455" y="735"/>
                    </a:lnTo>
                    <a:lnTo>
                      <a:pt x="1460" y="712"/>
                    </a:lnTo>
                    <a:lnTo>
                      <a:pt x="1458" y="692"/>
                    </a:lnTo>
                    <a:lnTo>
                      <a:pt x="1454" y="678"/>
                    </a:lnTo>
                    <a:lnTo>
                      <a:pt x="1446" y="665"/>
                    </a:lnTo>
                    <a:lnTo>
                      <a:pt x="1436" y="653"/>
                    </a:lnTo>
                    <a:lnTo>
                      <a:pt x="1423" y="643"/>
                    </a:lnTo>
                    <a:lnTo>
                      <a:pt x="1408" y="637"/>
                    </a:lnTo>
                    <a:lnTo>
                      <a:pt x="1389" y="633"/>
                    </a:lnTo>
                    <a:lnTo>
                      <a:pt x="1368" y="631"/>
                    </a:lnTo>
                    <a:lnTo>
                      <a:pt x="1346" y="633"/>
                    </a:lnTo>
                    <a:lnTo>
                      <a:pt x="1325" y="636"/>
                    </a:lnTo>
                    <a:lnTo>
                      <a:pt x="1304" y="640"/>
                    </a:lnTo>
                    <a:lnTo>
                      <a:pt x="1277" y="647"/>
                    </a:lnTo>
                    <a:lnTo>
                      <a:pt x="1255" y="653"/>
                    </a:lnTo>
                    <a:lnTo>
                      <a:pt x="1231" y="658"/>
                    </a:lnTo>
                    <a:lnTo>
                      <a:pt x="1203" y="661"/>
                    </a:lnTo>
                    <a:lnTo>
                      <a:pt x="1181" y="661"/>
                    </a:lnTo>
                    <a:lnTo>
                      <a:pt x="1162" y="656"/>
                    </a:lnTo>
                    <a:lnTo>
                      <a:pt x="1141" y="650"/>
                    </a:lnTo>
                    <a:lnTo>
                      <a:pt x="1125" y="641"/>
                    </a:lnTo>
                    <a:lnTo>
                      <a:pt x="1110" y="630"/>
                    </a:lnTo>
                    <a:lnTo>
                      <a:pt x="1099" y="612"/>
                    </a:lnTo>
                    <a:lnTo>
                      <a:pt x="1095" y="593"/>
                    </a:lnTo>
                    <a:lnTo>
                      <a:pt x="1098" y="574"/>
                    </a:lnTo>
                    <a:lnTo>
                      <a:pt x="1105" y="554"/>
                    </a:lnTo>
                    <a:lnTo>
                      <a:pt x="1113" y="540"/>
                    </a:lnTo>
                    <a:lnTo>
                      <a:pt x="1126" y="525"/>
                    </a:lnTo>
                    <a:lnTo>
                      <a:pt x="1141" y="511"/>
                    </a:lnTo>
                    <a:lnTo>
                      <a:pt x="1156" y="503"/>
                    </a:lnTo>
                    <a:lnTo>
                      <a:pt x="1174" y="492"/>
                    </a:lnTo>
                    <a:lnTo>
                      <a:pt x="1191" y="486"/>
                    </a:lnTo>
                    <a:lnTo>
                      <a:pt x="1211" y="482"/>
                    </a:lnTo>
                    <a:lnTo>
                      <a:pt x="1231" y="479"/>
                    </a:lnTo>
                    <a:lnTo>
                      <a:pt x="1257" y="475"/>
                    </a:lnTo>
                    <a:lnTo>
                      <a:pt x="1283" y="472"/>
                    </a:lnTo>
                    <a:lnTo>
                      <a:pt x="1306" y="467"/>
                    </a:lnTo>
                    <a:lnTo>
                      <a:pt x="1328" y="458"/>
                    </a:lnTo>
                    <a:lnTo>
                      <a:pt x="1343" y="448"/>
                    </a:lnTo>
                    <a:lnTo>
                      <a:pt x="1356" y="435"/>
                    </a:lnTo>
                    <a:lnTo>
                      <a:pt x="1366" y="420"/>
                    </a:lnTo>
                    <a:lnTo>
                      <a:pt x="1372" y="405"/>
                    </a:lnTo>
                    <a:lnTo>
                      <a:pt x="1377" y="386"/>
                    </a:lnTo>
                    <a:lnTo>
                      <a:pt x="1378" y="361"/>
                    </a:lnTo>
                    <a:lnTo>
                      <a:pt x="1375" y="342"/>
                    </a:lnTo>
                    <a:lnTo>
                      <a:pt x="1374" y="318"/>
                    </a:lnTo>
                    <a:lnTo>
                      <a:pt x="1372" y="290"/>
                    </a:lnTo>
                    <a:lnTo>
                      <a:pt x="1371" y="256"/>
                    </a:lnTo>
                    <a:lnTo>
                      <a:pt x="1371" y="223"/>
                    </a:lnTo>
                    <a:lnTo>
                      <a:pt x="1372" y="204"/>
                    </a:lnTo>
                    <a:lnTo>
                      <a:pt x="1356" y="194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441600" y="6272280"/>
              <a:ext cx="836640" cy="477720"/>
              <a:chOff x="3441600" y="6272280"/>
              <a:chExt cx="836640" cy="477720"/>
            </a:xfrm>
          </p:grpSpPr>
          <p:sp>
            <p:nvSpPr>
              <p:cNvPr id="66" name=""/>
              <p:cNvSpPr/>
              <p:nvPr/>
            </p:nvSpPr>
            <p:spPr>
              <a:xfrm>
                <a:off x="3441600" y="6272280"/>
                <a:ext cx="836640" cy="404640"/>
              </a:xfrm>
              <a:custGeom>
                <a:avLst/>
                <a:gdLst/>
                <a:ahLst/>
                <a:rect l="l" t="t" r="r" b="b"/>
                <a:pathLst>
                  <a:path w="1579" h="766">
                    <a:moveTo>
                      <a:pt x="0" y="764"/>
                    </a:moveTo>
                    <a:lnTo>
                      <a:pt x="143" y="99"/>
                    </a:lnTo>
                    <a:lnTo>
                      <a:pt x="165" y="98"/>
                    </a:lnTo>
                    <a:lnTo>
                      <a:pt x="190" y="95"/>
                    </a:lnTo>
                    <a:lnTo>
                      <a:pt x="236" y="86"/>
                    </a:lnTo>
                    <a:lnTo>
                      <a:pt x="270" y="79"/>
                    </a:lnTo>
                    <a:lnTo>
                      <a:pt x="313" y="70"/>
                    </a:lnTo>
                    <a:lnTo>
                      <a:pt x="361" y="58"/>
                    </a:lnTo>
                    <a:lnTo>
                      <a:pt x="407" y="45"/>
                    </a:lnTo>
                    <a:lnTo>
                      <a:pt x="448" y="30"/>
                    </a:lnTo>
                    <a:lnTo>
                      <a:pt x="496" y="14"/>
                    </a:lnTo>
                    <a:lnTo>
                      <a:pt x="527" y="6"/>
                    </a:lnTo>
                    <a:lnTo>
                      <a:pt x="554" y="2"/>
                    </a:lnTo>
                    <a:lnTo>
                      <a:pt x="577" y="0"/>
                    </a:lnTo>
                    <a:lnTo>
                      <a:pt x="600" y="0"/>
                    </a:lnTo>
                    <a:lnTo>
                      <a:pt x="632" y="5"/>
                    </a:lnTo>
                    <a:lnTo>
                      <a:pt x="655" y="9"/>
                    </a:lnTo>
                    <a:lnTo>
                      <a:pt x="678" y="17"/>
                    </a:lnTo>
                    <a:lnTo>
                      <a:pt x="695" y="26"/>
                    </a:lnTo>
                    <a:lnTo>
                      <a:pt x="706" y="36"/>
                    </a:lnTo>
                    <a:lnTo>
                      <a:pt x="715" y="52"/>
                    </a:lnTo>
                    <a:lnTo>
                      <a:pt x="718" y="64"/>
                    </a:lnTo>
                    <a:lnTo>
                      <a:pt x="717" y="80"/>
                    </a:lnTo>
                    <a:lnTo>
                      <a:pt x="711" y="96"/>
                    </a:lnTo>
                    <a:lnTo>
                      <a:pt x="696" y="117"/>
                    </a:lnTo>
                    <a:lnTo>
                      <a:pt x="681" y="142"/>
                    </a:lnTo>
                    <a:lnTo>
                      <a:pt x="672" y="164"/>
                    </a:lnTo>
                    <a:lnTo>
                      <a:pt x="668" y="181"/>
                    </a:lnTo>
                    <a:lnTo>
                      <a:pt x="666" y="198"/>
                    </a:lnTo>
                    <a:lnTo>
                      <a:pt x="668" y="212"/>
                    </a:lnTo>
                    <a:lnTo>
                      <a:pt x="675" y="229"/>
                    </a:lnTo>
                    <a:lnTo>
                      <a:pt x="689" y="247"/>
                    </a:lnTo>
                    <a:lnTo>
                      <a:pt x="706" y="263"/>
                    </a:lnTo>
                    <a:lnTo>
                      <a:pt x="724" y="274"/>
                    </a:lnTo>
                    <a:lnTo>
                      <a:pt x="746" y="281"/>
                    </a:lnTo>
                    <a:lnTo>
                      <a:pt x="772" y="287"/>
                    </a:lnTo>
                    <a:lnTo>
                      <a:pt x="791" y="290"/>
                    </a:lnTo>
                    <a:lnTo>
                      <a:pt x="813" y="287"/>
                    </a:lnTo>
                    <a:lnTo>
                      <a:pt x="835" y="283"/>
                    </a:lnTo>
                    <a:lnTo>
                      <a:pt x="856" y="275"/>
                    </a:lnTo>
                    <a:lnTo>
                      <a:pt x="879" y="265"/>
                    </a:lnTo>
                    <a:lnTo>
                      <a:pt x="902" y="250"/>
                    </a:lnTo>
                    <a:lnTo>
                      <a:pt x="922" y="237"/>
                    </a:lnTo>
                    <a:lnTo>
                      <a:pt x="938" y="223"/>
                    </a:lnTo>
                    <a:lnTo>
                      <a:pt x="951" y="207"/>
                    </a:lnTo>
                    <a:lnTo>
                      <a:pt x="962" y="188"/>
                    </a:lnTo>
                    <a:lnTo>
                      <a:pt x="968" y="167"/>
                    </a:lnTo>
                    <a:lnTo>
                      <a:pt x="970" y="142"/>
                    </a:lnTo>
                    <a:lnTo>
                      <a:pt x="978" y="122"/>
                    </a:lnTo>
                    <a:lnTo>
                      <a:pt x="984" y="113"/>
                    </a:lnTo>
                    <a:lnTo>
                      <a:pt x="997" y="102"/>
                    </a:lnTo>
                    <a:lnTo>
                      <a:pt x="1019" y="92"/>
                    </a:lnTo>
                    <a:lnTo>
                      <a:pt x="1049" y="82"/>
                    </a:lnTo>
                    <a:lnTo>
                      <a:pt x="1080" y="73"/>
                    </a:lnTo>
                    <a:lnTo>
                      <a:pt x="1108" y="64"/>
                    </a:lnTo>
                    <a:lnTo>
                      <a:pt x="1138" y="57"/>
                    </a:lnTo>
                    <a:lnTo>
                      <a:pt x="1181" y="49"/>
                    </a:lnTo>
                    <a:lnTo>
                      <a:pt x="1242" y="39"/>
                    </a:lnTo>
                    <a:lnTo>
                      <a:pt x="1309" y="33"/>
                    </a:lnTo>
                    <a:lnTo>
                      <a:pt x="1381" y="33"/>
                    </a:lnTo>
                    <a:lnTo>
                      <a:pt x="1453" y="33"/>
                    </a:lnTo>
                    <a:lnTo>
                      <a:pt x="1518" y="40"/>
                    </a:lnTo>
                    <a:lnTo>
                      <a:pt x="1521" y="59"/>
                    </a:lnTo>
                    <a:lnTo>
                      <a:pt x="1525" y="83"/>
                    </a:lnTo>
                    <a:lnTo>
                      <a:pt x="1534" y="116"/>
                    </a:lnTo>
                    <a:lnTo>
                      <a:pt x="1548" y="153"/>
                    </a:lnTo>
                    <a:lnTo>
                      <a:pt x="1561" y="190"/>
                    </a:lnTo>
                    <a:lnTo>
                      <a:pt x="1570" y="216"/>
                    </a:lnTo>
                    <a:lnTo>
                      <a:pt x="1576" y="241"/>
                    </a:lnTo>
                    <a:lnTo>
                      <a:pt x="1579" y="263"/>
                    </a:lnTo>
                    <a:lnTo>
                      <a:pt x="1577" y="280"/>
                    </a:lnTo>
                    <a:lnTo>
                      <a:pt x="1571" y="297"/>
                    </a:lnTo>
                    <a:lnTo>
                      <a:pt x="1562" y="312"/>
                    </a:lnTo>
                    <a:lnTo>
                      <a:pt x="1555" y="321"/>
                    </a:lnTo>
                    <a:lnTo>
                      <a:pt x="1545" y="328"/>
                    </a:lnTo>
                    <a:lnTo>
                      <a:pt x="1530" y="336"/>
                    </a:lnTo>
                    <a:lnTo>
                      <a:pt x="1510" y="337"/>
                    </a:lnTo>
                    <a:lnTo>
                      <a:pt x="1491" y="333"/>
                    </a:lnTo>
                    <a:lnTo>
                      <a:pt x="1473" y="327"/>
                    </a:lnTo>
                    <a:lnTo>
                      <a:pt x="1453" y="318"/>
                    </a:lnTo>
                    <a:lnTo>
                      <a:pt x="1436" y="308"/>
                    </a:lnTo>
                    <a:lnTo>
                      <a:pt x="1421" y="302"/>
                    </a:lnTo>
                    <a:lnTo>
                      <a:pt x="1404" y="296"/>
                    </a:lnTo>
                    <a:lnTo>
                      <a:pt x="1384" y="293"/>
                    </a:lnTo>
                    <a:lnTo>
                      <a:pt x="1370" y="294"/>
                    </a:lnTo>
                    <a:lnTo>
                      <a:pt x="1353" y="302"/>
                    </a:lnTo>
                    <a:lnTo>
                      <a:pt x="1340" y="314"/>
                    </a:lnTo>
                    <a:lnTo>
                      <a:pt x="1329" y="328"/>
                    </a:lnTo>
                    <a:lnTo>
                      <a:pt x="1321" y="348"/>
                    </a:lnTo>
                    <a:lnTo>
                      <a:pt x="1316" y="362"/>
                    </a:lnTo>
                    <a:lnTo>
                      <a:pt x="1313" y="377"/>
                    </a:lnTo>
                    <a:lnTo>
                      <a:pt x="1312" y="398"/>
                    </a:lnTo>
                    <a:lnTo>
                      <a:pt x="1315" y="421"/>
                    </a:lnTo>
                    <a:lnTo>
                      <a:pt x="1322" y="445"/>
                    </a:lnTo>
                    <a:lnTo>
                      <a:pt x="1334" y="466"/>
                    </a:lnTo>
                    <a:lnTo>
                      <a:pt x="1347" y="485"/>
                    </a:lnTo>
                    <a:lnTo>
                      <a:pt x="1355" y="495"/>
                    </a:lnTo>
                    <a:lnTo>
                      <a:pt x="1371" y="510"/>
                    </a:lnTo>
                    <a:lnTo>
                      <a:pt x="1389" y="525"/>
                    </a:lnTo>
                    <a:lnTo>
                      <a:pt x="1411" y="535"/>
                    </a:lnTo>
                    <a:lnTo>
                      <a:pt x="1436" y="543"/>
                    </a:lnTo>
                    <a:lnTo>
                      <a:pt x="1459" y="546"/>
                    </a:lnTo>
                    <a:lnTo>
                      <a:pt x="1485" y="547"/>
                    </a:lnTo>
                    <a:lnTo>
                      <a:pt x="1512" y="544"/>
                    </a:lnTo>
                    <a:lnTo>
                      <a:pt x="1534" y="543"/>
                    </a:lnTo>
                    <a:lnTo>
                      <a:pt x="1555" y="541"/>
                    </a:lnTo>
                    <a:lnTo>
                      <a:pt x="1567" y="547"/>
                    </a:lnTo>
                    <a:lnTo>
                      <a:pt x="1571" y="557"/>
                    </a:lnTo>
                    <a:lnTo>
                      <a:pt x="1573" y="568"/>
                    </a:lnTo>
                    <a:lnTo>
                      <a:pt x="1571" y="578"/>
                    </a:lnTo>
                    <a:lnTo>
                      <a:pt x="1565" y="599"/>
                    </a:lnTo>
                    <a:lnTo>
                      <a:pt x="1558" y="617"/>
                    </a:lnTo>
                    <a:lnTo>
                      <a:pt x="1549" y="639"/>
                    </a:lnTo>
                    <a:lnTo>
                      <a:pt x="1536" y="664"/>
                    </a:lnTo>
                    <a:lnTo>
                      <a:pt x="1521" y="689"/>
                    </a:lnTo>
                    <a:lnTo>
                      <a:pt x="1506" y="711"/>
                    </a:lnTo>
                    <a:lnTo>
                      <a:pt x="1488" y="736"/>
                    </a:lnTo>
                    <a:lnTo>
                      <a:pt x="1473" y="754"/>
                    </a:lnTo>
                    <a:lnTo>
                      <a:pt x="1457" y="76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9f3fd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41600" y="6678720"/>
                <a:ext cx="771480" cy="71280"/>
              </a:xfrm>
              <a:prstGeom prst="rect">
                <a:avLst/>
              </a:prstGeom>
              <a:solidFill>
                <a:srgbClr val="5f009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718160" y="6262560"/>
              <a:ext cx="977760" cy="487440"/>
              <a:chOff x="4718160" y="6262560"/>
              <a:chExt cx="977760" cy="487440"/>
            </a:xfrm>
          </p:grpSpPr>
          <p:sp>
            <p:nvSpPr>
              <p:cNvPr id="69" name=""/>
              <p:cNvSpPr/>
              <p:nvPr/>
            </p:nvSpPr>
            <p:spPr>
              <a:xfrm>
                <a:off x="4718160" y="6262560"/>
                <a:ext cx="977760" cy="412920"/>
              </a:xfrm>
              <a:custGeom>
                <a:avLst/>
                <a:gdLst/>
                <a:ahLst/>
                <a:rect l="l" t="t" r="r" b="b"/>
                <a:pathLst>
                  <a:path w="1848" h="782">
                    <a:moveTo>
                      <a:pt x="280" y="73"/>
                    </a:moveTo>
                    <a:lnTo>
                      <a:pt x="298" y="68"/>
                    </a:lnTo>
                    <a:lnTo>
                      <a:pt x="322" y="64"/>
                    </a:lnTo>
                    <a:lnTo>
                      <a:pt x="343" y="65"/>
                    </a:lnTo>
                    <a:lnTo>
                      <a:pt x="362" y="70"/>
                    </a:lnTo>
                    <a:lnTo>
                      <a:pt x="381" y="74"/>
                    </a:lnTo>
                    <a:lnTo>
                      <a:pt x="402" y="78"/>
                    </a:lnTo>
                    <a:lnTo>
                      <a:pt x="426" y="83"/>
                    </a:lnTo>
                    <a:lnTo>
                      <a:pt x="443" y="86"/>
                    </a:lnTo>
                    <a:lnTo>
                      <a:pt x="467" y="87"/>
                    </a:lnTo>
                    <a:lnTo>
                      <a:pt x="489" y="86"/>
                    </a:lnTo>
                    <a:lnTo>
                      <a:pt x="509" y="81"/>
                    </a:lnTo>
                    <a:lnTo>
                      <a:pt x="531" y="76"/>
                    </a:lnTo>
                    <a:lnTo>
                      <a:pt x="552" y="68"/>
                    </a:lnTo>
                    <a:lnTo>
                      <a:pt x="571" y="59"/>
                    </a:lnTo>
                    <a:lnTo>
                      <a:pt x="592" y="50"/>
                    </a:lnTo>
                    <a:lnTo>
                      <a:pt x="611" y="42"/>
                    </a:lnTo>
                    <a:lnTo>
                      <a:pt x="635" y="34"/>
                    </a:lnTo>
                    <a:lnTo>
                      <a:pt x="654" y="30"/>
                    </a:lnTo>
                    <a:lnTo>
                      <a:pt x="676" y="28"/>
                    </a:lnTo>
                    <a:lnTo>
                      <a:pt x="697" y="31"/>
                    </a:lnTo>
                    <a:lnTo>
                      <a:pt x="716" y="37"/>
                    </a:lnTo>
                    <a:lnTo>
                      <a:pt x="736" y="49"/>
                    </a:lnTo>
                    <a:lnTo>
                      <a:pt x="748" y="59"/>
                    </a:lnTo>
                    <a:lnTo>
                      <a:pt x="754" y="78"/>
                    </a:lnTo>
                    <a:lnTo>
                      <a:pt x="751" y="99"/>
                    </a:lnTo>
                    <a:lnTo>
                      <a:pt x="745" y="123"/>
                    </a:lnTo>
                    <a:lnTo>
                      <a:pt x="736" y="148"/>
                    </a:lnTo>
                    <a:lnTo>
                      <a:pt x="728" y="169"/>
                    </a:lnTo>
                    <a:lnTo>
                      <a:pt x="730" y="189"/>
                    </a:lnTo>
                    <a:lnTo>
                      <a:pt x="739" y="210"/>
                    </a:lnTo>
                    <a:lnTo>
                      <a:pt x="754" y="226"/>
                    </a:lnTo>
                    <a:lnTo>
                      <a:pt x="768" y="237"/>
                    </a:lnTo>
                    <a:lnTo>
                      <a:pt x="789" y="242"/>
                    </a:lnTo>
                    <a:lnTo>
                      <a:pt x="811" y="248"/>
                    </a:lnTo>
                    <a:lnTo>
                      <a:pt x="843" y="253"/>
                    </a:lnTo>
                    <a:lnTo>
                      <a:pt x="869" y="256"/>
                    </a:lnTo>
                    <a:lnTo>
                      <a:pt x="902" y="257"/>
                    </a:lnTo>
                    <a:lnTo>
                      <a:pt x="932" y="254"/>
                    </a:lnTo>
                    <a:lnTo>
                      <a:pt x="958" y="250"/>
                    </a:lnTo>
                    <a:lnTo>
                      <a:pt x="986" y="242"/>
                    </a:lnTo>
                    <a:lnTo>
                      <a:pt x="1012" y="234"/>
                    </a:lnTo>
                    <a:lnTo>
                      <a:pt x="1031" y="223"/>
                    </a:lnTo>
                    <a:lnTo>
                      <a:pt x="1050" y="211"/>
                    </a:lnTo>
                    <a:lnTo>
                      <a:pt x="1065" y="198"/>
                    </a:lnTo>
                    <a:lnTo>
                      <a:pt x="1078" y="182"/>
                    </a:lnTo>
                    <a:lnTo>
                      <a:pt x="1086" y="161"/>
                    </a:lnTo>
                    <a:lnTo>
                      <a:pt x="1087" y="129"/>
                    </a:lnTo>
                    <a:lnTo>
                      <a:pt x="1087" y="104"/>
                    </a:lnTo>
                    <a:lnTo>
                      <a:pt x="1092" y="81"/>
                    </a:lnTo>
                    <a:lnTo>
                      <a:pt x="1101" y="65"/>
                    </a:lnTo>
                    <a:lnTo>
                      <a:pt x="1114" y="50"/>
                    </a:lnTo>
                    <a:lnTo>
                      <a:pt x="1129" y="37"/>
                    </a:lnTo>
                    <a:lnTo>
                      <a:pt x="1148" y="25"/>
                    </a:lnTo>
                    <a:lnTo>
                      <a:pt x="1167" y="16"/>
                    </a:lnTo>
                    <a:lnTo>
                      <a:pt x="1194" y="9"/>
                    </a:lnTo>
                    <a:lnTo>
                      <a:pt x="1219" y="6"/>
                    </a:lnTo>
                    <a:lnTo>
                      <a:pt x="1246" y="3"/>
                    </a:lnTo>
                    <a:lnTo>
                      <a:pt x="1274" y="2"/>
                    </a:lnTo>
                    <a:lnTo>
                      <a:pt x="1304" y="0"/>
                    </a:lnTo>
                    <a:lnTo>
                      <a:pt x="1337" y="2"/>
                    </a:lnTo>
                    <a:lnTo>
                      <a:pt x="1362" y="3"/>
                    </a:lnTo>
                    <a:lnTo>
                      <a:pt x="1384" y="6"/>
                    </a:lnTo>
                    <a:lnTo>
                      <a:pt x="1408" y="9"/>
                    </a:lnTo>
                    <a:lnTo>
                      <a:pt x="1430" y="12"/>
                    </a:lnTo>
                    <a:lnTo>
                      <a:pt x="1454" y="13"/>
                    </a:lnTo>
                    <a:lnTo>
                      <a:pt x="1635" y="18"/>
                    </a:lnTo>
                    <a:lnTo>
                      <a:pt x="1848" y="782"/>
                    </a:lnTo>
                    <a:lnTo>
                      <a:pt x="254" y="780"/>
                    </a:lnTo>
                    <a:lnTo>
                      <a:pt x="255" y="760"/>
                    </a:lnTo>
                    <a:lnTo>
                      <a:pt x="260" y="742"/>
                    </a:lnTo>
                    <a:lnTo>
                      <a:pt x="265" y="726"/>
                    </a:lnTo>
                    <a:lnTo>
                      <a:pt x="271" y="712"/>
                    </a:lnTo>
                    <a:lnTo>
                      <a:pt x="280" y="698"/>
                    </a:lnTo>
                    <a:lnTo>
                      <a:pt x="292" y="681"/>
                    </a:lnTo>
                    <a:lnTo>
                      <a:pt x="306" y="667"/>
                    </a:lnTo>
                    <a:lnTo>
                      <a:pt x="317" y="655"/>
                    </a:lnTo>
                    <a:lnTo>
                      <a:pt x="332" y="640"/>
                    </a:lnTo>
                    <a:lnTo>
                      <a:pt x="344" y="628"/>
                    </a:lnTo>
                    <a:lnTo>
                      <a:pt x="353" y="613"/>
                    </a:lnTo>
                    <a:lnTo>
                      <a:pt x="360" y="599"/>
                    </a:lnTo>
                    <a:lnTo>
                      <a:pt x="365" y="576"/>
                    </a:lnTo>
                    <a:lnTo>
                      <a:pt x="363" y="556"/>
                    </a:lnTo>
                    <a:lnTo>
                      <a:pt x="359" y="542"/>
                    </a:lnTo>
                    <a:lnTo>
                      <a:pt x="351" y="529"/>
                    </a:lnTo>
                    <a:lnTo>
                      <a:pt x="341" y="517"/>
                    </a:lnTo>
                    <a:lnTo>
                      <a:pt x="328" y="507"/>
                    </a:lnTo>
                    <a:lnTo>
                      <a:pt x="313" y="501"/>
                    </a:lnTo>
                    <a:lnTo>
                      <a:pt x="294" y="497"/>
                    </a:lnTo>
                    <a:lnTo>
                      <a:pt x="273" y="495"/>
                    </a:lnTo>
                    <a:lnTo>
                      <a:pt x="251" y="497"/>
                    </a:lnTo>
                    <a:lnTo>
                      <a:pt x="230" y="500"/>
                    </a:lnTo>
                    <a:lnTo>
                      <a:pt x="209" y="504"/>
                    </a:lnTo>
                    <a:lnTo>
                      <a:pt x="182" y="511"/>
                    </a:lnTo>
                    <a:lnTo>
                      <a:pt x="160" y="517"/>
                    </a:lnTo>
                    <a:lnTo>
                      <a:pt x="136" y="522"/>
                    </a:lnTo>
                    <a:lnTo>
                      <a:pt x="108" y="525"/>
                    </a:lnTo>
                    <a:lnTo>
                      <a:pt x="86" y="525"/>
                    </a:lnTo>
                    <a:lnTo>
                      <a:pt x="67" y="520"/>
                    </a:lnTo>
                    <a:lnTo>
                      <a:pt x="46" y="514"/>
                    </a:lnTo>
                    <a:lnTo>
                      <a:pt x="30" y="505"/>
                    </a:lnTo>
                    <a:lnTo>
                      <a:pt x="15" y="494"/>
                    </a:lnTo>
                    <a:lnTo>
                      <a:pt x="4" y="476"/>
                    </a:lnTo>
                    <a:lnTo>
                      <a:pt x="0" y="457"/>
                    </a:lnTo>
                    <a:lnTo>
                      <a:pt x="3" y="438"/>
                    </a:lnTo>
                    <a:lnTo>
                      <a:pt x="10" y="418"/>
                    </a:lnTo>
                    <a:lnTo>
                      <a:pt x="18" y="404"/>
                    </a:lnTo>
                    <a:lnTo>
                      <a:pt x="31" y="389"/>
                    </a:lnTo>
                    <a:lnTo>
                      <a:pt x="46" y="375"/>
                    </a:lnTo>
                    <a:lnTo>
                      <a:pt x="61" y="367"/>
                    </a:lnTo>
                    <a:lnTo>
                      <a:pt x="79" y="356"/>
                    </a:lnTo>
                    <a:lnTo>
                      <a:pt x="96" y="350"/>
                    </a:lnTo>
                    <a:lnTo>
                      <a:pt x="116" y="346"/>
                    </a:lnTo>
                    <a:lnTo>
                      <a:pt x="136" y="343"/>
                    </a:lnTo>
                    <a:lnTo>
                      <a:pt x="162" y="339"/>
                    </a:lnTo>
                    <a:lnTo>
                      <a:pt x="188" y="336"/>
                    </a:lnTo>
                    <a:lnTo>
                      <a:pt x="211" y="331"/>
                    </a:lnTo>
                    <a:lnTo>
                      <a:pt x="233" y="322"/>
                    </a:lnTo>
                    <a:lnTo>
                      <a:pt x="248" y="312"/>
                    </a:lnTo>
                    <a:lnTo>
                      <a:pt x="261" y="299"/>
                    </a:lnTo>
                    <a:lnTo>
                      <a:pt x="271" y="284"/>
                    </a:lnTo>
                    <a:lnTo>
                      <a:pt x="277" y="269"/>
                    </a:lnTo>
                    <a:lnTo>
                      <a:pt x="282" y="250"/>
                    </a:lnTo>
                    <a:lnTo>
                      <a:pt x="283" y="225"/>
                    </a:lnTo>
                    <a:lnTo>
                      <a:pt x="282" y="203"/>
                    </a:lnTo>
                    <a:lnTo>
                      <a:pt x="280" y="179"/>
                    </a:lnTo>
                    <a:lnTo>
                      <a:pt x="279" y="154"/>
                    </a:lnTo>
                    <a:lnTo>
                      <a:pt x="277" y="124"/>
                    </a:lnTo>
                    <a:lnTo>
                      <a:pt x="276" y="99"/>
                    </a:lnTo>
                    <a:lnTo>
                      <a:pt x="277" y="83"/>
                    </a:lnTo>
                    <a:lnTo>
                      <a:pt x="280" y="73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49920" y="6676920"/>
                <a:ext cx="846000" cy="73080"/>
              </a:xfrm>
              <a:prstGeom prst="rect">
                <a:avLst/>
              </a:prstGeom>
              <a:solidFill>
                <a:srgbClr val="000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49680" y="2743200"/>
            <a:ext cx="3416040" cy="273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67120" y="2808360"/>
            <a:ext cx="450540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DIATING FAC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nvironment                           Cultur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ructure                              Standard Procedures             Politics                                Management Decisions         Ch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RGANIZATIONS &amp; INFORMATION TECHNOLOG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44520" y="1930320"/>
            <a:ext cx="6502320" cy="46735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5080" y="3054240"/>
            <a:ext cx="2360520" cy="2273400"/>
            <a:chOff x="235080" y="3054240"/>
            <a:chExt cx="2360520" cy="2273400"/>
          </a:xfrm>
        </p:grpSpPr>
        <p:sp>
          <p:nvSpPr>
            <p:cNvPr id="76" name=""/>
            <p:cNvSpPr/>
            <p:nvPr/>
          </p:nvSpPr>
          <p:spPr>
            <a:xfrm>
              <a:off x="235080" y="3054240"/>
              <a:ext cx="2273040" cy="2273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ae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9880" y="4033800"/>
              <a:ext cx="229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407280" y="3054240"/>
            <a:ext cx="2273040" cy="2273400"/>
            <a:chOff x="6407280" y="3054240"/>
            <a:chExt cx="2273040" cy="2273400"/>
          </a:xfrm>
        </p:grpSpPr>
        <p:sp>
          <p:nvSpPr>
            <p:cNvPr id="79" name=""/>
            <p:cNvSpPr/>
            <p:nvPr/>
          </p:nvSpPr>
          <p:spPr>
            <a:xfrm>
              <a:off x="6407280" y="3054240"/>
              <a:ext cx="2273040" cy="2273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ae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48400" y="395748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INFORMATION TECHN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2520" y="6243480"/>
            <a:ext cx="6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715000" y="65160"/>
          <a:ext cx="34099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65160"/>
                    <a:ext cx="34099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ORGANIZATION</a:t>
            </a:r>
            <a:endParaRPr b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ECHNICAL DEFINITION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ABLE, FORMAL STRUCTUR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AKES RESOURCES FROM ENVIRONMEN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PROCESSES THE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O PRODUCE OUTPU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2520" y="6243480"/>
            <a:ext cx="6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87240" y="879120"/>
            <a:ext cx="7692120" cy="5064480"/>
            <a:chOff x="687240" y="879120"/>
            <a:chExt cx="7692120" cy="5064480"/>
          </a:xfrm>
        </p:grpSpPr>
        <p:sp>
          <p:nvSpPr>
            <p:cNvPr id="88" name=""/>
            <p:cNvSpPr/>
            <p:nvPr/>
          </p:nvSpPr>
          <p:spPr>
            <a:xfrm>
              <a:off x="1758960" y="1155600"/>
              <a:ext cx="5473800" cy="47880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-1598040" y="3164760"/>
              <a:ext cx="5025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NVIRONMENTAL RE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5942160" y="3314160"/>
              <a:ext cx="4419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NVIRONMENTAL OUTPU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3160" y="3137040"/>
              <a:ext cx="673200" cy="291960"/>
            </a:xfrm>
            <a:prstGeom prst="rightArrow">
              <a:avLst>
                <a:gd name="adj1" fmla="val 50000"/>
                <a:gd name="adj2" fmla="val 1153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45360" y="3137040"/>
              <a:ext cx="673200" cy="291960"/>
            </a:xfrm>
            <a:prstGeom prst="rightArrow">
              <a:avLst>
                <a:gd name="adj1" fmla="val 50000"/>
                <a:gd name="adj2" fmla="val 1153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EHAVIORAL VIEW OF ORGANIZA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UCTUR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ierarchy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ivision of labor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ules, Procedure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ights/Obligations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Privileges/Responsibilities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alues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orms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eople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2520" y="6243480"/>
            <a:ext cx="6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TRUCTURAL CHARACTERISTICS OF ALL ORGANIZA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167360" y="4021200"/>
            <a:ext cx="3993840" cy="2836800"/>
            <a:chOff x="4167360" y="4021200"/>
            <a:chExt cx="3993840" cy="2836800"/>
          </a:xfrm>
        </p:grpSpPr>
        <p:sp>
          <p:nvSpPr>
            <p:cNvPr id="98" name=""/>
            <p:cNvSpPr/>
            <p:nvPr/>
          </p:nvSpPr>
          <p:spPr>
            <a:xfrm flipH="1">
              <a:off x="5353560" y="4021200"/>
              <a:ext cx="1639440" cy="1387440"/>
            </a:xfrm>
            <a:prstGeom prst="rect">
              <a:avLst/>
            </a:prstGeom>
            <a:gradFill rotWithShape="0">
              <a:gsLst>
                <a:gs pos="0">
                  <a:srgbClr val="646464"/>
                </a:gs>
                <a:gs pos="50000">
                  <a:srgbClr val="919191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599800" y="4159440"/>
              <a:ext cx="1362960" cy="1522440"/>
              <a:chOff x="5599800" y="4159440"/>
              <a:chExt cx="1362960" cy="152244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5599800" y="4159440"/>
                <a:ext cx="1362960" cy="1522440"/>
                <a:chOff x="5599800" y="4159440"/>
                <a:chExt cx="1362960" cy="1522440"/>
              </a:xfrm>
            </p:grpSpPr>
            <p:sp>
              <p:nvSpPr>
                <p:cNvPr id="101" name=""/>
                <p:cNvSpPr/>
                <p:nvPr/>
              </p:nvSpPr>
              <p:spPr>
                <a:xfrm flipH="1" flipV="1">
                  <a:off x="5599800" y="4159440"/>
                  <a:ext cx="353880" cy="557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5833440" y="4245120"/>
                  <a:ext cx="1129320" cy="1436760"/>
                  <a:chOff x="5833440" y="4245120"/>
                  <a:chExt cx="1129320" cy="143676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flipH="1">
                    <a:off x="6052320" y="4888080"/>
                    <a:ext cx="128160" cy="10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6348960" y="4245120"/>
                    <a:ext cx="318600" cy="315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5833440" y="4560840"/>
                    <a:ext cx="1105920" cy="112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706">
                        <a:moveTo>
                          <a:pt x="206" y="26"/>
                        </a:moveTo>
                        <a:lnTo>
                          <a:pt x="165" y="26"/>
                        </a:lnTo>
                        <a:lnTo>
                          <a:pt x="112" y="55"/>
                        </a:lnTo>
                        <a:lnTo>
                          <a:pt x="0" y="220"/>
                        </a:lnTo>
                        <a:lnTo>
                          <a:pt x="4" y="293"/>
                        </a:lnTo>
                        <a:lnTo>
                          <a:pt x="80" y="349"/>
                        </a:lnTo>
                        <a:lnTo>
                          <a:pt x="142" y="392"/>
                        </a:lnTo>
                        <a:lnTo>
                          <a:pt x="220" y="298"/>
                        </a:lnTo>
                        <a:lnTo>
                          <a:pt x="190" y="272"/>
                        </a:lnTo>
                        <a:lnTo>
                          <a:pt x="165" y="252"/>
                        </a:lnTo>
                        <a:lnTo>
                          <a:pt x="218" y="170"/>
                        </a:lnTo>
                        <a:lnTo>
                          <a:pt x="368" y="272"/>
                        </a:lnTo>
                        <a:lnTo>
                          <a:pt x="221" y="472"/>
                        </a:lnTo>
                        <a:lnTo>
                          <a:pt x="98" y="380"/>
                        </a:lnTo>
                        <a:lnTo>
                          <a:pt x="99" y="705"/>
                        </a:lnTo>
                        <a:lnTo>
                          <a:pt x="413" y="705"/>
                        </a:lnTo>
                        <a:lnTo>
                          <a:pt x="414" y="217"/>
                        </a:lnTo>
                        <a:lnTo>
                          <a:pt x="485" y="263"/>
                        </a:lnTo>
                        <a:lnTo>
                          <a:pt x="550" y="263"/>
                        </a:lnTo>
                        <a:lnTo>
                          <a:pt x="557" y="254"/>
                        </a:lnTo>
                        <a:lnTo>
                          <a:pt x="604" y="188"/>
                        </a:lnTo>
                        <a:lnTo>
                          <a:pt x="696" y="70"/>
                        </a:lnTo>
                        <a:lnTo>
                          <a:pt x="592" y="0"/>
                        </a:lnTo>
                        <a:lnTo>
                          <a:pt x="527" y="87"/>
                        </a:lnTo>
                        <a:lnTo>
                          <a:pt x="509" y="106"/>
                        </a:lnTo>
                        <a:lnTo>
                          <a:pt x="379" y="26"/>
                        </a:lnTo>
                        <a:lnTo>
                          <a:pt x="324" y="26"/>
                        </a:lnTo>
                        <a:lnTo>
                          <a:pt x="206" y="2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>
                    <a:off x="6838920" y="4891320"/>
                    <a:ext cx="123480" cy="144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>
                    <a:off x="6432120" y="4527720"/>
                    <a:ext cx="17856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7" y="10550"/>
                        </a:moveTo>
                        <a:arcTo wR="10800" hR="10800" stAng="-79720" swAng="109580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7" y="10550"/>
                        </a:moveTo>
                        <a:arcTo wR="10800" hR="10800" stAng="-79720" swAng="10958041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8" name=""/>
              <p:cNvSpPr/>
              <p:nvPr/>
            </p:nvSpPr>
            <p:spPr>
              <a:xfrm flipH="1">
                <a:off x="6591600" y="4604040"/>
                <a:ext cx="1760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45" y="17880"/>
                    </a:moveTo>
                    <a:arcTo wR="10800" hR="10800" stAng="8342096" swAng="105419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45" y="17880"/>
                    </a:moveTo>
                    <a:arcTo wR="10800" hR="10800" stAng="8342096" swAng="10541989"/>
                  </a:path>
                </a:pathLst>
              </a:cu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500600" y="5537160"/>
              <a:ext cx="635400" cy="1182960"/>
              <a:chOff x="7500600" y="5537160"/>
              <a:chExt cx="635400" cy="118296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500600" y="5908680"/>
                <a:ext cx="635400" cy="811440"/>
                <a:chOff x="7500600" y="5908680"/>
                <a:chExt cx="635400" cy="811440"/>
              </a:xfrm>
            </p:grpSpPr>
            <p:sp>
              <p:nvSpPr>
                <p:cNvPr id="111" name=""/>
                <p:cNvSpPr/>
                <p:nvPr/>
              </p:nvSpPr>
              <p:spPr>
                <a:xfrm flipH="1">
                  <a:off x="7611480" y="5908680"/>
                  <a:ext cx="421920" cy="16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7500960" y="6023160"/>
                  <a:ext cx="634680" cy="696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7500240" y="591048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952" y="1"/>
                      </a:moveTo>
                      <a:arcTo wR="10800" hR="10800" stAng="-5351584" swAng="5270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952" y="1"/>
                      </a:moveTo>
                      <a:arcTo wR="10800" hR="10800" stAng="-5351584" swAng="5270510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7905600" y="5913720"/>
                  <a:ext cx="22716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0"/>
                      </a:moveTo>
                      <a:arcTo wR="10800" hR="10800" stAng="-10720529" swAng="5273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0"/>
                      </a:moveTo>
                      <a:arcTo wR="10800" hR="10800" stAng="-10720529" swAng="5273059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 flipH="1">
                <a:off x="7647840" y="5537160"/>
                <a:ext cx="337680" cy="330480"/>
              </a:xfrm>
              <a:prstGeom prst="ellipse">
                <a:avLst/>
              </a:pr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837120" y="5214960"/>
              <a:ext cx="638640" cy="1179720"/>
              <a:chOff x="6837120" y="5214960"/>
              <a:chExt cx="638640" cy="11797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837120" y="5583240"/>
                <a:ext cx="638640" cy="811440"/>
                <a:chOff x="6837120" y="5583240"/>
                <a:chExt cx="638640" cy="811440"/>
              </a:xfrm>
            </p:grpSpPr>
            <p:sp>
              <p:nvSpPr>
                <p:cNvPr id="118" name=""/>
                <p:cNvSpPr/>
                <p:nvPr/>
              </p:nvSpPr>
              <p:spPr>
                <a:xfrm flipH="1">
                  <a:off x="6947280" y="5583240"/>
                  <a:ext cx="42372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6837840" y="5699160"/>
                  <a:ext cx="637920" cy="695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6836760" y="558504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94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9457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7243200" y="5586480"/>
                  <a:ext cx="22788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5"/>
                      </a:moveTo>
                      <a:arcTo wR="10800" hR="10800" stAng="-10760259" swAng="5360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5"/>
                      </a:moveTo>
                      <a:arcTo wR="10800" hR="10800" stAng="-10760259" swAng="5360259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 flipH="1">
                <a:off x="6984000" y="5214960"/>
                <a:ext cx="340920" cy="327240"/>
              </a:xfrm>
              <a:prstGeom prst="ellipse">
                <a:avLst/>
              </a:pr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898520" y="5214960"/>
              <a:ext cx="638640" cy="1179720"/>
              <a:chOff x="4898520" y="5214960"/>
              <a:chExt cx="638640" cy="117972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4898520" y="5583240"/>
                <a:ext cx="638640" cy="811440"/>
                <a:chOff x="4898520" y="5583240"/>
                <a:chExt cx="638640" cy="811440"/>
              </a:xfrm>
            </p:grpSpPr>
            <p:sp>
              <p:nvSpPr>
                <p:cNvPr id="125" name=""/>
                <p:cNvSpPr/>
                <p:nvPr/>
              </p:nvSpPr>
              <p:spPr>
                <a:xfrm flipH="1">
                  <a:off x="5012640" y="5583240"/>
                  <a:ext cx="42192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4900680" y="5699160"/>
                  <a:ext cx="636120" cy="695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898160" y="558504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91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9171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5304960" y="558828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6"/>
                      </a:moveTo>
                      <a:arcTo wR="10800" hR="10800" stAng="-10760535" swAng="52649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6"/>
                      </a:moveTo>
                      <a:arcTo wR="10800" hR="10800" stAng="-10760535" swAng="5264951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 flipH="1">
                <a:off x="5048640" y="5214960"/>
                <a:ext cx="339480" cy="327240"/>
              </a:xfrm>
              <a:prstGeom prst="ellipse">
                <a:avLst/>
              </a:pr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214520" y="5537160"/>
              <a:ext cx="636840" cy="1182960"/>
              <a:chOff x="4214520" y="5537160"/>
              <a:chExt cx="636840" cy="118296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4365000" y="5537160"/>
                <a:ext cx="337680" cy="330480"/>
              </a:xfrm>
              <a:prstGeom prst="ellipse">
                <a:avLst/>
              </a:pr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4214520" y="5908680"/>
                <a:ext cx="636840" cy="811440"/>
                <a:chOff x="4214520" y="5908680"/>
                <a:chExt cx="636840" cy="811440"/>
              </a:xfrm>
            </p:grpSpPr>
            <p:sp>
              <p:nvSpPr>
                <p:cNvPr id="133" name=""/>
                <p:cNvSpPr/>
                <p:nvPr/>
              </p:nvSpPr>
              <p:spPr>
                <a:xfrm flipH="1">
                  <a:off x="4328280" y="5908680"/>
                  <a:ext cx="420480" cy="16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4217040" y="6023160"/>
                  <a:ext cx="634320" cy="696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4214160" y="591048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83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8354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4619160" y="591372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2"/>
                      </a:moveTo>
                      <a:arcTo wR="10800" hR="10800" stAng="-10721081" swAng="52254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2"/>
                      </a:moveTo>
                      <a:arcTo wR="10800" hR="10800" stAng="-10721081" swAng="5225497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 flipH="1">
              <a:off x="4167360" y="5556240"/>
              <a:ext cx="3993840" cy="1163880"/>
            </a:xfrm>
            <a:custGeom>
              <a:avLst/>
              <a:gdLst/>
              <a:ahLst/>
              <a:rect l="l" t="t" r="r" b="b"/>
              <a:pathLst>
                <a:path w="2516" h="733">
                  <a:moveTo>
                    <a:pt x="2515" y="732"/>
                  </a:moveTo>
                  <a:lnTo>
                    <a:pt x="1618" y="0"/>
                  </a:lnTo>
                  <a:lnTo>
                    <a:pt x="934" y="0"/>
                  </a:lnTo>
                  <a:lnTo>
                    <a:pt x="0" y="732"/>
                  </a:lnTo>
                  <a:lnTo>
                    <a:pt x="2515" y="732"/>
                  </a:lnTo>
                </a:path>
              </a:pathLst>
            </a:custGeom>
            <a:gradFill rotWithShape="0">
              <a:gsLst>
                <a:gs pos="0">
                  <a:srgbClr val="646464"/>
                </a:gs>
                <a:gs pos="50000">
                  <a:srgbClr val="919191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5311800" y="5640480"/>
              <a:ext cx="1623960" cy="1217520"/>
              <a:chOff x="5311800" y="5640480"/>
              <a:chExt cx="1623960" cy="12175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6149520" y="5651640"/>
                <a:ext cx="786240" cy="1206360"/>
                <a:chOff x="6149520" y="5651640"/>
                <a:chExt cx="786240" cy="120636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6331320" y="5651640"/>
                  <a:ext cx="415800" cy="40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6149520" y="6102360"/>
                  <a:ext cx="786240" cy="755640"/>
                  <a:chOff x="6149520" y="6102360"/>
                  <a:chExt cx="786240" cy="755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>
                    <a:off x="6282720" y="6102360"/>
                    <a:ext cx="51696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>
                    <a:off x="6150240" y="6245280"/>
                    <a:ext cx="785160" cy="612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>
                    <a:off x="6149160" y="6105600"/>
                    <a:ext cx="27828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22" y="1"/>
                        </a:moveTo>
                        <a:arcTo wR="10800" hR="10800" stAng="-5361124" swAng="53611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22" y="1"/>
                        </a:moveTo>
                        <a:arcTo wR="10800" hR="10800" stAng="-5361124" swAng="5361124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>
                    <a:off x="6646680" y="6105600"/>
                    <a:ext cx="2811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903"/>
                        </a:moveTo>
                        <a:arcTo wR="10800" hR="10800" stAng="10767132" swAng="535519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903"/>
                        </a:moveTo>
                        <a:arcTo wR="10800" hR="10800" stAng="10767132" swAng="5355192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" name=""/>
              <p:cNvGrpSpPr/>
              <p:nvPr/>
            </p:nvGrpSpPr>
            <p:grpSpPr>
              <a:xfrm>
                <a:off x="5311800" y="5640480"/>
                <a:ext cx="792720" cy="1206360"/>
                <a:chOff x="5311800" y="5640480"/>
                <a:chExt cx="792720" cy="12063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>
                  <a:off x="5500440" y="5640480"/>
                  <a:ext cx="414000" cy="40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5311800" y="6091200"/>
                  <a:ext cx="792720" cy="755640"/>
                  <a:chOff x="5311800" y="6091200"/>
                  <a:chExt cx="792720" cy="7556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5451120" y="6091200"/>
                    <a:ext cx="51552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>
                    <a:off x="5315400" y="6234120"/>
                    <a:ext cx="788760" cy="612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>
                    <a:off x="5311800" y="6093000"/>
                    <a:ext cx="277920" cy="32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79" y="1"/>
                        </a:moveTo>
                        <a:arcTo wR="10800" hR="10800" stAng="-5438656" swAng="543865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79" y="1"/>
                        </a:moveTo>
                        <a:arcTo wR="10800" hR="10800" stAng="-5438656" swAng="5438656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>
                    <a:off x="5819400" y="6094440"/>
                    <a:ext cx="28188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615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61561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EAR DIVISION OF LABOR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IERARCH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XPLICIT RULES &amp; PROCEDUR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MPARTIAL JUDGMEN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ECHNICAL QUALIFICATION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XIMUM ORGANIZATIONAL EFFICIENCY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167360" y="4021200"/>
            <a:ext cx="3993840" cy="2836800"/>
            <a:chOff x="4167360" y="4021200"/>
            <a:chExt cx="3993840" cy="2836800"/>
          </a:xfrm>
        </p:grpSpPr>
        <p:sp>
          <p:nvSpPr>
            <p:cNvPr id="156" name=""/>
            <p:cNvSpPr/>
            <p:nvPr/>
          </p:nvSpPr>
          <p:spPr>
            <a:xfrm>
              <a:off x="5335560" y="4021200"/>
              <a:ext cx="1639440" cy="1387440"/>
            </a:xfrm>
            <a:prstGeom prst="rect">
              <a:avLst/>
            </a:prstGeom>
            <a:gradFill rotWithShape="0">
              <a:gsLst>
                <a:gs pos="0">
                  <a:srgbClr val="646464"/>
                </a:gs>
                <a:gs pos="50000">
                  <a:srgbClr val="919191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365800" y="4159440"/>
              <a:ext cx="1362960" cy="1522440"/>
              <a:chOff x="5365800" y="4159440"/>
              <a:chExt cx="1362960" cy="15224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5365800" y="4159440"/>
                <a:ext cx="1362960" cy="1522440"/>
                <a:chOff x="5365800" y="4159440"/>
                <a:chExt cx="1362960" cy="1522440"/>
              </a:xfrm>
            </p:grpSpPr>
            <p:sp>
              <p:nvSpPr>
                <p:cNvPr id="159" name=""/>
                <p:cNvSpPr/>
                <p:nvPr/>
              </p:nvSpPr>
              <p:spPr>
                <a:xfrm flipV="1">
                  <a:off x="6374880" y="4159440"/>
                  <a:ext cx="353880" cy="557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5365800" y="4245120"/>
                  <a:ext cx="1129320" cy="1436760"/>
                  <a:chOff x="5365800" y="4245120"/>
                  <a:chExt cx="1129320" cy="143676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6148080" y="4888080"/>
                    <a:ext cx="128160" cy="10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660640" y="4245120"/>
                    <a:ext cx="318600" cy="315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389200" y="4560840"/>
                    <a:ext cx="1105920" cy="112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706">
                        <a:moveTo>
                          <a:pt x="206" y="26"/>
                        </a:moveTo>
                        <a:lnTo>
                          <a:pt x="165" y="26"/>
                        </a:lnTo>
                        <a:lnTo>
                          <a:pt x="112" y="55"/>
                        </a:lnTo>
                        <a:lnTo>
                          <a:pt x="0" y="220"/>
                        </a:lnTo>
                        <a:lnTo>
                          <a:pt x="4" y="293"/>
                        </a:lnTo>
                        <a:lnTo>
                          <a:pt x="80" y="349"/>
                        </a:lnTo>
                        <a:lnTo>
                          <a:pt x="142" y="392"/>
                        </a:lnTo>
                        <a:lnTo>
                          <a:pt x="220" y="298"/>
                        </a:lnTo>
                        <a:lnTo>
                          <a:pt x="190" y="272"/>
                        </a:lnTo>
                        <a:lnTo>
                          <a:pt x="165" y="252"/>
                        </a:lnTo>
                        <a:lnTo>
                          <a:pt x="218" y="170"/>
                        </a:lnTo>
                        <a:lnTo>
                          <a:pt x="368" y="272"/>
                        </a:lnTo>
                        <a:lnTo>
                          <a:pt x="221" y="472"/>
                        </a:lnTo>
                        <a:lnTo>
                          <a:pt x="98" y="380"/>
                        </a:lnTo>
                        <a:lnTo>
                          <a:pt x="99" y="705"/>
                        </a:lnTo>
                        <a:lnTo>
                          <a:pt x="413" y="705"/>
                        </a:lnTo>
                        <a:lnTo>
                          <a:pt x="414" y="217"/>
                        </a:lnTo>
                        <a:lnTo>
                          <a:pt x="485" y="263"/>
                        </a:lnTo>
                        <a:lnTo>
                          <a:pt x="550" y="263"/>
                        </a:lnTo>
                        <a:lnTo>
                          <a:pt x="557" y="254"/>
                        </a:lnTo>
                        <a:lnTo>
                          <a:pt x="604" y="188"/>
                        </a:lnTo>
                        <a:lnTo>
                          <a:pt x="696" y="70"/>
                        </a:lnTo>
                        <a:lnTo>
                          <a:pt x="592" y="0"/>
                        </a:lnTo>
                        <a:lnTo>
                          <a:pt x="527" y="87"/>
                        </a:lnTo>
                        <a:lnTo>
                          <a:pt x="509" y="106"/>
                        </a:lnTo>
                        <a:lnTo>
                          <a:pt x="379" y="26"/>
                        </a:lnTo>
                        <a:lnTo>
                          <a:pt x="324" y="26"/>
                        </a:lnTo>
                        <a:lnTo>
                          <a:pt x="206" y="2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365800" y="4891320"/>
                    <a:ext cx="123480" cy="144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717880" y="4527720"/>
                    <a:ext cx="17856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7" y="10550"/>
                        </a:moveTo>
                        <a:arcTo wR="10800" hR="10800" stAng="-79720" swAng="1095804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7" y="10550"/>
                        </a:moveTo>
                        <a:arcTo wR="10800" hR="10800" stAng="-79720" swAng="10958041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5560560" y="4604040"/>
                <a:ext cx="17604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45" y="17880"/>
                    </a:moveTo>
                    <a:arcTo wR="10800" hR="10800" stAng="8342096" swAng="105419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45" y="17880"/>
                    </a:moveTo>
                    <a:arcTo wR="10800" hR="10800" stAng="8342096" swAng="10541989"/>
                  </a:path>
                </a:pathLst>
              </a:cu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192560" y="5537160"/>
              <a:ext cx="635400" cy="1182960"/>
              <a:chOff x="4192560" y="5537160"/>
              <a:chExt cx="635400" cy="118296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4192560" y="5908680"/>
                <a:ext cx="635400" cy="811440"/>
                <a:chOff x="4192560" y="5908680"/>
                <a:chExt cx="635400" cy="811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295160" y="5908680"/>
                  <a:ext cx="421920" cy="16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92560" y="6023160"/>
                  <a:ext cx="634680" cy="696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603680" y="591048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952" y="1"/>
                      </a:moveTo>
                      <a:arcTo wR="10800" hR="10800" stAng="-5351584" swAng="52705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952" y="1"/>
                      </a:moveTo>
                      <a:arcTo wR="10800" hR="10800" stAng="-5351584" swAng="5270510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195440" y="5913720"/>
                  <a:ext cx="22716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0"/>
                      </a:moveTo>
                      <a:arcTo wR="10800" hR="10800" stAng="-10720529" swAng="5273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0"/>
                      </a:moveTo>
                      <a:arcTo wR="10800" hR="10800" stAng="-10720529" swAng="5273059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43040" y="5537160"/>
                <a:ext cx="337680" cy="330480"/>
              </a:xfrm>
              <a:prstGeom prst="ellipse">
                <a:avLst/>
              </a:pr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852800" y="5214960"/>
              <a:ext cx="638640" cy="1179720"/>
              <a:chOff x="4852800" y="5214960"/>
              <a:chExt cx="638640" cy="11797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4852800" y="5583240"/>
                <a:ext cx="638640" cy="811440"/>
                <a:chOff x="4852800" y="5583240"/>
                <a:chExt cx="638640" cy="811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957200" y="5583240"/>
                  <a:ext cx="42372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852800" y="5699160"/>
                  <a:ext cx="637920" cy="695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267160" y="558504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94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9457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857120" y="5586480"/>
                  <a:ext cx="22788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5"/>
                      </a:moveTo>
                      <a:arcTo wR="10800" hR="10800" stAng="-10760259" swAng="5360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5"/>
                      </a:moveTo>
                      <a:arcTo wR="10800" hR="10800" stAng="-10760259" swAng="5360259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5003280" y="5214960"/>
                <a:ext cx="340920" cy="327240"/>
              </a:xfrm>
              <a:prstGeom prst="ellipse">
                <a:avLst/>
              </a:pr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791400" y="5214960"/>
              <a:ext cx="638640" cy="1179720"/>
              <a:chOff x="6791400" y="5214960"/>
              <a:chExt cx="638640" cy="117972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6791400" y="5583240"/>
                <a:ext cx="638640" cy="811440"/>
                <a:chOff x="6791400" y="5583240"/>
                <a:chExt cx="638640" cy="811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94000" y="5583240"/>
                  <a:ext cx="42192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91400" y="5699160"/>
                  <a:ext cx="636120" cy="695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205760" y="558504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91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9171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798960" y="558828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76"/>
                      </a:moveTo>
                      <a:arcTo wR="10800" hR="10800" stAng="-10760535" swAng="52649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76"/>
                      </a:moveTo>
                      <a:arcTo wR="10800" hR="10800" stAng="-10760535" swAng="5264951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6940080" y="5214960"/>
                <a:ext cx="339480" cy="327240"/>
              </a:xfrm>
              <a:prstGeom prst="ellipse">
                <a:avLst/>
              </a:pr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477200" y="5537160"/>
              <a:ext cx="636840" cy="1182960"/>
              <a:chOff x="7477200" y="5537160"/>
              <a:chExt cx="636840" cy="1182960"/>
            </a:xfrm>
          </p:grpSpPr>
          <p:sp>
            <p:nvSpPr>
              <p:cNvPr id="189" name=""/>
              <p:cNvSpPr/>
              <p:nvPr/>
            </p:nvSpPr>
            <p:spPr>
              <a:xfrm>
                <a:off x="7625880" y="5537160"/>
                <a:ext cx="337680" cy="330480"/>
              </a:xfrm>
              <a:prstGeom prst="ellipse">
                <a:avLst/>
              </a:prstGeom>
              <a:gradFill rotWithShape="0">
                <a:gsLst>
                  <a:gs pos="0">
                    <a:srgbClr val="646464"/>
                  </a:gs>
                  <a:gs pos="50000">
                    <a:srgbClr val="919191"/>
                  </a:gs>
                  <a:gs pos="100000">
                    <a:srgbClr val="6464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7477200" y="5908680"/>
                <a:ext cx="636840" cy="811440"/>
                <a:chOff x="7477200" y="5908680"/>
                <a:chExt cx="636840" cy="8114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7579800" y="5908680"/>
                  <a:ext cx="420480" cy="16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77200" y="6023160"/>
                  <a:ext cx="634320" cy="696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89760" y="591048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83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8354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84760" y="5913720"/>
                  <a:ext cx="224280" cy="2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" y="10552"/>
                      </a:moveTo>
                      <a:arcTo wR="10800" hR="10800" stAng="-10721081" swAng="52254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52"/>
                      </a:moveTo>
                      <a:arcTo wR="10800" hR="10800" stAng="-10721081" swAng="5225497"/>
                    </a:path>
                  </a:pathLst>
                </a:cu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>
              <a:off x="4167360" y="5556240"/>
              <a:ext cx="3993840" cy="1163880"/>
            </a:xfrm>
            <a:custGeom>
              <a:avLst/>
              <a:gdLst/>
              <a:ahLst/>
              <a:rect l="l" t="t" r="r" b="b"/>
              <a:pathLst>
                <a:path w="2516" h="733">
                  <a:moveTo>
                    <a:pt x="2515" y="732"/>
                  </a:moveTo>
                  <a:lnTo>
                    <a:pt x="1618" y="0"/>
                  </a:lnTo>
                  <a:lnTo>
                    <a:pt x="934" y="0"/>
                  </a:lnTo>
                  <a:lnTo>
                    <a:pt x="0" y="732"/>
                  </a:lnTo>
                  <a:lnTo>
                    <a:pt x="2515" y="732"/>
                  </a:lnTo>
                </a:path>
              </a:pathLst>
            </a:custGeom>
            <a:gradFill rotWithShape="0">
              <a:gsLst>
                <a:gs pos="0">
                  <a:srgbClr val="646464"/>
                </a:gs>
                <a:gs pos="50000">
                  <a:srgbClr val="919191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92800" y="5640480"/>
              <a:ext cx="1623960" cy="1217520"/>
              <a:chOff x="5392800" y="5640480"/>
              <a:chExt cx="1623960" cy="121752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392800" y="5651640"/>
                <a:ext cx="786240" cy="1206360"/>
                <a:chOff x="5392800" y="5651640"/>
                <a:chExt cx="786240" cy="1206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581080" y="5651640"/>
                  <a:ext cx="415800" cy="40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5392800" y="6102360"/>
                  <a:ext cx="786240" cy="755640"/>
                  <a:chOff x="5392800" y="6102360"/>
                  <a:chExt cx="786240" cy="7556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5528880" y="6102360"/>
                    <a:ext cx="51696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5392800" y="6245280"/>
                    <a:ext cx="785160" cy="612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5900760" y="6105600"/>
                    <a:ext cx="27828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922" y="1"/>
                        </a:moveTo>
                        <a:arcTo wR="10800" hR="10800" stAng="-5361124" swAng="53611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922" y="1"/>
                        </a:moveTo>
                        <a:arcTo wR="10800" hR="10800" stAng="-5361124" swAng="5361124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5400360" y="6105600"/>
                    <a:ext cx="2811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903"/>
                        </a:moveTo>
                        <a:arcTo wR="10800" hR="10800" stAng="10767132" swAng="535519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903"/>
                        </a:moveTo>
                        <a:arcTo wR="10800" hR="10800" stAng="10767132" swAng="5355192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" name=""/>
              <p:cNvGrpSpPr/>
              <p:nvPr/>
            </p:nvGrpSpPr>
            <p:grpSpPr>
              <a:xfrm>
                <a:off x="6224040" y="5640480"/>
                <a:ext cx="792720" cy="1206360"/>
                <a:chOff x="6224040" y="5640480"/>
                <a:chExt cx="792720" cy="12063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414120" y="5640480"/>
                  <a:ext cx="414000" cy="40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919191"/>
                    </a:gs>
                    <a:gs pos="100000">
                      <a:srgbClr val="64646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6224040" y="6091200"/>
                  <a:ext cx="792720" cy="755640"/>
                  <a:chOff x="6224040" y="6091200"/>
                  <a:chExt cx="792720" cy="7556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361920" y="6091200"/>
                    <a:ext cx="51552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224040" y="6234120"/>
                    <a:ext cx="788760" cy="612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738840" y="6093000"/>
                    <a:ext cx="277920" cy="32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79" y="1"/>
                        </a:moveTo>
                        <a:arcTo wR="10800" hR="10800" stAng="-5438656" swAng="543865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79" y="1"/>
                        </a:moveTo>
                        <a:arcTo wR="10800" hR="10800" stAng="-5438656" swAng="5438656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226920" y="6094440"/>
                    <a:ext cx="28188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6156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61561"/>
                      </a:path>
                    </a:pathLst>
                  </a:custGeom>
                  <a:gradFill rotWithShape="0">
                    <a:gsLst>
                      <a:gs pos="0">
                        <a:srgbClr val="646464"/>
                      </a:gs>
                      <a:gs pos="50000">
                        <a:srgbClr val="919191"/>
                      </a:gs>
                      <a:gs pos="100000">
                        <a:srgbClr val="64646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RGANIZATIONAL STRUCTUR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NTREPRENEURIAL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Startup busines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MACHINE BUREAUCRACY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Mid-sized manufacturing firm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DIVISIONALIZED BUREAUCRACY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Fortune 500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PROFESSIONAL BUREAUCRACY: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Law firms, hospital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ADHOCRACY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: Consulting firm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2520" y="624348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6T19:29:10Z</dcterms:created>
  <dc:creator/>
  <dc:description/>
  <dc:language>en-US</dc:language>
  <cp:lastModifiedBy>Simon &amp; Schuster</cp:lastModifiedBy>
  <dcterms:modified xsi:type="dcterms:W3CDTF">1999-07-27T20:45:09Z</dcterms:modified>
  <cp:revision>44</cp:revision>
  <dc:subject/>
  <dc:title>3. INFORMATION SYSTEMS, ORGANIZATIONS, &amp; MANAGEMENT </dc:title>
</cp:coreProperties>
</file>